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A907-A623-44AF-B675-2D564ADB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25D-0E25-4CEF-AF99-02B1060E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93AF-C688-4D00-BB3D-05E4935D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0CC0-5F64-4F81-A1D5-E5B09339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7384-C534-422F-9011-94F95B6E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45C-C7C8-48EE-83E0-FDD84E90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7B1C-E76E-4B33-9E57-6F47D030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8368-8E54-47DC-BAFF-8987E40E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946-A44D-4CAE-8983-EF380283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19FC-D800-4BE3-A566-63EFF457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143-01DA-4563-BE15-AD06F161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C198-CFE9-43DB-8337-DEB6BD16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8317-4874-4DE0-9B98-32CBAAE8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707-0992-4982-A915-53100E86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4ED4-5B02-4BC4-90B3-6D245C18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0EB-9CB9-40C5-B0A7-1F15C928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8BA9-7492-4579-8F67-AEC261E4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B8F2-FDEF-4108-B1B7-95EDA425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0B7A-BB7D-4DB4-8055-4C3F8B18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876-044D-468B-AB46-9CCFA04A3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64B4-27DD-48D1-B46A-E05CD60B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2C6-53D2-4133-B754-EF448B5D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466-3E72-4EDE-BBEB-FDBD4FE1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2760" y="761760"/>
            <a:ext cx="817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NOTHER ONE BITES THE D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(WOO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96960" y="762120"/>
            <a:ext cx="774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OLFER WHO WON THE FIRST 13 MARK MCCORMICK AWARDS FOR MOST WEEKS AT THE #1 RA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ONE FIND THE AREA OF USING THE FORMULA A = Bh/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-76320" y="781200"/>
            <a:ext cx="57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"LOONEY TUNES" CHARACTER HAS WON THE MOST ACADEMY AWARDS.  WHAT IS HI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19160" cy="52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DEL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SE-TERRE, GRANDE-TERRE, MARIE-GALANTE, LA DÉSIRADE, AND THE ÎLES DES SAINTES MAKE UP WHAT FRENCH CARIBBEAN ARCHIPELA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5280" y="762120"/>
            <a:ext cx="781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70, CONGRESS ESTABLISHED 4 FEDERAL HOLIDAYS.  WHICH ONE OCCURS LAST IN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14200" y="762120"/>
            <a:ext cx="871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TRILOGY, WHAT RACE IS GIM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OLFER WHO WON THE FIRST 13 MARK MCCORMICK AWARDS FOR MOST WEEKS AT THE #1 RAN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JE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9280" y="762120"/>
            <a:ext cx="7705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1 BOX OFFICE FLOP DID JIM CARREY PLAY A 1950'S SCREENWRITER WITH AMNE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46040" y="762120"/>
            <a:ext cx="8250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NOTHER ONE BITES THE D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6240" y="4876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ES  OF  PALM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ONE FIND THE AREA OF USING THE FORMULA A = Bh/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76320" y="83808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"LOONEY TUNES" CHARACTER HAS WON THE MOST ACADEMY AWARDS.  WHAT IS HI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1916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SE-TERRE, GRANDE-TERRE, MARIE-GALANTE, LA DÉSIRADE, AND THE ÎLES DES SAINTES MAKE UP WHAT FRENCH CARIBBEAN ARCHIPELA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1800" y="723960"/>
            <a:ext cx="7880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70, CONGRESS ESTABLISHED 4 FEDERAL HOLIDAYS.  WHICH ONE OCCURS LAST IN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0680" y="761760"/>
            <a:ext cx="87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5120" y="761760"/>
            <a:ext cx="8753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TRILOGY, WHAT RACE IS GIM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1 BOX OFFICE FLOP DID JIM CARREY PLAY A 1950'S SCREENWRITER WITH AMNE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2-06-27T17:52:20Z</dcterms:modified>
  <cp:revision>359</cp:revision>
  <dc:subject/>
  <dc:title>Slide 1</dc:title>
</cp:coreProperties>
</file>