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342-BB1C-4559-9779-46010C1B3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9DFC-621D-40E1-88FE-5F9A730CD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469A-43F1-4274-B836-F1A72E1A2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84AA-B798-4E06-9DD6-409F1733C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AC2D-B902-4803-BEC0-4F1B7E387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5734-B6D5-49F8-8676-96E5B23B9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1564-AB2A-4780-B406-F7F63F918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9440-ECD5-4DCE-9246-9CC7516BE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976E-9700-4639-8267-90BB2EB72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1A0F-F25C-43C6-8007-02B9966F7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BFCC-20E1-4B2C-B11D-35CDA9BD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265-B290-425D-8754-7A8012F2F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5719-0BA7-4792-A88F-AE9363FDE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F3C1-317B-45B9-83ED-43856C048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ADBD-9832-47DE-8CCD-D0036C2BC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ECD1-4978-4344-B922-9F4E83A9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D606-A5F6-4DBF-B112-61F9922FE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1BFC-B373-4650-964C-51D946943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496B-C0CE-4838-8255-2A6985A61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F5CD-DE7D-4178-A431-710D56646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6B48-92AA-4C98-9A37-5AEBEAE59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240A-54D0-4AFC-A72B-04C596E04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41EC-C6CF-43EB-A053-1544EB1C1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2760" y="761760"/>
            <a:ext cx="817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NOTHER ONE BITES THE D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(WOO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96960" y="762120"/>
            <a:ext cx="774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OLFER WHO WON THE FIRST 13 MARK MCCORMICK AWARDS FOR MOST WEEKS AT THE #1 RA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ONE FIND THE AREA OF USING THE FORMULA A = Bh/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LV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-76320" y="781200"/>
            <a:ext cx="57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"LOONEY TUNES" CHARACTER HAS WON THE MOST ACADEMY AWARDS.  WHAT IS HI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19160" cy="52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DELO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8600" y="76212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SE-TERRE, GRANDE-TERRE, MARIE-GALANTE, LA DÉSIRADE, AND THE ÎLES DES SAINTES MAKE UP WHAT FRENCH CARIBBEAN ARCHIPELAG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5280" y="762120"/>
            <a:ext cx="781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70, CONGRESS ESTABLISHED 4 FEDERAL HOLIDAYS.  WHICH ONE OCCURS LAST IN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AR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14200" y="762120"/>
            <a:ext cx="8715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TRILOGY, WHAT RACE IS GIM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84280" y="762120"/>
            <a:ext cx="797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GOLFER WHO WON THE FIRST 13 MARK MCCORMICK AWARDS FOR MOST WEEKS AT THE #1 RAN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JES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9280" y="762120"/>
            <a:ext cx="7705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1 BOX OFFICE FLOP DID JIM CARREY PLAY A 1950'S SCREENWRITER WITH AMNE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46040" y="762120"/>
            <a:ext cx="8250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ANOTHER ONE BITES THE D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76240" y="487692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ES  OF  PALM  T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6160" y="761760"/>
            <a:ext cx="759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ONE FIND THE AREA OF USING THE FORMULA A = Bh/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-76320" y="838080"/>
            <a:ext cx="579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"LOONEY TUNES" CHARACTER HAS WON THE MOST ACADEMY AWARDS.  WHAT IS HI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019920" y="304920"/>
            <a:ext cx="2819160" cy="52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SE-TERRE, GRANDE-TERRE, MARIE-GALANTE, LA DÉSIRADE, AND THE ÎLES DES SAINTES MAKE UP WHAT FRENCH CARIBBEAN ARCHIPELAGO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1800" y="723960"/>
            <a:ext cx="7880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870, CONGRESS ESTABLISHED 4 FEDERAL HOLIDAYS.  WHICH ONE OCCURS LAST IN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0680" y="761760"/>
            <a:ext cx="8701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5120" y="761760"/>
            <a:ext cx="8753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LORD OF THE RINGS" TRILOGY, WHAT RACE IS GIM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2120"/>
            <a:ext cx="7648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1 BOX OFFICE FLOP DID JIM CARREY PLAY A 1950'S SCREENWRITER WITH AMNE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2-06-27T17:52:20Z</dcterms:modified>
  <cp:revision>359</cp:revision>
  <dc:subject/>
  <dc:title>Slide 1</dc:title>
</cp:coreProperties>
</file>