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405-AF4F-4544-982F-D1DA8BFDC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5DB1-1A08-489A-ACEF-C10796CC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0CD5-DE75-41A4-8812-3BCB531F4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9D37-5649-4C8D-99AD-802043ED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4F9A-4D02-4EC0-9FAD-92F03D5C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1988-F231-4909-946D-BA6896A9D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39CA-D3D7-47BD-BF3B-74239C6F5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8BA5-60FC-4833-B0A3-E575A3CD8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41D9-B6B2-415C-AED3-1CF603468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520D-20B4-4340-A604-C7E88FE5D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2CF9-1935-4B9A-9035-02CB80967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8005-2FEB-4481-97BD-6A0B28EFA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0AF8-B0D1-41B3-A8D6-A608E2A17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B6F2-127F-4953-A86D-B51C8875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84BF-D5AB-4B1E-BB60-557AB6884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628E-EB04-44D2-858E-506AB0E15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821E-6CB1-4D8E-B043-2F4A339FA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CE6E-774A-4577-979B-C4EE9AF2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34D-5B38-4058-949C-D4152C7D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4FB6-A774-494B-AF1C-C1607E36B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2506-5319-4992-A93E-6CBF97FD5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D8CC-73F9-4FED-A5EF-F7B1D8AC5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F233-339E-46E3-9D55-EED072E2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03240" y="762120"/>
            <a:ext cx="733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TSAR OF RUSSIA, 1533-154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OLF  HI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320" y="762120"/>
            <a:ext cx="8991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AMERICANS WERE ASKED WHO WAS THE MOST EVIL PERSON EVER.  BILL CLINTON AND HILLARY CLINTON GOT #2 AND #6.  WHO CAME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DVIG  VAN  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COMPOSER WROTE HIS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MPHONIES WHEN HE WAS COMPLETELY D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RAHAM 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66960" y="762120"/>
            <a:ext cx="7208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STENTLY VOTED THE GREATEST U.S. PRESIDENT BY HISTORY SCHOL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ILKES  B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0120" y="782640"/>
            <a:ext cx="853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AND KILLED THE ANSWER TO THE PREVIOUS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SHAKESPE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1240" y="762120"/>
            <a:ext cx="766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WRITER IS KNOWN ENGLAND'S NATIONAL PO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  VAN  GO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PAINTER IS FAMOUS FOR HIS PAINTINGS OF OLIVE TREES, WHEAT FIELDS, AND SUNFL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CAP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41240" y="762120"/>
            <a:ext cx="766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BSTER WAS  KNOWN BY THE NICKNAMES "SCARFACE", "BIG BOY", AND "PUBLIC ENEMY NO. 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320" y="762120"/>
            <a:ext cx="904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AMERICANS WERE ASKED WHO WAS THE MOST EVIL PERSON EVER.  BILL CLINTON AND HILLARY CLINTON GOT #2 AND #6.  WHO CAME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  TOLST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0480" y="762120"/>
            <a:ext cx="7223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AUTHOR WAS NOMINATED FOR A NOBEL PRIZE FOR BOTH LITERATUR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ACE IN 1902, BUT NEVER W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AN  THE  TERR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41240" y="762120"/>
            <a:ext cx="765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TSAR OF RUSSIA, 1533-15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4960" y="4876920"/>
            <a:ext cx="861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D  SYPHI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COMPOSER WROTE HIS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MPHONIES WHEN HE WAS COMPLETELY DEA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11240" y="762120"/>
            <a:ext cx="7120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STENTLY VOTED THE GREATEST U.S. PRESIDENT BY HISTORY SCHOL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46240" y="762120"/>
            <a:ext cx="865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AND KILLED THE ANSWER TO THE PREVIOUS QUES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7720" y="762120"/>
            <a:ext cx="7648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WRITER IS KNOWN ENGLAND'S NATIONAL PO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PAINTER IS FAMOUS FOR HIS PAINTINGS OF OLIVE TREES, WHEAT FIELDS, AND SUNFL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35120" y="762120"/>
            <a:ext cx="7673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BSTER WAS KNOWN BY THE NICKNAMES "SCARFACE", "BIG BOY", AND "PUBLIC ENEMY NO. 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0640" y="762120"/>
            <a:ext cx="736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AUTHOR WAS NOMINATED FOR A NOBEL PRIZE FOR BOTH LITERATUR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ACE IN 1902, BUT NEVER W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6-27T17:57:22Z</dcterms:modified>
  <cp:revision>462</cp:revision>
  <dc:subject/>
  <dc:title>Slide 1</dc:title>
</cp:coreProperties>
</file>