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5D41-569D-401C-B6F7-21EA18BDF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95DB-E5BC-42D4-B5BC-60E625394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B606-2AAC-48D5-AEBF-A5E754D5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CEF2-9E75-4252-8A87-CBCA64F7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9E47-15D9-4C05-B438-0C3C56BCF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EE3F-89F8-45CB-90A3-195B38D73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23B8-6C21-4A78-BA78-E02BC461A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BBA-3168-4925-B750-6D0AE07B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7C71-205B-421E-B786-6DFE4CD02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187C-3D03-42B9-8D97-8306C5507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14E9-4201-4ABF-8574-63DF0872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FDC4-B46F-424C-938F-E240377A9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5291-7A8C-4BBE-8D9C-98C543B71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90A0-2B33-431B-AB3B-8AEF1E6B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8515-067E-4A7E-B3C2-7410B12EC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FF69-F71C-4987-9F5D-2B693F0B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B3E6-2387-4C85-A52E-4DFA3D3D9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8A2C-2F4C-4BFB-8205-1B5E50E31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801F-ABCA-4F92-8712-290A75F3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B49E-4CD2-40E9-9ADD-481BD95AD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3EB8-A69C-4C08-B171-D7D7CF6B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0B9A-5F1E-4FD3-A048-7F09BC4B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94D1-45B8-4F60-9C9F-AC73521C4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03240" y="762120"/>
            <a:ext cx="733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SAR OF RUSSIA, 1533-154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OLF  HI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320" y="762120"/>
            <a:ext cx="8991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AMERICANS WERE ASKED WHO WAS THE MOST EVIL PERSON EVER.  BILL CLINTON AND HILLARY CLINTON GOT #2 AND #6.  WHO CAME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DVIG  VAN  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COMPOSER WROTE HIS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WHEN HE WAS COMPLETELY D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66960" y="762120"/>
            <a:ext cx="7208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STENTLY VOTED THE GREATEST U.S. PRESIDENT BY HISTORY SCHOL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LKES  BO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0120" y="782640"/>
            <a:ext cx="853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AND KILLED THE ANSWER TO THE PREVIOUS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HAKESPE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1240" y="762120"/>
            <a:ext cx="766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WRITER IS KNOWN ENGLAND'S NATIONAL PO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VAN  GO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PAINTER IS FAMOUS FOR HIS PAINTINGS OF OLIVE TREES, WHEAT FIELDS, AND SUNFL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CAP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41240" y="762120"/>
            <a:ext cx="766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BSTER WAS  KNOWN BY THE NICKNAMES "SCARFACE", "BIG BOY", AND "PUBLIC ENEMY NO. 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" y="762120"/>
            <a:ext cx="904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AMERICANS WERE ASKED WHO WAS THE MOST EVIL PERSON EVER.  BILL CLINTON AND HILLARY CLINTON GOT #2 AND #6.  WHO CAME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  TOLST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0480" y="762120"/>
            <a:ext cx="7223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AUTHOR WAS NOMINATED FOR A NOBEL PRIZE FOR BOTH LITERATUR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ACE IN 1902, BUT NEVER W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  THE  TERR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41240" y="762120"/>
            <a:ext cx="765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SAR OF RUSSIA, 1533-15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4960" y="4876920"/>
            <a:ext cx="861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D  SYPHI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COMPOSER WROTE HIS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WHEN HE WAS COMPLETELY DEA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11240" y="762120"/>
            <a:ext cx="7120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STENTLY VOTED THE GREATEST U.S. PRESIDENT BY HISTORY SCHOL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46240" y="762120"/>
            <a:ext cx="865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AND KILLED THE ANSWER TO THE PREVIOUS QUES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7720" y="762120"/>
            <a:ext cx="7648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WRITER IS KNOWN ENGLAND'S NATIONAL PO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PAINTER IS FAMOUS FOR HIS PAINTINGS OF OLIVE TREES, WHEAT FIELDS, AND SUNFL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35120" y="762120"/>
            <a:ext cx="7673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BSTER WAS KNOWN BY THE NICKNAMES "SCARFACE", "BIG BOY", AND "PUBLIC ENEMY NO. 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0640" y="762120"/>
            <a:ext cx="736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AUTHOR WAS NOMINATED FOR A NOBEL PRIZE FOR BOTH LITERATUR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ACE IN 1902, BUT NEVER W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6-27T17:57:22Z</dcterms:modified>
  <cp:revision>462</cp:revision>
  <dc:subject/>
  <dc:title>Slide 1</dc:title>
</cp:coreProperties>
</file>