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B5A3-6BF1-481A-B320-1ADA333C3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62B5-91B3-41F8-A251-10383E214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CBD3-AEC3-4384-AA01-313FE0D11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F2A4-31D3-4BB3-BF01-53496BFF9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3E79-455B-4E10-A7D6-75E500C97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7EB5-D5A1-4FD4-B91D-06720324C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B818-A1C0-4F5C-9698-CE7E0D387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DAAD-2481-4294-A7FE-E689DC437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73B3-DE42-402A-93D9-4810ED532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EC59-94BE-42C9-B7BB-39AF53991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E1FE-9E18-49EB-88C6-D1E8CFE84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179B-78D6-4CF4-924B-FEB19D439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7FBF-432D-490F-A92C-B65B6B86D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D455-A273-4183-90DE-0C87BC593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F09F-8D50-46B7-A4EC-F75AB0C33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7FBC-0D7B-4E6A-9AA3-AB6ABBBD7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BF2A-1304-43A0-B92C-4D4E6D711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5D07-D873-4E35-A966-541AF2959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51B5-291F-4533-BE18-CB6364A94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B457-CD60-4C40-B3CB-E50419002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2F9B-D9DC-4260-B9C3-77B7920C1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4999-FC1B-4193-9D73-1E4009F7F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BE3C-F681-4B97-A287-1AEB05A35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2ADB-1648-4562-B140-2EA4B8776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46320" y="762120"/>
            <a:ext cx="6651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O COUNTRY HAS A POPULATION THAT IS 99% MUSL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60560" y="762120"/>
            <a:ext cx="7022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THING IS THE THE OLDEST LIVING THING ON EARTH, OVER 5000 YEARS O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ICE GIRL EMMA BUNTON'S NICKNAME WAS WHAT SP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486080" y="49528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836640" y="762120"/>
            <a:ext cx="7469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'S MAIN SINGERS ARE SISTERS ANN AND NANCY WIL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84320" y="762120"/>
            <a:ext cx="69753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ENCH CALL THE PLAYING CARD SUITS           ♥ HEARTS, ♠ PIKES,         ♦ TILES, AND ♣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9528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PETER)  RAB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92200" y="762120"/>
            <a:ext cx="795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TRIX POTTER'S MOST FAMOUS CHILDREN'S BOOK IS ABOUT WHAT SORT OF ANIM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95288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522360" y="762120"/>
            <a:ext cx="809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ES AS THE TROPHY FOR THE AUSTRALIAN FOOTBALL LEAG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  &amp;  HA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09480" y="762120"/>
            <a:ext cx="7925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BAKING SODA'S LOGO WAS INSPIRED BY VULCAN, THE ROMAN GOD OF METALWOR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333440" y="4952880"/>
            <a:ext cx="6477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MP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14360" y="762120"/>
            <a:ext cx="8315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/ VEGETABLE'S NAME FIRST APPEARED IN THE FAIRYTALE "CINDERELL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71680" y="49528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274760" y="762120"/>
            <a:ext cx="6594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O COUNTRY HAS A POPULATION THAT IS 99% MUSL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969840" y="762120"/>
            <a:ext cx="7202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THING IS THE THE OLDEST LIVING THING ON EARTH, OVER 5000 YEARS 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64960" y="4952880"/>
            <a:ext cx="861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MBOLS  OF  MAJOR  HOLID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28760" y="762120"/>
            <a:ext cx="8286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ICE GIRL EMMA BUNTON'S NICKNAME WAS WHAT SP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05040" y="761760"/>
            <a:ext cx="73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'S MAIN SINGERS ARE SISTERS ANN AND NANCY WIL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87560" y="762120"/>
            <a:ext cx="6967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ENCH CALL THE PLAYING CARD SUITS           ♥ HEARTS, ♠ PIKES,         ♦ TILES, AND ♣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1600" y="762120"/>
            <a:ext cx="874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ATRIX POTTER'S MOST FAMOUS CHILDREN'S BOOK IS ABOUT WHAT SORT OF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6520" y="762120"/>
            <a:ext cx="8130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ES AS THE TROPHY FOR THE AUSTRALIAN FOOTBALL LEAG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3120" y="761760"/>
            <a:ext cx="799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BAKING SODA'S LOGO WAS INSPIRED BY VULCAN, THE ROMAN GOD OF METALWOR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67840" y="762120"/>
            <a:ext cx="8605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/ VEGETABLE'S NAME FIRST APPEARED IN THE FAIRYTALE "CINDERELL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7-21T16:58:48Z</dcterms:modified>
  <cp:revision>464</cp:revision>
  <dc:subject/>
  <dc:title>Slide 1</dc:title>
</cp:coreProperties>
</file>