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3EA5-05B2-4541-A33B-CB8309CB5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9C5C-40AC-47C9-9163-C4DE55C28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05FE-CC01-437B-A9F3-F004E5840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0BF3-302C-438D-A330-9482FD222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8DCA-D743-4A06-AA6F-9971E8DEC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9E32-112E-45A6-A1BD-DE4CAB13C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546A-A63C-4D30-9E7A-8DABC22BC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6847-2853-4AC9-9BDF-DD6A25E84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0E60-ED67-4030-AB43-81C4538E7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3F77-92CF-4ECF-948B-336DB78C2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F5A7-4FB7-437B-BA64-3FE76B65F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97FB-F18E-4E9F-8DB6-BB16276D9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C6EB-9DF4-4C02-8652-3EDCF6C40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3597-CFCE-4F1E-B87B-8E691BF0E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1EDC-1EC1-4BD2-BA6F-8ED5CB26A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8BF0-24D3-45A3-8A89-D6DF43994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48F4-011A-4837-8B26-36982741E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41B7-6F4A-4B92-AAC3-02CDFC6BE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D810-E2EF-45C8-88E8-8AAE0A126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B11A-2B77-4CEB-B194-4498739DB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BFC3-890B-4CF5-AB33-F692DC054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DE21-007C-42C8-8ADF-2778A2335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AC31-19FD-4ADF-BD7C-2A4F966E9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E052-A5FD-4CFC-8278-115C46368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46320" y="762120"/>
            <a:ext cx="6651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O COUNTRY HAS A POPULATION THAT IS 99% MUSL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60560" y="762120"/>
            <a:ext cx="7022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THING IS THE THE OLDEST LIVING THING ON EARTH, OVER 5000 YEARS 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ICE GIRL EMMA BUNTON'S NICKNAME WAS WHAT SP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486080" y="49528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836640" y="762120"/>
            <a:ext cx="7469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'S MAIN SINGERS ARE SISTERS ANN AND NANCY WIL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84320" y="762120"/>
            <a:ext cx="6975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CALL THE PLAYING CARD SUITS           ♥ HEARTS, ♠ PIKES,         ♦ TILES, AND ♣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9528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PETER)  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92200" y="762120"/>
            <a:ext cx="795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ATRIX POTTER'S MOST FAMOUS CHILDREN'S BOOK IS ABOUT WHAT SORT OF ANIM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952880"/>
            <a:ext cx="6858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522360" y="762120"/>
            <a:ext cx="809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S AS THE TROPHY FOR THE AUSTRALIAN FOOTBALL LEAG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  &amp;  HA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09480" y="762120"/>
            <a:ext cx="7925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BAKING SODA'S LOGO WAS INSPIRED BY VULCAN, THE ROMAN GOD OF METALWOR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333440" y="4952880"/>
            <a:ext cx="6477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MP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14360" y="762120"/>
            <a:ext cx="8315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/ VEGETABLE'S NAME FIRST APPEARED IN THE FAIRYTALE "CINDEREL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71680" y="495288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274760" y="762120"/>
            <a:ext cx="659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O COUNTRY HAS A POPULATION THAT IS 99% MUSL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969840" y="762120"/>
            <a:ext cx="7202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THING IS THE THE OLDEST LIVING THING ON EARTH, OVER 5000 YEARS 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64960" y="4952880"/>
            <a:ext cx="861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MBOLS  OF  MAJOR  HOLI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ICE GIRL EMMA BUNTON'S NICKNAME WAS WHAT SP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05040" y="761760"/>
            <a:ext cx="7333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'S MAIN SINGERS ARE SISTERS ANN AND NANCY WIL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87560" y="762120"/>
            <a:ext cx="6967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CALL THE PLAYING CARD SUITS           ♥ HEARTS, ♠ PIKES,         ♦ TILES, AND ♣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01600" y="762120"/>
            <a:ext cx="874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ATRIX POTTER'S MOST FAMOUS CHILDREN'S BOOK IS ABOUT WHAT SORT OF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6520" y="762120"/>
            <a:ext cx="8130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S AS THE TROPHY FOR THE AUSTRALIAN FOOTBALL LEAG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3120" y="761760"/>
            <a:ext cx="7997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BAKING SODA'S LOGO WAS INSPIRED BY VULCAN, THE ROMAN GOD OF METALWOR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67840" y="762120"/>
            <a:ext cx="8605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/ VEGETABLE'S NAME FIRST APPEARED IN THE FAIRYTALE "CINDERELL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7-21T16:58:48Z</dcterms:modified>
  <cp:revision>464</cp:revision>
  <dc:subject/>
  <dc:title>Slide 1</dc:title>
</cp:coreProperties>
</file>