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9AFC-D0C1-4D46-9353-9863FEBCB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5A99-366B-45F8-8664-9090C0FCF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D4A9-96D0-4E4B-9DA7-74C7628AE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A7EA-FD0C-45B3-BBE2-B7E5EE569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6AA0-4F2B-4BE0-9244-2A782961E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A64F-B3F4-4CED-A029-7A4D78570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978F-B47B-4D65-9B3A-A110A5D65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9633-DFCF-4C76-ACE7-F305D99C0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3D9E-63D0-42BD-A60C-DFCEAA557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7F15-A0A9-4428-8D20-1C4018366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026A-FE1E-4F10-841C-B081BAB07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DEDE-21DE-4079-A1CC-182DF94E1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811F-D124-48BE-B947-17386B3FA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E8F7-D98E-4CA1-B7D7-DF970779F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8DBB-A916-410B-BB80-69358092B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869D-2436-4DBD-A276-674BAC551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3AD1-C74D-4C90-9968-A923A8C2D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5385-A6A6-462C-B46F-6DB216A11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25A9-494F-4431-9C5B-BB3ABB20C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4385-C8FF-444C-899B-2C204917B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8C95D-0FCA-4F12-AB55-7A3C30823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068D-5E43-4FE9-B365-75CCC5C32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FA0D-8483-4ECF-9684-69DD1BD95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MBE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680" y="761760"/>
            <a:ext cx="8196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ASSOCIATED WITH BOEING'S FIRST JET AIRLI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WERE THE SUMMER OLYMPICS HELD IN RIO DE JANEI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98640" y="762120"/>
            <a:ext cx="7146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AGE DOES ONE START SOCIAL SECURITY TO RECEIVE MAXIMUM RETIREMENT BENEFI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243080" y="762120"/>
            <a:ext cx="665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BY THE TALKING HE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90640" y="762120"/>
            <a:ext cx="7362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ADELE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WHICH IS THE BEST-SELLING ALBUM OF THE 2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IN THE U.K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363680" y="762120"/>
            <a:ext cx="6416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EN SIGNED THE DECLARATION OF INDEPENDENCE?       45, 56, OR 6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HITCHHIKER'S GUIDE TO THE GALAXY", WHAT IS ANSWER TO THE ULTIMATE QUESTION OF LIFE, THE UNIVERSE, AND EVERY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3440" y="762120"/>
            <a:ext cx="82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HIGHWAY CONNECTS MIAMI, ORLANDO, APOPKA, OCALA, AND GAINESVIL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6560" y="762120"/>
            <a:ext cx="7488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WERE THE SUMMER OLYMPICS HELD IN RIO DE JANEI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0880" y="762120"/>
            <a:ext cx="8382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DTH OF FILM (MEASURED IN MILLIMETERS) IS MOST COMMON FOR BOTH ANALOG PHOTOGRAPHY AND MOTION PIC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95200" y="762120"/>
            <a:ext cx="855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ASSOCIATED WITH BOEING'S FIRST JET AIRLI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76280" y="4952880"/>
            <a:ext cx="819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VISIBLE  BY 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79560" y="761760"/>
            <a:ext cx="7184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AGE DOES ONE START SOCIAL SECURITY TO RECEIVE MAXIMUM RETIREMENT BENEFI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73240" y="762120"/>
            <a:ext cx="6797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BY THE TALKING HE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83800" y="762120"/>
            <a:ext cx="7373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ADELE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WHICH IS THE BEST-SELLING ALBUM OF THE 2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IN THE U.K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EN SIGNED THE DECLARATION OF INDEPENDENCE?       45, 56, OR 6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0840" y="761760"/>
            <a:ext cx="8300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HITCHHIKER'S GUIDE TO THE GALAXY", WHAT IS ANSWER TO THE ULTIMATE QUESTION OF LIFE, THE UNIVERSE, AND EVERYTH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9600" y="761760"/>
            <a:ext cx="852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HIGHWAY CONNECTS MIAMI, ORLANDO, APOPKA, OCALA, AND GAINESVIL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DTH OF FILM (MEASURED IN MILLIMETERS) IS MOST COMMON FOR BOTH ANALOG PHOTOGRAPHY AND MOTION PICTU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0T11:29:21Z</dcterms:modified>
  <cp:revision>474</cp:revision>
  <dc:subject/>
  <dc:title>Slide 1</dc:title>
</cp:coreProperties>
</file>