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C40D-D6EA-48C4-8A25-D6BAFC1B2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EAB7-E049-4C09-AFA1-052085F2C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9EDA-A443-4ABB-854D-AB9488004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989F-BBA9-4CD9-A7A5-5780B6087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0641-D274-41E8-8750-051F88492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EC47-43E2-491A-8372-69DDCF24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8CBE-5C97-40C5-B4F3-0D9D6568D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817E-2585-458C-82F5-168E2BE2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4AEF-28F4-4BAB-9018-FFA9757DA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8983-AA04-4F22-AB61-8B8A08AE2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82F0-BBF1-4AC4-830F-92193ADD7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C634-0363-408B-912D-2CE8840B5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5E1B-F21B-48AE-9427-2B2CD7F1E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A19B-971F-45F9-AD66-AA45BD300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94A8-BAA5-4B10-9672-B11A5B461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59D2-D9C5-4DBC-B0D4-A9CC2856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7DD0-AC09-4C3A-856E-EC3AE937D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655F-4748-49D8-9011-AED550D8C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CDBE-A11D-43C9-BDEB-5F0D1E355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F53A-0815-4D1E-88D0-EAAF70FD3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A427-541D-4939-96EB-0B6A5348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C28A-1E82-4A74-A72C-4117812D0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C6CC-793A-4F8F-9B6B-CF7D5806A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BE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680" y="761760"/>
            <a:ext cx="8196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ASSOCIATED WITH BOEING'S FIRST JET AIRLI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WERE THE SUMMER OLYMPICS HELD IN RIO DE JANEI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98640" y="762120"/>
            <a:ext cx="7146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AGE DOES ONE START SOCIAL SECURITY TO RECEIVE MAXIMUM RETIREMENT BENEF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43080" y="762120"/>
            <a:ext cx="665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BY THE TALKING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90640" y="762120"/>
            <a:ext cx="7362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DELE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WHICH IS THE BEST-SELLING ALBUM OF THE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IN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363680" y="762120"/>
            <a:ext cx="6416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EN SIGNED THE DECLARATION OF INDEPENDENCE?       45, 56, OR 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HITCHHIKER'S GUIDE TO THE GALAXY", WHAT IS ANSWER TO THE ULTIMATE QUESTION OF LIFE, THE UNIVERSE, AND EVERY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3440" y="762120"/>
            <a:ext cx="82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HIGHWAY CONNECTS MIAMI, ORLANDO, APOPKA, OCALA, AND GAINESVIL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6560" y="762120"/>
            <a:ext cx="7488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WERE THE SUMMER OLYMPICS HELD IN RIO DE JANEI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DTH OF FILM (MEASURED IN MILLIMETERS) IS MOST COMMON FOR BOTH ANALOG PHOTOGRAPHY AND MOTION PIC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ASSOCIATED WITH BOEING'S FIRST JET AIRLI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76280" y="4952880"/>
            <a:ext cx="819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VISIBLE  BY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9560" y="761760"/>
            <a:ext cx="718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AGE DOES ONE START SOCIAL SECURITY TO RECEIVE MAXIMUM RETIREMENT BENEFI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73240" y="762120"/>
            <a:ext cx="6797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BY THE TALKING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83800" y="762120"/>
            <a:ext cx="7373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DELE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WHICH IS THE BEST-SELLING ALBUM OF THE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IN THE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EN SIGNED THE DECLARATION OF INDEPENDENCE?       45, 56, OR 6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0840" y="761760"/>
            <a:ext cx="8300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HITCHHIKER'S GUIDE TO THE GALAXY", WHAT IS ANSWER TO THE ULTIMATE QUESTION OF LIFE, THE UNIVERSE, AND EVERYTH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1760"/>
            <a:ext cx="852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HIGHWAY CONNECTS MIAMI, ORLANDO, APOPKA, OCALA, AND GAINESVIL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DTH OF FILM (MEASURED IN MILLIMETERS) IS MOST COMMON FOR BOTH ANALOG PHOTOGRAPHY AND MOTION PICTU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0T11:29:21Z</dcterms:modified>
  <cp:revision>474</cp:revision>
  <dc:subject/>
  <dc:title>Slide 1</dc:title>
</cp:coreProperties>
</file>