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AE58-4677-44CE-8EF4-24606578C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44F5-FD33-4510-8EEC-12FBD1E3F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B9A7-42D2-4C42-A69E-451F6669F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2D8D-DF78-4098-A2EB-EDC3E5A55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1C17-AFA7-402B-8ACE-CC96BC001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E14B-6B10-4666-822A-C9D46996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D324-AD7C-4A8B-B097-1BACE888D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E9C3-6BB1-4DB3-BC43-28A9EA06A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6F05-E19D-474B-9F5D-E7D69DEF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B5EF-1FCB-4C22-B93E-49AD9B67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FA2B-4535-4530-8EA3-AB6BA2BA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C9E7-48B4-43E1-8AE0-F46BFCC2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077A-8207-4069-9ABA-E72382B44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8451-E45C-4279-AF8C-2F0471BE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E976-664E-48AC-99D1-E200F5240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C891-D243-49E3-96BC-5281BBC0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3052-19CE-4EB0-AB9E-709403342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5544-CF69-4DFC-94CF-6D3974863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60D8-8C25-4860-92AA-F66D4A290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3C42-33B9-4ECD-BC7B-C46E32DD9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F77A-FDEA-41F0-8536-8FF0402B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BD83-E49B-4D4B-B759-8DA97A57A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BCC2-B4BB-46CD-A671-BA6B0BE0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ON AN OSCAR FOR THE BEST ORIGINAL SONG "GLORY" FOR THE FILM "SELMA", THAT HE ALSO APPEAR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7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TWO TICKETS TO PARADISE" AND "BABY HOLD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66840" y="762120"/>
            <a:ext cx="8410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ERRI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819520" y="2057400"/>
            <a:ext cx="3528720" cy="282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14320" y="762120"/>
            <a:ext cx="751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RANCE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351160" y="2577960"/>
            <a:ext cx="4441680" cy="236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  (THR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03240" y="762120"/>
            <a:ext cx="733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ASKETBALL ABBREVIATION "FT", WHAT DOES THE "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ETER)  SE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7240" y="762120"/>
            <a:ext cx="776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FIRST ACTOR TO PORTRAY INSPECTOR JACQUES CLOUSEAU IN "THE PINK PANTH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7800" y="762120"/>
            <a:ext cx="798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PETER BALZARY, THE BASSIST FOR THE RED HOT CHILI PEPPERS, IS KNOWN BY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ON AN OSCAR FOR THE BEST ORIGINAL SONG "GLORY" FOR THE FILM "SELMA", THAT HE ALSO APPEAR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42880" y="762120"/>
            <a:ext cx="805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"PICTURED" BY THE CONSTELLATION CONTAINING THE STARS KNOWN AS THE BIG DI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95240" y="762120"/>
            <a:ext cx="755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28600" y="495288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MARKE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9560" y="761760"/>
            <a:ext cx="718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"TWO TICKETS TO PARADISE" AND "BABY HOLD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4800" y="762120"/>
            <a:ext cx="847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ERRI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806560" y="2057400"/>
            <a:ext cx="3529080" cy="28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0040" y="762120"/>
            <a:ext cx="760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RANCE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51160" y="2577960"/>
            <a:ext cx="4441680" cy="23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ASKETBALL ABBREVIATION "FT", WHAT DOES THE "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OF THE FIRST ACTOR TO PORTRAY INSPECTOR JACQUES CLOUSEAU IN "THE PINK PANTH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8200" y="761760"/>
            <a:ext cx="806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PETER BALZARY, THE BASSIST FOR THE RED HOT CHILI PEPPERS, IS KNOWN  BY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"PICTURED" BY THE CONSTELLATION CONTAINING THE STARS KNOWN AS THE BIG DI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0T11:31:27Z</dcterms:modified>
  <cp:revision>474</cp:revision>
  <dc:subject/>
  <dc:title>Slide 1</dc:title>
</cp:coreProperties>
</file>