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109E-E9F1-4E12-9BDB-16020D8B5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0E6D-17DB-426D-9CBF-0C05AEB38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2ACB-CFD7-4F37-A680-0E1A5F5A4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DD21-98FA-47D1-A2A4-354C3AB23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D904-08BB-4D2D-87A8-3CBC52979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85FF-982D-42DC-A047-815FB782D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72BC-9596-468A-8F7E-795EC3628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1ADB-7982-4F7D-AB65-D407F6F56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E454-A8DF-426A-8132-B83C6C415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D0A8-002D-4225-8855-F74CBA53B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3E7C-17B8-40F1-81EC-E93BBC769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C329-E0FA-4D12-9E88-056F000EE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5C23-44D6-4C91-BA7C-B01CB72A3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B872-F154-409E-A715-06E856712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114D-4942-445D-90B0-2D9544115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C528-6F58-450E-BC25-742FA5BE8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425D-BAED-444E-854F-71E6EC031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3ECC-B0FE-45C6-98C1-2F5CF4D57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7763-EE34-46B5-A618-5A890F41E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D032-4970-4C7F-84ED-3815CD8B7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5F9B-4E66-4F39-A0DC-6C4DF876A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6A9D-0BDF-4E5E-AB95-7D16FDCC2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4229-5DF0-4C78-BECD-8999EED48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27120" y="761760"/>
            <a:ext cx="7888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OF CAR ABSORBS THE MOST ENERGY FROM THE SU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PPER WON AN OSCAR FOR THE BEST ORIGINAL SONG "GLORY" FOR THE FILM "SELMA", THAT HE ALSO APPEARED 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790640" y="495288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EDDIE)  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36800" y="762120"/>
            <a:ext cx="7070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SINGER OF "TWO TICKETS TO PARADISE" AND "BABY HOLD 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66840" y="762120"/>
            <a:ext cx="8410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TERRIER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2819520" y="2057400"/>
            <a:ext cx="3528720" cy="282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814320" y="762120"/>
            <a:ext cx="7515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URANCE COMPANY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351160" y="2577960"/>
            <a:ext cx="4441680" cy="236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E  (THRO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03240" y="762120"/>
            <a:ext cx="7337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BASKETBALL ABBREVIATION "FT", WHAT DOES THE "F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PETER)  SEL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87240" y="762120"/>
            <a:ext cx="7769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    OF THE FIRST ACTOR TO PORTRAY INSPECTOR JACQUES CLOUSEAU IN "THE PINK PANTHER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77800" y="762120"/>
            <a:ext cx="7988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HAEL PETER BALZARY, THE BASSIST FOR THE RED HOT CHILI PEPPERS, IS KNOWN BY WHAT NICK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27120" y="762120"/>
            <a:ext cx="788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PPER WON AN OSCAR FOR THE BEST ORIGINAL SONG "GLORY" FOR THE FILM "SELMA", THAT HE ALSO APPEARED 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42880" y="762120"/>
            <a:ext cx="8058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"PICTURED" BY THE CONSTELLATION CONTAINING THE STARS KNOWN AS THE BIG DIPP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795240" y="762120"/>
            <a:ext cx="7553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OF CAR ABSORBS THE MOST ENERGY FROM THE SU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228600" y="495288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MARKET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79560" y="761760"/>
            <a:ext cx="7184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SINGER OF "TWO TICKETS TO PARADISE" AND "BABY HOLD 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34800" y="762120"/>
            <a:ext cx="8474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TERRIER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806560" y="2057400"/>
            <a:ext cx="3529080" cy="282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70040" y="762120"/>
            <a:ext cx="7602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URANCE COMPANY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351160" y="2577960"/>
            <a:ext cx="4441680" cy="236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63560" y="761760"/>
            <a:ext cx="7616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BASKETBALL ABBREVIATION "FT", WHAT DOES THE "F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90120" y="761760"/>
            <a:ext cx="7761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    OF THE FIRST ACTOR TO PORTRAY INSPECTOR JACQUES CLOUSEAU IN "THE PINK PANTHER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8200" y="761760"/>
            <a:ext cx="8067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HAEL PETER BALZARY, THE BASSIST FOR THE RED HOT CHILI PEPPERS, IS KNOWN  BY WHAT NICK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"PICTURED" BY THE CONSTELLATION CONTAINING THE STARS KNOWN AS THE BIG DIPP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7-10T11:31:27Z</dcterms:modified>
  <cp:revision>474</cp:revision>
  <dc:subject/>
  <dc:title>Slide 1</dc:title>
</cp:coreProperties>
</file>