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A89D-5474-4DDE-9164-0389EEAD2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3D57-2ABD-4EAA-9DC4-158E6CC6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EE77-D506-49F7-BC56-4B8FAD86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405D-06B9-401E-93B9-4C1AA4E9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FD47-62C7-4CB0-A63D-47C04DAED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B11A-4D97-4349-9DA9-D092FCBF5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BBE2-556D-4E98-99F9-F84436A4B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D2BA-ACB7-4075-A20A-7C9B73CC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2BC4-DCC5-4CF1-AF59-9F8296DA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99E5-6457-4848-9FD7-EFF11EFE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7CF4-FBA6-41C8-BDD6-713A86049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4F27-DBA9-4165-96BF-68F7FDBE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FABF-6CAA-4DB3-BC56-75733E0E2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DBC1-ECAF-4D11-8CF2-79E15E43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2677-E7B4-4891-9C54-3F8729F2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D7BB-B144-40B9-87C0-0D90F36B7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859F-43B8-4F7E-8DBB-0C29B0619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488D-2534-46FF-8335-04BB5205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3495-80F0-43AB-B385-0DD5E46B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4833-3384-4B43-9BE4-81C9E6D45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A95D-9A54-476C-BC50-04E28F54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9C41-F41A-48BB-BA41-F34B663AD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9EFB-900B-4D9E-AF86-E2FC60DB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OMMUNITY COLLEGE IN TAMPA,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COLORS THAT DO NOT RHYME WITH ANY OTHER WORDS ARE SILVER, PURPL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  SUM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OUTH CAROLINA ISLAND DID THE FIRST BATTLE OF THE U.S. CIVIL WAR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SIUS 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RTH NAME OF MUHAMMAD A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TNAM  EX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ANNUAL NATIONAL UNDERGRADUATE MATHEMATICS CONT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P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47600" y="762120"/>
            <a:ext cx="704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BETWEEN JOHN TYLER AND ZACHARY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90680" y="762120"/>
            <a:ext cx="6362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JUST WEST OF MERRITT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GENE  LE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6560" y="762120"/>
            <a:ext cx="8210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ALL 8 OF THE "AMERICAN PIE" FILMS, AND STARRED WITH HIS SON IN "SCHITT'S CRE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COLORS THAT DO NOT RHYME WITH ANY OTHER WORDS ARE SILVER, PURPL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  LAKE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CITY DROPPED THE WORD "GREAT" FROM ITS NAME IN 18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LSBO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OMMUNITY COLLEGE IN TAMPA,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14240" y="4343400"/>
            <a:ext cx="771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OUNTIES  IN  CENTRAL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OUTH CAROLINA ISLAND DID THE FIRST BATTLE OF THE U.S. CIVIL WAR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RTH NAME OF MUHAMMAD A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ANNUAL NATIONAL UNDERGRADUATE MATHEMATICS CONT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BETWEEN JOHN TYLER AND ZACHARY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JUST WEST OF MERRITT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1880" y="762120"/>
            <a:ext cx="822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ALL 8 OF THE "AMERICAN PIE" FILMS, AND STARRED WITH HIS SON IN "SCHITT'S CRE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CITY DROPPED THE WORD "GREAT" FROM ITS NAME IN 186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7-21T17:10:40Z</dcterms:modified>
  <cp:revision>437</cp:revision>
  <dc:subject/>
  <dc:title>Slide 1</dc:title>
</cp:coreProperties>
</file>