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364B-44A1-45B5-93E1-5C15B34A7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BDE2-1016-4218-8EF6-511F609E5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DE0F-3574-43F5-B3EB-CB96E361A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8B1B-34B3-4F95-99DF-090037BD5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65D5-2C1F-449B-AE76-C6A769F58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32B7-EA3F-40DE-8A94-D25B28FD1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3135-5030-494A-AAE8-91B799C40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A060-4DEC-4846-9408-BB4BB999D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3380-2BD5-4433-9A97-621FEFC00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DC18-32A7-4A47-981D-D38CD42E4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BBA7-4D0E-4C5C-B859-127E112F2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7C7F-C88F-49A9-8A51-8DE5FB6A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8AC2-7DD1-4B9D-A031-AF1B16E6F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33DC-65AB-42F5-89E7-0F35A4A59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A66B-5BCD-498F-A7EC-59550EE48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B94-9018-44DA-AD79-E1E1CBCAB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12AA-B1BB-492D-BF4B-B8EB00CCB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6D81-1C83-4454-B4E5-5D07B9A1B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FF16-9C43-4335-9669-AEF9ACD32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CB90-EBD5-49C2-AF03-29CA8CECB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9A12-15DE-45BF-A40F-BB2284888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79A22-30AC-4B68-93BA-7C22A29D3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42E5-F361-4051-8359-72F5545AB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OMMUNITY COLLEGE IN TAMPA,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66720" y="762120"/>
            <a:ext cx="7810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COLORS THAT DO NOT RHYME WITH ANY OTHER WORDS ARE SILVER, PURPLE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T  SUM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OUTH CAROLINA ISLAND DID THE FIRST BATTLE OF THE U.S. CIVIL WAR TAKE PLA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SIUS  C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52560" y="762120"/>
            <a:ext cx="72388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RTH NAME OF MUHAMMAD A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TNAM  EX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ANNUAL NATIONAL UNDERGRADUATE MATHEMATICS CONT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PO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47600" y="762120"/>
            <a:ext cx="704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BETWEEN JOHN TYLER AND ZACHARY TAY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N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90680" y="762120"/>
            <a:ext cx="63626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JUST WEST OF MERRITT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GENE  LE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6560" y="762120"/>
            <a:ext cx="8210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ALL 8 OF THE "AMERICAN PIE" FILMS, AND STARRED WITH HIS SON IN "SCHITT'S CRE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76440" y="762120"/>
            <a:ext cx="7791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3 COLORS THAT DO NOT RHYME WITH ANY OTHER WORDS ARE SILVER, PURPLE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T  LAKE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CITY DROPPED THE WORD "GREAT" FROM ITS NAME IN 18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LSBO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COMMUNITY COLLEGE IN TAMPA,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714240" y="4343400"/>
            <a:ext cx="77155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COUNTIES  IN  CENTRAL  FLORI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SOUTH CAROLINA ISLAND DID THE FIRST BATTLE OF THE U.S. CIVIL WAR TAKE PLA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71640" y="762120"/>
            <a:ext cx="7200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IRTH NAME OF MUHAMMAD AL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RESTIGIOUS ANNUAL NATIONAL UNDERGRADUATE MATHEMATICS CONT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BETWEEN JOHN TYLER AND ZACHARY TAY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DY OF WATER IS JUST WEST OF MERRITT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1880" y="762120"/>
            <a:ext cx="822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APPEARED IN ALL 8 OF THE "AMERICAN PIE" FILMS, AND STARRED WITH HIS SON IN "SCHITT'S CRE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2120"/>
            <a:ext cx="7277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TAH CITY DROPPED THE WORD "GREAT" FROM ITS NAME IN 186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2-07-21T17:10:40Z</dcterms:modified>
  <cp:revision>437</cp:revision>
  <dc:subject/>
  <dc:title>Slide 1</dc:title>
</cp:coreProperties>
</file>