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CD83-6C48-4432-A38A-21322BA1D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B410-39FB-4F17-9F89-64B568D40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7504-8779-4C85-B1C3-4091D89DD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54F6-3E22-46A0-91BF-B9851A620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9DA6-98DD-4338-97D7-F58EBE0B6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6531-5788-4B77-A4F9-CE61CF18B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4928-5386-47EB-9E6D-F4D42D578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3687-CC11-4DE9-AAB9-5C94D494A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6BF5-22BB-4AA6-9DB7-4A9D21226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6B66-B85D-482C-8CD0-557ECB485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F723-927A-4538-9135-4C4807FEF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663E-CF79-43A0-ADAB-7438DB60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5812-AD77-4110-AA36-291D19C6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7FC7-4970-4486-BB99-DBDE58D2F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02A0-E30F-4CD0-90AB-639B8638B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6F72-467F-4D55-ABF1-E709208B3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B94D-9901-4D3A-9700-D450A5F8E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69A8-6820-4639-B37F-DA3D79924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5C20-1318-427E-8DF1-FFC27AB62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E44B-09CA-4E0E-9C2F-15B8FD56F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72E5-FBBB-4402-A486-C50B8A40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7F1F-EDF5-4663-904E-5267385E9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005E-08D9-4C86-B2FF-F76835C82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3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EEN OF ENGLAND FOR 9 DAYS IN JULY OF 1553, UNTIL "BLOODY MARY", DAUGHTER OF HENRY VIII, TOOK THE THR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Y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IDATE FOR THE DEMOCRATIC PRESIDENTIAL NOMINATION IN 2020 FAVORED A UNIVERSAL BASIC INCOME OF $1000 PER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BILL  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88920" y="762120"/>
            <a:ext cx="7164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BRUCE WILLIS ON THE TV SERIES "MOONLIGH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LLOYD  WEB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90520" y="762120"/>
            <a:ext cx="8562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USIC FOR THE MUSICALS "EVITA", "THE PHANTOM OF THE OPERA", AND "JESUS CHRIST SUPERS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.  LEE  BAI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9280" y="782640"/>
            <a:ext cx="82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"DREAM TEAM" OF LAWYERS FOR O.J. SIMPSON WAS DISBARRED IN FLORIDA IN 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H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5600" y="762120"/>
            <a:ext cx="8631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NCIS: LOS ANGELES" WAS THE FIRST PERSON TO WIN AN OSCAR FOR PORTRAYING A CHARACTER   OF THE OPPOSITE S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OBB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SHAWSHANK REDEMPTION" WITH MORGAN FRE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9720" y="762120"/>
            <a:ext cx="840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STEVEN DEMETRE GEORGIOU BEFORE HE CHANGED IT TO YUSUF ISL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IDATE FOR THE DEMOCRATIC PRESIDENTIAL NOMINATION IN 2020 FAVORED A UNIVERSAL BASIC INCOME OF $1000 PER MON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PI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96880" y="762120"/>
            <a:ext cx="7943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, RIGHT AFTER MILLARD FILLMORE AND RIGHT BEFORE JAMES BUCHAN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3560" y="762120"/>
            <a:ext cx="815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EEN OF ENGLAND FOR 9 DAYS IN JULY OF 1553, UNTIL "BLOODY MARY", DAUGHTER OF HENRY VIII, TOOK THE THR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4960" y="4343400"/>
            <a:ext cx="861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E  LAST  NAMES  WITH  DOCTORS  ON  "GREY'S  ANATOM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BRUCE WILLIS ON THE TV SERIES "MOONLIGH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USIC FOR THE MUSICALS "EVITA", "THE PHANTOM OF THE OPERA", AND "JESUS CHRIST SUPERS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"DREAM TEAM" OF LAWYERS FOR O.J. SIMPSON WAS DISBARRED IN FLORIDA IN 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82160" y="762120"/>
            <a:ext cx="877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NCIS: LOS ANGELES" WAS THE FIRST PERSON TO WIN AN OSCAR FOR PORTRAYING A CHARACTER   OF THE OPPOSITE SE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SHAWSHANK REDEMPTION" WITH MORGAN FRE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7840" y="762120"/>
            <a:ext cx="860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STEVEN DEMETRE GEORGIOU BEFORE HE CHANGED IT TO YUSUF ISL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85360" y="762120"/>
            <a:ext cx="797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, RIGHT AFTER MILLARD FILLMORE AND RIGHT BEFORE JAMES BUCHAN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7-21T17:16:19Z</dcterms:modified>
  <cp:revision>457</cp:revision>
  <dc:subject/>
  <dc:title>Slide 1</dc:title>
</cp:coreProperties>
</file>