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91F5-3756-48F6-985F-50C6C2277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C73B-C9ED-4384-9C8F-9A88B63E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09FC-2269-4CC5-AE6F-7ADA20834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ABBB-2916-4515-96C1-AF6514411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2E14-7B03-44F1-BA0F-6039B553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2631-9863-4063-AF97-4B1EA6E51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D7B-8580-4635-AA55-070A6D98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147-6867-45F9-A6AF-E2C09CFB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EE4-3629-4AF0-98C2-941F2609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5CB-A5B1-4B38-9F0B-286B3EB31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29D-BA0B-4C99-9E63-275A974D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CD7A-2F74-4813-87C1-BF25DAB1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50AC-3ABE-40F6-853B-B7AD151B3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6D73-02A2-4866-8326-33554CDBF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149D-42AF-4AEF-BCBF-4BA4A6DB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646-4523-4195-8AB8-F04550BEC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2D1F-9C8A-41A0-BD8D-DADB2E5D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7015-CFA4-479E-BB75-D5297445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692-D051-47EA-9ADA-D3522EEF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DA13-8775-445D-BE60-911C3546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76BA-5FCD-4CF8-A1CA-CC51E12F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2DC9-329E-4CE1-A834-22648889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55D0-BDAB-49FE-BDCA-B4082E22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3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EEN OF ENGLAND FOR 9 DAYS IN JULY OF 1553, UNTIL "BLOODY MARY", DAUGHTER OF HENRY VIII, TOOK THE THR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Y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IDATE FOR THE DEMOCRATIC PRESIDENTIAL NOMINATION IN 2020 FAVORED A UNIVERSAL BASIC INCOME OF $1000 PER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BILL 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88920" y="762120"/>
            <a:ext cx="7164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BRUCE WILLIS ON THE TV SERIES "MOONLIGH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LLOYD  WEB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90520" y="762120"/>
            <a:ext cx="8562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USIC FOR THE MUSICALS "EVITA", "THE PHANTOM OF THE OPERA", AND "JESUS CHRIST SUPERS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.  LEE  BAI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9280" y="78264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"DREAM TEAM" OF LAWYERS FOR O.J. SIMPSON WAS DISBARRED IN FLORIDA IN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5600" y="762120"/>
            <a:ext cx="8631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NCIS: LOS ANGELES" WAS THE FIRST PERSON TO WIN AN OSCAR FOR PORTRAYING A CHARACTER   OF THE OPPOSITE S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OBB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AWSHANK REDEMPTION" WITH MORGAN FRE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9720" y="762120"/>
            <a:ext cx="840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STEVEN DEMETRE GEORGIOU BEFORE HE CHANGED IT TO YUSUF IS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IDATE FOR THE DEMOCRATIC PRESIDENTIAL NOMINATION IN 2020 FAVORED A UNIVERSAL BASIC INCOME OF $1000 PER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PI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96880" y="762120"/>
            <a:ext cx="7943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, RIGHT AFTER MILLARD FILLMORE AND RIGHT BEFORE JAMES BUCHAN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3560" y="762120"/>
            <a:ext cx="815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EEN OF ENGLAND FOR 9 DAYS IN JULY OF 1553, UNTIL "BLOODY MARY", DAUGHTER OF HENRY VIII, TOOK THE THR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4960" y="4343400"/>
            <a:ext cx="861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E  LAST  NAMES  WITH  DOCTORS  ON  "GREY'S  ANATOM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BRUCE WILLIS ON THE TV SERIES "MOONLIGH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USIC FOR THE MUSICALS "EVITA", "THE PHANTOM OF THE OPERA", AND "JESUS CHRIST SUPERS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"DREAM TEAM" OF LAWYERS FOR O.J. SIMPSON WAS DISBARRED IN FLORIDA IN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82160" y="762120"/>
            <a:ext cx="877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NCIS: LOS ANGELES" WAS THE FIRST PERSON TO WIN AN OSCAR FOR PORTRAYING A CHARACTER   OF THE OPPOSITE S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AWSHANK REDEMPTION" WITH MORGAN FRE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7840" y="762120"/>
            <a:ext cx="860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STEVEN DEMETRE GEORGIOU BEFORE HE CHANGED IT TO YUSUF IS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5360" y="762120"/>
            <a:ext cx="797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, RIGHT AFTER MILLARD FILLMORE AND RIGHT BEFORE JAMES BUCHAN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7-21T17:16:19Z</dcterms:modified>
  <cp:revision>457</cp:revision>
  <dc:subject/>
  <dc:title>Slide 1</dc:title>
</cp:coreProperties>
</file>