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280A-E7BF-4307-8B00-4FAE6B23C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C48-2F9C-459C-96D0-D79D61D5D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725B-FE1F-42D7-9A43-791551135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F3D1-F50E-43BC-B31D-8EB54BCD5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91B5-7BD5-4A62-81C9-FEE8CC73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E23C-64CC-4EE0-B21C-0B305928E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AFF4-F6BE-4F31-A259-99158B04D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7741-99E9-41C7-82B5-21214DCE6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0CC3-999D-4FD4-B12F-396F44921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282-C4F7-483F-8C1C-F4D366AC1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B587-97D4-4A06-B514-7CE11298E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1A72-EB34-421E-81C2-5F58E82D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66ED-4B19-4A95-A0DE-8163BA20D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0353-565F-4035-9730-E4C09F83D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61BE-C872-45E7-B625-56793F437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E33F-1C95-4A1A-8005-CFB4AC529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1AB3-C77E-474F-9F5C-0F12C0602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F17E-751F-484B-BAA1-690F4D19C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DE35-75AE-4975-A2A1-2CCAB524D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B972-6635-4863-9EEE-B2E823C58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DABE-6159-401B-B812-D736C7A74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CF2B-59B3-49C5-A513-2019937A6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386D-3302-4F3C-A7C3-E3C0B73D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80880" y="133344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MUSICAL GROUPS HAD THESE ALBUM COVERS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548080" y="1295280"/>
            <a:ext cx="4047840" cy="41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705040" y="127152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2685960" y="1262160"/>
            <a:ext cx="377208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OON 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2724120" y="1257480"/>
            <a:ext cx="3695760" cy="36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3204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SABB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752560" y="1295280"/>
            <a:ext cx="3638880" cy="363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HOT  CHILI  PEP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514600" y="1293840"/>
            <a:ext cx="4114800" cy="373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SON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51055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ITE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495520" y="1295280"/>
            <a:ext cx="4152960" cy="41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457360" y="1295280"/>
            <a:ext cx="4229280" cy="42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42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0T11:37:34Z</dcterms:modified>
  <cp:revision>290</cp:revision>
  <dc:subject/>
  <dc:title>Slide 1</dc:title>
</cp:coreProperties>
</file>