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5E0E-9DE7-4EF9-B022-0F8072B07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7418-B609-4106-847C-BE356765E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5F55-1FB3-45FC-ACB5-E1F35E878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A721-4D49-4C08-B6B5-C30C2C8D5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13E5-126D-4ED7-BD9E-D1B478676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EAF7-1C4A-4CF9-BF61-E177CCB6F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E186-AE72-4E30-8453-510EA9292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F357-FE8D-4F3E-9CA3-B1A2D5C0A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3967-8065-4321-A38D-784A8FFC0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9B97-B1B3-4EF7-9339-1386B16C0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E600-E4D2-488C-B927-BA14DB978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8B36-8205-4E9A-8CF1-D439ECCC2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AD39-1FC6-4286-9CF3-0DB46EB22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3E26-C991-49B3-9A25-0D390981D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08C7-3237-4C0E-BCCF-B663BEF17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11A9-486B-4DF5-BBC9-2557759D8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F99C-E29A-4A34-AD61-DE84B0E34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73FA-29D0-4C99-9EB5-E0581B00E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E11F-7F22-44CA-B1A3-5A1792391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4982-B3C3-4946-B2CA-BBD101892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BD78-60D7-4671-87F6-9D5F957C9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E9F1-2F43-4DDF-A34A-971A9771E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3FCC-6814-44A0-8E91-C5BFC41E5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133344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MUSICAL GROUPS HAD THESE ALBUM COVER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548080" y="1295280"/>
            <a:ext cx="4047840" cy="41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SE ANSWERS HAVE IN COMM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GO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705040" y="127152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685960" y="1262160"/>
            <a:ext cx="377208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OON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2724120" y="1257480"/>
            <a:ext cx="3695760" cy="36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DY  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32040" cy="363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SABB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752560" y="1295280"/>
            <a:ext cx="363888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HOT  CHILI  PE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514600" y="1293840"/>
            <a:ext cx="4114800" cy="37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476440" y="13334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  BROW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5105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ITE  STR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733840" y="1295280"/>
            <a:ext cx="367632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SE ANSWER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495520" y="1295280"/>
            <a:ext cx="415296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476440" y="12952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476440" y="12952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476440" y="13334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457360" y="1295280"/>
            <a:ext cx="4229280" cy="42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247840" y="1295280"/>
            <a:ext cx="4648320" cy="42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476440" y="12952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7-10T11:37:34Z</dcterms:modified>
  <cp:revision>290</cp:revision>
  <dc:subject/>
  <dc:title>Slide 1</dc:title>
</cp:coreProperties>
</file>