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6AD-ADA5-418D-990E-AD8ACC79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22E-D6D4-42E5-83BC-D02CB2C4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4141-F228-4F04-8D1C-94E6F3CB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95DF-3525-420B-B03D-436C6F35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0F5-629B-4CFE-B9F7-EB252C35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F64-B28E-43D9-9059-1419D985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813-3C47-4DEF-9B43-54F3378F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A3E1-B10D-4D3B-B85F-0694518E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2A0-13C1-4223-9564-2A9990E1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DC23-D276-44E6-93AC-C84EE8BA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737-0948-4310-AC77-63892BE6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26FE-FBB1-4239-AF07-903EAE80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1E0-031F-44C3-93DC-30EC22A7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FF0C-E219-4C7F-B425-D42701AC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14B-03B2-46C3-A8D5-BFD96C2E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5828-A892-45A1-8E68-FA361208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3A1D-A375-430E-8C0D-389D9014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099-70EA-4016-A8AD-E270AFB2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8F1-C9A4-4E84-ACE4-C2CB1648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AB7-668E-42C0-9A7B-B4C34607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5CD8-16AE-4CC3-8DE7-44C0EB1C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A6B-3306-4B13-94F4-DBF1E9EF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8C4-A60D-41CD-A9CE-BD7557365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2120" y="762120"/>
            <a:ext cx="815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ET BY ALAN JACKSON AND JIMMY BUFFETT WON THE 2003 CMA AWARD FOR VOCAL EVENT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WHICH BECAME HI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TANS  OF 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 STRAITS SONG ABOUT A JAZZ BAND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  (YOU'RE  A  FINE  GIRL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2480" y="762120"/>
            <a:ext cx="6899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BY LOOKING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62080" y="4343400"/>
            <a:ext cx="681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NIGHT'S  ALRIGHT  FOR  F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152280" y="762120"/>
            <a:ext cx="917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ETIC 1973 ELTON JOHN SONG WAS BANNED ON SOME RADIO STATIONS FOR FEAR IT WOULD INCITE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,  BAD  LEROY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 CROCE FIGHT SONG, SIMILAR TO HIS SONG "YOU DON'T MESS AROUND WITH JIM", WAS HIS LA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I  WANNA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HERYL CROW'S BEST-SELLING SONG, WHICH WON THE 1995 GRAMMY FOR RECORD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OY  NAMED  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2640" y="762120"/>
            <a:ext cx="811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ABOUT A FEMININE NAME WAS HIS BIGGEST HIT ON  THE NON-COUNTRY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WHICH BECAME HI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MME  THREE 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9560" y="762120"/>
            <a:ext cx="71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YNYRD SKYNYRD SONG IS ABOUT HAVING A GUN PULLED ON HIM FOR DANCING WITH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FIVE  O'CLOCK  SOME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ET BY ALAN JACKSON AND JIMMY BUFFETT WON THE 2003 CMA AWARD FOR VOCAL EVENT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ET  IN 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 STRAITS SONG ABOUT A JAZZ BAND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63520" y="762120"/>
            <a:ext cx="6815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BY LOOKING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152640" y="762120"/>
            <a:ext cx="9158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ETIC 1973 ELTON JOHN SONG WAS BANNED ON SOME RADIO STATIONS FOR FEAR IT WOULD INCITE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 CROCE FIGHT SONG, SIMILAR TO HIS SONG "YOU DON'T MESS AROUND WITH JIM", WAS HIS LA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HERYL CROW'S BEST-SELLING SONG, WHICH WON THE 1995 GRAMMY FOR RECORD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ABOUT A FEMININE NAME WAS HIS BIGGEST HIT ON THE NON-COUNTRY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YNYRD SKYNYRD SONG IS ABOUT HAVING A GUN PULLED ON HIM FOR DANCING WITH A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10T11:39:23Z</dcterms:modified>
  <cp:revision>469</cp:revision>
  <dc:subject/>
  <dc:title>Slide 1</dc:title>
</cp:coreProperties>
</file>