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A4B0-E181-4E15-8096-E4710474E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6A79-FD65-4A3C-8936-364591AB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08FA-5C3C-4CB2-97DC-50465F1A7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5617-9A61-4A0E-B643-E19C574A6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D050-C5EE-4696-B605-4F79FD7E3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2875-323A-4E22-B7F8-930538BE1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4B2A-316B-40B0-B0F0-221AD77B4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C8D1-D98A-46E2-A930-84803D21A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2585-5B40-4B7A-B49A-3051999BB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1F19-4AE8-496B-AC7C-3E0229B51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D63C-AF3B-4CBF-8F05-5B793D8A0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8B5E-433B-497C-897F-B62DCF8F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5746-0E1C-43B6-91AA-54156ADD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F5EC-8366-423E-9548-F0919AD57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96C1-6132-4831-9D8D-38F1154C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9161-0854-4DB8-AF6A-563A10318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1FD5-00B1-47E5-B692-1E46D4B3A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A90D-CB60-4B4C-872B-BA9E8142A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87A7-F08D-4AF0-8C75-66FCBBBA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852B-A4CA-426E-836C-7D24E2216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11A8-F6B0-4E9D-8196-632DCF4E5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550A-718F-4EF1-8B7F-16DA5B412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9D63-5D2C-4D67-9563-BC5E52971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2120" y="762120"/>
            <a:ext cx="815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ET BY ALAN JACKSON AND JIMMY BUFFETT WON THE 2003 CMA AWARD FOR VOCAL EVENT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WHICH BECAME HI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TANS  OF 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 STRAITS SONG ABOUT A JAZZ BAND WAS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Y  (YOU'RE  A  FINE  GIRL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22480" y="762120"/>
            <a:ext cx="6899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BY LOOKING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162080" y="4343400"/>
            <a:ext cx="681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DAY  NIGHT'S  ALRIGHT  FOR  FIGH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152280" y="762120"/>
            <a:ext cx="9178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ETIC 1973 ELTON JOHN SONG WAS BANNED ON SOME RADIO STATIONS FOR FEAR IT WOULD INCITE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,  BAD  LEROY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2360" y="762120"/>
            <a:ext cx="809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 CROCE FIGHT SONG, SIMILAR TO HIS SONG "YOU DON'T MESS AROUND WITH JIM", WAS HIS LA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I  WANNA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HERYL CROW'S BEST-SELLING SONG, WHICH WON THE 1995 GRAMMY FOR RECORD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OY  NAMED  S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12640" y="762120"/>
            <a:ext cx="811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 ABOUT A FEMININE NAME WAS HIS BIGGEST HIT ON  THE NON-COUNTRY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SONG, WHICH BECAME HI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MME  THREE 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9560" y="762120"/>
            <a:ext cx="718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YNYRD SKYNYRD SONG IS ABOUT HAVING A GUN PULLED ON HIM FOR DANCING WITH A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FIVE  O'CLOCK  SOMEW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2360" y="762120"/>
            <a:ext cx="809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ET BY ALAN JACKSON AND JIMMY BUFFETT WON THE 2003 CMA AWARD FOR VOCAL EVENT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4960" y="4876920"/>
            <a:ext cx="8614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SET  IN  B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 STRAITS SONG ABOUT A JAZZ BAND WAS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63520" y="762120"/>
            <a:ext cx="6815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BY LOOKING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152640" y="762120"/>
            <a:ext cx="9158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ETIC 1973 ELTON JOHN SONG WAS BANNED ON SOME RADIO STATIONS FOR FEAR IT WOULD INCITE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 CROCE FIGHT SONG, SIMILAR TO HIS SONG "YOU DON'T MESS AROUND WITH JIM", WAS HIS LAST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HERYL CROW'S BEST-SELLING SONG, WHICH WON THE 1995 GRAMMY FOR RECORD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 ABOUT A FEMININE NAME WAS HIS BIGGEST HIT ON THE NON-COUNTRY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YNYRD SKYNYRD SONG IS ABOUT HAVING A GUN PULLED ON HIM FOR DANCING WITH A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7-10T11:39:23Z</dcterms:modified>
  <cp:revision>469</cp:revision>
  <dc:subject/>
  <dc:title>Slide 1</dc:title>
</cp:coreProperties>
</file>