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C7CA-8978-4788-A370-6CEECEF8A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20B1-1B4E-4DCF-B7CA-8FAEF7F56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7FED-0066-4586-B886-6C5B73573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24C4-97C6-4003-A43E-DCD2CDF3A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15391-CB97-477F-8103-43CF8614E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7963-458B-437E-A14F-42E3F7146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1E52-A629-4FB6-8A47-3C816E3D6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D2F2-DE44-43BE-9AB1-66A510C28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63AA-6DBA-4096-AA81-216C93E6D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0CFA-F98A-4A88-B56C-99013E6E4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D363-C524-4F6D-9033-14A3385A3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6C8E-E19E-44A7-A7AF-81992E4E1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71B5-93A1-4909-A939-5531CD4F4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CBF4-6169-46C8-BE47-6DC377E43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B363-8B6F-4271-9783-78179BA2A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9C21-9E49-4822-A12B-C6703F235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A4EE-51D7-4606-832F-476C57812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8994-139E-4012-AFA6-C59D451EB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01C5-65D5-434D-A487-1B24F71C0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646B-0A64-4AD8-8B45-BEDC7DCDC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25EF-E5FC-4378-8DC0-FBDF22AFA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9DAB-90D8-43AE-B89E-8D158F3E4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C28B-0A0D-41E1-8753-E82245756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57280" y="761760"/>
            <a:ext cx="802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ESIDENT OF THE UNITED MINE WORKERS 1982-1995 AND PRESIDENT OF THE AFL-CIO 2009-202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E  B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18960" y="762120"/>
            <a:ext cx="8504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GOLD MEDALS IN THE VAULT AND FLOOR EXERCISE AT THE 2016 OLYMPICS, AND HAS THE MOST WORLD GOLD MEDALS OF ANY GYMN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361800" y="4876920"/>
            <a:ext cx="8420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BBY  GIFF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04840" y="762120"/>
            <a:ext cx="8577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GRESSWOMAN SURVIVED AN ASSASSINATION ATTEMPT, AND IS MARRIED TO THE MAN WHO NOW HOLDS HER ARIZONA SE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JO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131840" y="762120"/>
            <a:ext cx="6878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CO-FOUNDER, CHAIRMAN, AND CEO OF AP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HIZR  K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52320" y="774720"/>
            <a:ext cx="7837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AMOUSLY GAVE A SPEECH AT THE 2016 DEMOCRATIC CONVENTION AND HELD UP A COPY OF THE U.S. CONSTIT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N  SI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6320" y="952560"/>
            <a:ext cx="49831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 FORMER WYOMING CONGRESS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486400" y="457200"/>
            <a:ext cx="321948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ZEL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53880" y="762120"/>
            <a:ext cx="843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ICAN-AMERICAN ACTOR WAS NAMED THE BEST ACTOR OF THE 2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BY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NEW YORK TIM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GAN  RAPIN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57280" y="762120"/>
            <a:ext cx="8029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CCER PLAYER WITH PINK HAIR WAS NAMED THE BEST FIFA FEMALE SOCCER PLAYER IN 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46240" y="762120"/>
            <a:ext cx="865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GOLD MEDALS IN THE VAULT AND FLOOR EXERCISE AT THE 2016 OLYMPICS, AND HAS THE MOST WORLD GOLD MEDALS OF ANY GYMN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98720" y="4876920"/>
            <a:ext cx="514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CC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58920" y="762120"/>
            <a:ext cx="842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UBLICAN SENATOR LOST THE PRESIDENTIAL ELECTION OF 2008 TO OBA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TRUM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85720" y="762120"/>
            <a:ext cx="7970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ESIDENT OF THE UNITED MINE WORKERS 1982-1995 AND PRESIDENT OF THE AFL-CIO 2009-202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19040" y="43434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WARDED  THE  PRESIDENTIAL  MEDAL  OF  FREEDOM  BY  BI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99880" y="761760"/>
            <a:ext cx="8544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GRESSWOMAN SURVIVED AN ASSASSINATION ATTEMPT, AND IS MARRIED TO THE MAN WHO NOW HOLDS HER ARIZONA SE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11240" y="762120"/>
            <a:ext cx="712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CO-FOUNDER, CHAIRMAN, AND CEO OF AP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20280" y="762120"/>
            <a:ext cx="7900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AMOUSLY GAVE A SPEECH AT THE 2016 DEMOCRATIC CONVENTION AND HELD UP A COPY OF THE U.S. CONSTIT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6640" y="952560"/>
            <a:ext cx="5072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 FORMER WYOMING CONGRESS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86400" y="457200"/>
            <a:ext cx="3219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64960" y="761760"/>
            <a:ext cx="8614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ICAN-AMERICAN ACTOR WAS NAMED THE BEST ACTOR OF THE 2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BY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NEW YORK TIM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50440" y="761760"/>
            <a:ext cx="8040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CCER PLAYER WITH PINK HAIR WAS NAMED THE BEST FIFA FEMALE SOCCER PLAYER IN 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93760" y="762120"/>
            <a:ext cx="8556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PUBLICAN SENATOR LOST THE PRESIDENTIAL ELECTION OF 2008 TO OBA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7-10T11:43:21Z</dcterms:modified>
  <cp:revision>534</cp:revision>
  <dc:subject/>
  <dc:title>Slide 1</dc:title>
</cp:coreProperties>
</file>