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CF5A-4262-45EA-A78D-808F38BF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C8EF-E11C-4B3C-A8A0-F719E9AD6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E930-5748-4A8C-B3C3-FB4B723C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EFA7-6AB6-4B42-B925-51D8B3E2D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1249-F807-4EC1-A454-B1413E195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5094-32A0-413A-818F-3FC6DCDA5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CA46-3728-4900-A1AC-4BDBFEAD1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C33A-8BCE-46F2-97B1-17150292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E6E1-D29A-4441-A2C7-45D2118CC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93E2-4FF2-4F96-8F14-C521CEAC8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E1F2-E708-4B81-9E65-85836768A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2904-243F-49C9-B9F8-F820E566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24C1-DD33-4DD2-98CE-1DDC71DC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CAE5-7065-4BD3-B2DC-277EC2764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2970-BA48-4671-91EA-8DD9A4EEA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A305-CB63-40A2-9C8C-C0BC35DEC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4616-9990-49FF-A6F4-05E91DC69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F0A1-EFDC-421B-B6F1-A4E08CCDB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73E6-4DEB-4271-9CC4-83DB65A6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2D09-880B-4054-BC30-CAC9E6CA5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A0F1-18D1-4ECE-8CE0-D2EA562D7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F4FB-EF8B-4E73-B778-A790C9E56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AEB0-2DF0-4054-ADAD-0B886080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THE UNITED MINE WORKERS 1982-1995 AND PRESIDENT OF THE AFL-CIO 2009-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E  B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18960" y="762120"/>
            <a:ext cx="850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 MEDALS IN THE VAULT AND FLOOR EXERCISE AT THE 2016 OLYMPICS, AND HAS THE MOST WORLD GOLD MEDALS OF ANY GYMN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BBY  GIFF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04840" y="762120"/>
            <a:ext cx="8577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RESSWOMAN SURVIVED AN ASSASSINATION ATTEMPT, AND IS MARRIED TO THE MAN WHO NOW HOLDS HER ARIZONA S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JO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31840" y="762120"/>
            <a:ext cx="6878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O-FOUNDER, CHAIRMAN, AND CEO OF AP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HIZR  K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52320" y="774720"/>
            <a:ext cx="7837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GAVE A SPEECH AT THE 2016 DEMOCRATIC CONVENTION AND HELD UP A COPY OF THE U.S. CON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6320" y="952560"/>
            <a:ext cx="4983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FORMER WYOMING CONGRESS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3219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53880" y="762120"/>
            <a:ext cx="843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ACTOR WAS NAMED THE BEST ACTOR OF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BY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AN  RAPIN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57280" y="762120"/>
            <a:ext cx="802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CCER PLAYER WITH PINK HAIR WAS NAMED THE BEST FIFA FEMALE SOCCER PLAYER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6240" y="762120"/>
            <a:ext cx="865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 MEDALS IN THE VAULT AND FLOOR EXERCISE AT THE 2016 OLYMPICS, AND HAS THE MOST WORLD GOLD MEDALS OF ANY GYMN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98720" y="4876920"/>
            <a:ext cx="514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58920" y="762120"/>
            <a:ext cx="842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SENATOR LOST THE PRESIDENTIAL ELECTION OF 2008 TO O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TRUM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85720" y="762120"/>
            <a:ext cx="7970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THE UNITED MINE WORKERS 1982-1995 AND PRESIDENT OF THE AFL-CIO 2009-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19040" y="43434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WARDED  THE  PRESIDENTIAL  MEDAL  OF  FREEDOM  BY  BI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9880" y="761760"/>
            <a:ext cx="854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RESSWOMAN SURVIVED AN ASSASSINATION ATTEMPT, AND IS MARRIED TO THE MAN WHO NOW HOLDS HER ARIZONA SE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11240" y="762120"/>
            <a:ext cx="712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O-FOUNDER, CHAIRMAN, AND CEO OF AP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20280" y="762120"/>
            <a:ext cx="790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GAVE A SPEECH AT THE 2016 DEMOCRATIC CONVENTION AND HELD UP A COPY OF THE U.S. CONSTIT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640" y="952560"/>
            <a:ext cx="5072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FORMER WYOMING CONGRESS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3219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4960" y="761760"/>
            <a:ext cx="8614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ACTOR WAS NAMED THE BEST ACTOR OF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BY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0440" y="761760"/>
            <a:ext cx="8040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CCER PLAYER WITH PINK HAIR WAS NAMED THE BEST FIFA FEMALE SOCCER PLAYER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3760" y="762120"/>
            <a:ext cx="8556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SENATOR LOST THE PRESIDENTIAL ELECTION OF 2008 TO O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7-10T11:43:21Z</dcterms:modified>
  <cp:revision>534</cp:revision>
  <dc:subject/>
  <dc:title>Slide 1</dc:title>
</cp:coreProperties>
</file>