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2C71-97CB-4BB5-912F-21DFADF2F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2737-672C-4735-A373-E779A93B5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0A2E-BCC0-4119-BB0A-E051DE2E5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1C13-1FB8-4820-B058-EAE8DC482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3C2D-9061-4358-8CBE-ADC10CDD8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1D80-4293-4B62-8BEF-647A3AA1D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A97F-9123-44DE-AB03-9605BF3B1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0FE0-37A2-40FE-B214-18DDA2F6C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B72B-5D02-47C2-9F75-BA5C69B42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1DD3-B798-4E14-8373-A53FFA877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2F0F-3F03-4D71-B0F1-CD7337707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2093-B053-40E4-A18A-FAD877196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F261-154C-44EC-B4D4-C7CF3C241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EF20-3849-4060-A43B-360D77AAE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20F9-A376-4FBB-9BB8-55EE3F658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9D3C-D35B-4615-A115-D91121EAD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31DC-C7A0-47C3-8D52-8EAFD5D70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52A0-502C-4D48-974A-290259F47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6BB4-AFD3-4C79-8F25-C5D44E2F5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96ED-0EE5-4A7E-BBA0-D4B72AFF9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C76D-0CFF-4DA4-B334-7F562BF3D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2CF0-798A-4B4D-A38B-D0EE20946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804D-6724-4BF1-BD98-42F15BFA5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V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-SEASON CBS SERIES FEATURED BOB NEWHART AFTER "THE BOB NEWHART SHOW" AND "NEWHAR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62120" y="762120"/>
            <a:ext cx="76197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BS SERIES ABOUT FORENSICS RAN FOR 15 SEASON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447920" y="762120"/>
            <a:ext cx="6248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BS NAVAL LEGAL SERIES RAN FOR 10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BC SERIES ABOUT AN ALIEN NAMED GORDON SHUMWAY AIRED FOR 4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628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O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28880" y="77148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BS SERIES ABOUT VIOLENT ANIMAL ATTACKS AIRED FOR 3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9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X SERIES ABOUT FIRST RESPONDERS STARTS ITS FOURTH SEASON IN FALL 2020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76240" y="75240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BS SHOW ABOUT AN ALCOHOLIC MOTHER AND DAUGHTER STARTS ITS EIGHTH SEASON IN 2018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YNDICATED TV SERIES STARRING PAMELA ANDERSON AS AN INEPT BODYGUARD RAN FOR 4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BS SERIES ABOUT FORENSICS RAN FOR 15 SEASON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P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80880" y="760320"/>
            <a:ext cx="838224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6-2017 FOX SERIES WAS ABOUT A BILLIONAIRE RUNNING A POLICE ST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00280" y="762120"/>
            <a:ext cx="75438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-SEASON CBS SERIES FEATURED BOB NEWHART AFTER "THE BOB NEWHART SHOW" AND "NEWHAR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VE  EXACTLY  3  LET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409760" y="761760"/>
            <a:ext cx="6324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BS NAVAL LEGAL SERIES RAN FOR 10 SEAS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BC SERIES ABOUT AN ALIEN NAMED GORDON SHUMWAY AIRED FOR 4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BS SERIES ABOUT VIOLENT ANIMAL ATTACKS AIRED FOR 3 SEAS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14400" y="723960"/>
            <a:ext cx="7315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X SERIES ABOUT FIRST RESPONDERS STARTS ITS FOURTH SEASON IN FALL 2020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BS SHOW ABOUT AN ALCOHOLIC MOTHER AND DAUGHTER STARTS ITS EIGHTH SEASON IN 2020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YNDICATED TV SERIES STARRING PAMELA ANDERSON AS AN INEPT BODYGUARD RAN FOR 4 SEAS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6-2017 FOX SERIES WAS ABOUT A BILLIONAIRE RUNNING A POLICE ST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7:36:43Z</dcterms:created>
  <dc:creator>Jennifer Budzinski</dc:creator>
  <dc:description/>
  <dc:language>en-US</dc:language>
  <cp:lastModifiedBy>Erich Friedman</cp:lastModifiedBy>
  <dcterms:modified xsi:type="dcterms:W3CDTF">2020-08-25T13:46:19Z</dcterms:modified>
  <cp:revision>337</cp:revision>
  <dc:subject/>
  <dc:title>Slide 1</dc:title>
</cp:coreProperties>
</file>