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F93B-62FD-48DA-ADB6-14DF24A85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9482-92CD-456E-8979-769BC758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04D1-FC31-4721-9CC6-210E29630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A49-B1D5-4611-A589-93B2696F9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DD53-8077-4827-B465-C1D507306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7940-1D60-4149-BAF7-2CF3F0B7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DD8F-6AFB-4FDC-B48E-925284813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CEBE-00FB-4A5D-86C9-313E1137D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7683-18ED-4304-BB3E-9C6858D1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B5F7-1C01-4602-9536-C7EAD3296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204B-A39C-41B5-9FB2-5DDDC9CD4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F8E4-76C6-4221-86A2-CD636CA28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AFD8-F17C-4F00-AEB6-2B9BBC76D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2483-CDDC-435E-9F20-8C1881A6A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D6D4-0C01-46E2-A0D2-CD831830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ADA6-64D8-483F-AC05-E85939392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E70D-F7C4-44BC-8999-753F2CC58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4B7-11C0-4F00-B883-5B307107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3E14-A214-4589-BF23-E64B4CD7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DB31-3887-4AEE-9DE2-38486EC3A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7904-B04D-453F-83D8-00B44B7A1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6804-3583-47E5-B30C-D039C217A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A071-B329-47D4-B74D-44DFB35B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CBS SERIES FEATURED BOB NEWHART AFTER "THE BOB NEWHART SHOW" AND "NEWHA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FORENSICS RAN FOR 15 SEASO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NAVAL LEGAL SERIES RAN FOR 10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ERIES ABOUT AN ALIEN NAMED GORDON SHUMWAY AIR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7148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VIOLENT ANIMAL ATTACKS AIRED FOR 3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ERIES ABOUT FIRST RESPONDERS STARTS ITS FOURTH SEASON IN FALL 2020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524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ABOUT AN ALCOHOLIC MOTHER AND DAUGHTER STARTS ITS EIGHTH SEASON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NDICATED TV SERIES STARRING PAMELA ANDERSON AS AN INEPT BODYGUARD RAN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FORENSICS RAN FOR 15 SEASO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0320"/>
            <a:ext cx="83822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17 FOX SERIES WAS ABOUT A BILLIONAIRE RUNNING A POLICE S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0280" y="762120"/>
            <a:ext cx="7543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-SEASON CBS SERIES FEATURED BOB NEWHART AFTER "THE BOB NEWHART SHOW" AND "NEWHA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EXACTLY  3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NAVAL LEGAL SERIES RAN FOR 10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SERIES ABOUT AN ALIEN NAMED GORDON SHUMWAY AIRED FOR 4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ERIES ABOUT VIOLENT ANIMAL ATTACKS AIRED FOR 3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23960"/>
            <a:ext cx="7315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ERIES ABOUT FIRST RESPONDERS STARTS ITS FOURTH SEASON IN FALL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ABOUT AN ALCOHOLIC MOTHER AND DAUGHTER STARTS ITS EIGHTH SEASON IN 2020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YNDICATED TV SERIES STARRING PAMELA ANDERSON AS AN INEPT BODYGUARD RAN FOR 4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-2017 FOX SERIES WAS ABOUT A BILLIONAIRE RUNNING A POLICE S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7:36:43Z</dcterms:created>
  <dc:creator>Jennifer Budzinski</dc:creator>
  <dc:description/>
  <dc:language>en-US</dc:language>
  <cp:lastModifiedBy>Erich Friedman</cp:lastModifiedBy>
  <dcterms:modified xsi:type="dcterms:W3CDTF">2020-08-25T13:46:19Z</dcterms:modified>
  <cp:revision>337</cp:revision>
  <dc:subject/>
  <dc:title>Slide 1</dc:title>
</cp:coreProperties>
</file>