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62BD-03FC-4B75-8379-38786F012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8C9A-EB45-4445-846C-72BF9F469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63D8-61D0-41DD-8DA0-836710C99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7CA3-7B9F-4297-853F-232CB5900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A778-9852-4A44-BDEB-43EB7743D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3C8F-453A-4C5D-9764-277F32A3B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F750-3013-4D3C-B7AB-ED859502D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555C-139F-446A-8C70-1CD44AD8A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D4C4-1C97-4481-A162-C0C09C93B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EB70-B999-4793-89D1-9B6193913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1E2F-588E-42B9-8C31-23C4C2471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DF19-2125-49DB-AC9C-26549ABF8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AF61-0F06-46F3-90DA-E00126DAA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C49D-C23E-424E-A424-E199A3260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FAD7-B48C-4A50-87D2-F6D434E44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B821-62D2-4F97-95E0-FEF70F35B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8FED-31C7-46E2-AB29-87D298070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72A6-432F-4A40-9AD2-9B11226D6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D0F1-352F-4316-AD7B-913F6123E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7B74-851D-4C5D-AC9D-7D820FAC5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FA0D-4E5F-437C-8D66-10FC8652D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72E2-5D21-457B-97B4-84753F52B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ED36-593B-402D-8CA8-CADE68A4D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V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-SEASON CBS SERIES FEATURED BOB NEWHART AFTER "THE BOB NEWHART SHOW" AND "NEWHAR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BS SERIES ABOUT FORENSICS RAN FOR 15 SEASON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447920" y="762120"/>
            <a:ext cx="6248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BS NAVAL LEGAL SERIES RAN FOR 10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C SERIES ABOUT AN ALIEN NAMED GORDON SHUMWAY AIRED FOR 4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628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28880" y="771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BS SERIES ABOUT VIOLENT ANIMAL ATTACKS AIRED FOR 3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9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X SERIES ABOUT FIRST RESPONDERS STARTS ITS FOURTH SEASON IN FALL 2020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524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BS SHOW ABOUT AN ALCOHOLIC MOTHER AND DAUGHTER STARTS ITS EIGHTH SEASON IN 2018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YNDICATED TV SERIES STARRING PAMELA ANDERSON AS AN INEPT BODYGUARD RAN FOR 4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BS SERIES ABOUT FORENSICS RAN FOR 15 SEASON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0320"/>
            <a:ext cx="83822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-2017 FOX SERIES WAS ABOUT A BILLIONAIRE RUNNING A POLICE ST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00280" y="762120"/>
            <a:ext cx="75438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-SEASON CBS SERIES FEATURED BOB NEWHART AFTER "THE BOB NEWHART SHOW" AND "NEWHAR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VE  EXACTLY  3  LET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409760" y="761760"/>
            <a:ext cx="6324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BS NAVAL LEGAL SERIES RAN FOR 10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C SERIES ABOUT AN ALIEN NAMED GORDON SHUMWAY AIRED FOR 4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BS SERIES ABOUT VIOLENT ANIMAL ATTACKS AIRED FOR 3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23960"/>
            <a:ext cx="7315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X SERIES ABOUT FIRST RESPONDERS STARTS ITS FOURTH SEASON IN FALL 2020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BS SHOW ABOUT AN ALCOHOLIC MOTHER AND DAUGHTER STARTS ITS EIGHTH SEASON IN 2020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YNDICATED TV SERIES STARRING PAMELA ANDERSON AS AN INEPT BODYGUARD RAN FOR 4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-2017 FOX SERIES WAS ABOUT A BILLIONAIRE RUNNING A POLICE ST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7:36:43Z</dcterms:created>
  <dc:creator>Jennifer Budzinski</dc:creator>
  <dc:description/>
  <dc:language>en-US</dc:language>
  <cp:lastModifiedBy>Erich Friedman</cp:lastModifiedBy>
  <dcterms:modified xsi:type="dcterms:W3CDTF">2020-08-25T13:46:19Z</dcterms:modified>
  <cp:revision>337</cp:revision>
  <dc:subject/>
  <dc:title>Slide 1</dc:title>
</cp:coreProperties>
</file>