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1C4C-94D2-4AE6-9C06-186D0F96F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4675-9EC7-4FC5-A58C-9CBCACDE7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9383-EF6C-4C0A-A296-C2661E9C5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69B8-BDD1-428E-B346-49552CBD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EC88-83AC-4C15-B7CE-BA77212D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B3C7-3D28-443B-9EDF-51CB4C6AF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3A8F-1707-4FE5-91C3-4BDC5D4C2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44D4-5013-410C-B59C-4DAB52154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2233-516A-4CA5-8D43-ABBADA04A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9545-2849-4B6B-9D2E-E0DF7295D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2AA4-72F9-4369-831B-9B00B050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33B8-2F5E-4439-AF97-F1475F116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730B-387F-4B60-9E7D-F352A2BE3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42F8-61F3-4762-A799-74F28F73F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5390-B67B-4C04-816D-F26A4D711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D4EC-9695-4448-813F-39572128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1D0F-3216-4A7B-839F-6C7C4E86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918B-701B-4CE4-B238-3B8B54AF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9553-CAFA-4140-9B7F-1011CADC8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0602-7299-4AB2-93F6-1D8D4B993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4FDC-9BD0-401F-97FE-E5935D92F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7F5E-0F4A-44AC-9C05-845930DA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D6F6-CF6D-4DCA-A28C-E2723F66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485D-8827-4D61-881B-A11147B7F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BOX OFFICE BOMB ABOUT A MOB TRIAL STARRED DEMI MOORE AND ALEC BALDW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7320" y="761760"/>
            <a:ext cx="882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FAR, RAJAB, AND RAMADAN ARE ARABIC WORDS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81040" y="762120"/>
            <a:ext cx="7981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STARRED MERYL STREEP, JULIANNE MOORE, AND NICOLE KIDMAN AS WOMEN CONNECTED BY  A VIRGINIA WOOLF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11120" y="762120"/>
            <a:ext cx="8319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THE LETTER "O", BY WHAT NAME WERE THE MAJOR GREEK GODS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  ZODIAC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12840" y="762120"/>
            <a:ext cx="8520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ALL BEING ANIMALS STARTING WITH "R", WHAT DO "RABBIT", "ROOSTER", AND "RAT"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31640" y="73836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BUDDY RICH BECAME FAMOUS AS A BANDLEADER, HE WAS AN ACCOMPLISH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03440" y="762120"/>
            <a:ext cx="773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CHEF HATS HAVE PLEATS EQUAL TO THE NUMBER OF WAYS THE CHEF CAN COOK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POS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54080" y="762120"/>
            <a:ext cx="8835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JESUS CHOOSE IN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MATTHEW,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MARK,  AND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LU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HES  (''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11240" y="762120"/>
            <a:ext cx="712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TATION USED FOR SECONDS OF AN ARC OR SECOND DERIVATIVES STANDS FOR WHAT IN TERMS OF LENG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U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9080" y="762120"/>
            <a:ext cx="7305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BOX OFFICE BOMB ABOUT A MOB TRIAL STARRED DEMI MOORE AND ALEC BALDW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60200" y="762120"/>
            <a:ext cx="8821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FAR, RAJAB, AND RAMADAN ARE ARABIC WORDS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243080" y="4952880"/>
            <a:ext cx="6657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ERE  ARE  12 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7800" y="762120"/>
            <a:ext cx="7988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 STARRED MERYL STREEP, JULIANNE MOORE, AND NICOLE KIDMAN AS WOMEN CONNECTED BY A VIRGINIA WOOLF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1280" y="7617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THE LETTER "O", BY WHAT NAME WERE THE MAJOR GREEK GODS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47760" y="762120"/>
            <a:ext cx="844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ALL BEING ANIMALS STARTING WITH "R", WHAT DO "RABBIT", "ROOSTER", AND "RAT"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BUDDY RICH BECAME FAMOUS AS A BANDLEADER, HE WAS AN ACCOMPLISH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CHEF HATS HAVE PLEATS EQUAL TO THE NUMBER OF WAYS THE CHEF CAN COOK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6680" y="761760"/>
            <a:ext cx="88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JESUS CHOOSE IN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MATTHEW,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MARK, AND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PTER OF LU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49400" y="761760"/>
            <a:ext cx="704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TATION USED FOR SECONDS OF AN ARC OR SECOND DERIVATIVES STANDS FOR WHAT IN TERMS OF LENG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22T20:24:45Z</dcterms:modified>
  <cp:revision>485</cp:revision>
  <dc:subject/>
  <dc:title>Slide 1</dc:title>
</cp:coreProperties>
</file>