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0839-4BF0-46B2-A97B-63D27CA32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C25F-DABA-40BE-9BD0-5120F552F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9435-6796-4C6B-B3D1-4C2E2F25C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9F4C-8EB9-4D73-B1F5-D789FFFD7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ED34-DBD9-4FE6-86F6-E53D2A7F0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6E69-D988-4378-A986-EE732364D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2C80-25D9-46C1-87C3-20B9D54C9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832B-B6E0-4418-B89D-27B98D3BD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DCEC-0090-45E3-88FD-E5777953E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7059-D0E8-497F-A68D-3A9BF17E0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7A38-A647-4F10-96DF-A071FDA3E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5B23-A92A-41B5-BB36-442A78207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062B-AC6A-41D0-BA6B-004EB570C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E64C-8C5D-4C61-8DB9-F62ED1D61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A52F-A4FF-4958-B532-CB25E41B0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0812-3290-42EE-A1EA-582410D1E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19A0-8AA5-4D50-99A0-00E79583A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7D00-03EC-4743-8B44-41ECFA8E5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081A-8D2B-442A-9DDF-FF7E4DB15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6F10-B7AF-404A-B225-96EA840C6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E160-EFB1-4AAD-9993-8D7A11B25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FF9D-8095-4477-AABC-376639A27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2255-B1C2-4360-8484-C702439C4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064F-C0D5-44E7-B39B-896FF7D99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BOX OFFICE BOMB ABOUT A MOB TRIAL STARRED DEMI MOORE AND ALEC BALDW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7320" y="761760"/>
            <a:ext cx="8829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FAR, RAJAB, AND RAMADAN ARE ARABIC WORDS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81040" y="762120"/>
            <a:ext cx="7981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 STARRED MERYL STREEP, JULIANNE MOORE, AND NICOLE KIDMAN AS WOMEN CONNECTED BY  A VIRGINIA WOOLF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YMP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11120" y="762120"/>
            <a:ext cx="8319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ING WITH THE LETTER "O", BY WHAT NAME WERE THE MAJOR GREEK GODS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ESE  ZODIAC 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12840" y="762120"/>
            <a:ext cx="8520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ALL BEING ANIMALS STARTING WITH "R", WHAT DO "RABBIT", "ROOSTER", AND "RAT"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31640" y="738360"/>
            <a:ext cx="828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BUDDY RICH BECAME FAMOUS AS A BANDLEADER, HE WAS AN ACCOMPLISH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03440" y="762120"/>
            <a:ext cx="7737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DITIONALLY, CHEF HATS HAVE PLEATS EQUAL TO THE NUMBER OF WAYS THE CHEF CAN COOK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POS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54080" y="762120"/>
            <a:ext cx="8835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JESUS CHOOSE IN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PTER OF MATTHEW,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PTER OF MARK,  AND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PTER OF LU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CHES  (''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011240" y="762120"/>
            <a:ext cx="712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TATION USED FOR SECONDS OF AN ARC OR SECOND DERIVATIVES STANDS FOR WHAT IN TERMS OF LENG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U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19080" y="762120"/>
            <a:ext cx="7305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BOX OFFICE BOMB ABOUT A MOB TRIAL STARRED DEMI MOORE AND ALEC BALDW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60200" y="762120"/>
            <a:ext cx="8821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FAR, RAJAB, AND RAMADAN ARE ARABIC WORDS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243080" y="4952880"/>
            <a:ext cx="6657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ERE  ARE  12 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7800" y="762120"/>
            <a:ext cx="7988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 STARRED MERYL STREEP, JULIANNE MOORE, AND NICOLE KIDMAN AS WOMEN CONNECTED BY A VIRGINIA WOOLF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41280" y="761760"/>
            <a:ext cx="8461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ING WITH THE LETTER "O", BY WHAT NAME WERE THE MAJOR GREEK GODS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47760" y="762120"/>
            <a:ext cx="8448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ALL BEING ANIMALS STARTING WITH "R", WHAT DO "RABBIT", "ROOSTER", AND "RAT"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840" y="762120"/>
            <a:ext cx="830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BUDDY RICH BECAME FAMOUS AS A BANDLEADER, HE WAS AN ACCOMPLISH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7240" y="761760"/>
            <a:ext cx="7769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DITIONALLY, CHEF HATS HAVE PLEATS EQUAL TO THE NUMBER OF WAYS THE CHEF CAN COOK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66680" y="761760"/>
            <a:ext cx="88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JESUS CHOOSE IN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PTER OF MATTHEW,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PTER OF MARK, AND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PTER OF LU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49400" y="761760"/>
            <a:ext cx="704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TATION USED FOR SECONDS OF AN ARC OR SECOND DERIVATIVES STANDS FOR WHAT IN TERMS OF LENG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22T20:24:45Z</dcterms:modified>
  <cp:revision>485</cp:revision>
  <dc:subject/>
  <dc:title>Slide 1</dc:title>
</cp:coreProperties>
</file>