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F333-345E-4CBC-BFE9-158796AC7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47B9-8301-4E66-9EBB-A97898D85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D4CF-687F-43BF-BC38-76BF45167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C46F-0E28-40B3-B70F-339F7CFC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7724-D03C-45DB-BB46-CE541B64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776-9D05-4C2F-A8A0-E637676C7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AFE4-5116-4120-8D7E-1E888655D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D8D6-10F2-4BB7-9D44-EA96B1DB3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BA66-5F1F-4E3F-A7B5-EB8D91FA5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A9EA-19DC-431F-AA74-0E9B609B3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F43-EDF3-47B4-AA34-240F2F2EE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B8A6-626C-49A9-AE1A-CE7912B7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D627-8268-40A9-BCDF-2F5BDC8C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9A0D-953A-426C-8BC8-1BA32A7E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6D77-FBB0-4DC2-B9C4-1698213AE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7C8D-BC0E-47C9-A575-D399656B8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BE06-0720-4405-9D2D-C8E6AAC13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5182-B5B1-4CB9-81ED-E1B16736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2E74-9138-4DD0-8DF4-DB5610C6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7E20-D031-4268-859B-0B6F0B1B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51A-C0D4-43FC-B283-492EA2E7C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8AAA-AD33-468D-93AC-B0EC2316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0280-C341-4997-B9C2-E4B019FED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AT TYPE OF CRAFT WAS MANNED BY 2% OF  NAVAL PERSONNEL BUT ACCOUNTED FOR 55% OF THE ENEMY SHIPS DESTRO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RIGINALLY SUNG BY LITTLE WILLIE JOHN BECAME THE SIGNATURE SONG OF PEGGY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0000" y="762120"/>
            <a:ext cx="734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BOX OFFICE BOMB STARRED JENNIFER ANISTON AS A WOMAN ADDICTED TO PAIN M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39840" y="762120"/>
            <a:ext cx="8504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CI-FI AUTHOR OF "ENDER'S GAME" AND "SPEAKER FOR THE DEAD", BOTH OF WHICH WON HUGO AND NEBULA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1640" y="738360"/>
            <a:ext cx="828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2610000" y="1927080"/>
            <a:ext cx="3924000" cy="28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7160" y="762120"/>
            <a:ext cx="868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JOAQUIN PHOENIX'S ACTOR BROTHER, WHO DIED OF A DRUG OVERDOSE AT AGE 2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APPLE'S WORD PROCES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MMA)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9600" y="762120"/>
            <a:ext cx="85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BEST ACTRESS FOR "LA LA 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RIGINALLY SUNG BY LITTLE WILLIE JOHN BECAME THE SIGNATURE SONG OF PEGGY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3120" y="762120"/>
            <a:ext cx="7996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CLOTHING FROM MICHAEL JACKSON'S "THRILLER" VIDEO WAS SOLD IN 2011 FOR $1.8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39560" y="762120"/>
            <a:ext cx="828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AT TYPE OF CRAFT WAS MANNED BY 2% OF  NAVAL PERSONNEL BUT ACCOUNTED FOR 55% OF THE ENEMY SHIPS DESTRO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4952880"/>
            <a:ext cx="7848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YELLO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BOX OFFICE BOMB STARRED JENNIFER ANISTON AS A WOMAN ADDICTED TO PAIN ME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CI-FI AUTHOR OF "ENDER'S GAME" AND "SPEAKER FOR THE DEAD", BOTH OF WHICH WON HUGO AND NEBULA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610000" y="1927080"/>
            <a:ext cx="3924000" cy="28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JOAQUIN PHOENIX'S ACTOR BROTHER, WHO DIED OF A DRUG OVERDOSE AT AGE 2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PPLE'S WORD PROCESS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BEST ACTRESS FOR "LA LA 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CLOTHING FROM MICHAEL JACKSON'S "THRILLER" VIDEO WAS SOLD IN 2011 FOR $1.8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22T05:42:03Z</dcterms:modified>
  <cp:revision>483</cp:revision>
  <dc:subject/>
  <dc:title>Slide 1</dc:title>
</cp:coreProperties>
</file>