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5C3D-960F-47A8-87F9-672D870FB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5715-FFDB-42E4-8CF0-9E9AA64CD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6286-19D5-46C2-93FC-CF2135AAB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8521-CE56-423F-AAA9-482F9B146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8A68-BEFD-4260-84CD-A3FBD98C5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AD05-D9CD-41D1-8C9D-B12BC05C1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F905-E767-456C-87BB-B6F4EE8FF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289B-FCE9-4802-99E6-01E8744E5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0E53-D00A-48CE-BD71-635E37986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C1D3-8065-4D09-8B85-6B082588E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1D17-CC2A-4BEE-8069-458F52048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D924-50A2-462B-A084-C6362A025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8597-2B83-44BB-A4B7-41F15770F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F91D-0B06-4056-94DB-D5909ECF4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0699-FCDD-455C-BBC1-93AE2B9A7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BD8B-6AAF-4DBF-91E2-F0B1D36B9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BADD-2B6B-42A7-9823-2182D4BC0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6479-08F7-4859-B0EA-7EF27B8AD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115A-1367-4DBD-AADA-DDF4193DD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B622-7F47-4B49-8D4B-8DB7AD6B4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DE18-BB93-4DF9-AB3D-44C615941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8173-71D0-4729-90C4-2DFC2A5E3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6A75-D2BB-4440-A4B8-04915AD72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03280" y="761760"/>
            <a:ext cx="8136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WII, WHAT TYPE OF CRAFT WAS MANNED BY 2% OF  NAVAL PERSONNEL BUT ACCOUNTED FOR 55% OF THE ENEMY SHIPS DESTROY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90400" y="762120"/>
            <a:ext cx="7963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ORIGINALLY SUNG BY LITTLE WILLIE JOHN BECAME THE SIGNATURE SONG OF PEGGY L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900000" y="762120"/>
            <a:ext cx="7344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BOX OFFICE BOMB STARRED JENNIFER ANISTON AS A WOMAN ADDICTED TO PAIN ME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RSON  SCOTT)  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39840" y="762120"/>
            <a:ext cx="8504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CI-FI AUTHOR OF "ENDER'S GAME" AND "SPEAKER FOR THE DEAD", BOTH OF WHICH WON HUGO AND NEBULA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31640" y="738360"/>
            <a:ext cx="8280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2610000" y="1927080"/>
            <a:ext cx="3924000" cy="287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27160" y="762120"/>
            <a:ext cx="8689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JOAQUIN PHOENIX'S ACTOR BROTHER, WHO DIED OF A DRUG OVERDOSE AT AGE 2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34960" y="762120"/>
            <a:ext cx="8074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 APPLE'S WORD PROCESS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EMMA)  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09600" y="762120"/>
            <a:ext cx="8523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WON BEST ACTRESS FOR "LA LA 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57280" y="762120"/>
            <a:ext cx="8029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ORIGINALLY SUNG BY LITTLE WILLIE JOHN BECAME THE SIGNATURE SONG OF PEGGY L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3120" y="762120"/>
            <a:ext cx="7996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ECE OF CLOTHING FROM MICHAEL JACKSON'S "THRILLER" VIDEO WAS SOLD IN 2011 FOR $1.8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39560" y="762120"/>
            <a:ext cx="8288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WII, WHAT TYPE OF CRAFT WAS MANNED BY 2% OF  NAVAL PERSONNEL BUT ACCOUNTED FOR 55% OF THE ENEMY SHIPS DESTROY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647640" y="49528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"YELLOW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57080" y="761760"/>
            <a:ext cx="7629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BOX OFFICE BOMB STARRED JENNIFER ANISTON AS A WOMAN ADDICTED TO PAIN ME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47680" y="762120"/>
            <a:ext cx="8648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CI-FI AUTHOR OF "ENDER'S GAME" AND "SPEAKER FOR THE DEAD", BOTH OF WHICH WON HUGO AND NEBULA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0840" y="762120"/>
            <a:ext cx="8302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610000" y="1927080"/>
            <a:ext cx="3924000" cy="28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6360" y="761760"/>
            <a:ext cx="853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JOAQUIN PHOENIX'S ACTOR BROTHER, WHO DIED OF A DRUG OVERDOSE AT AGE 2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54040" y="761760"/>
            <a:ext cx="803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PPLE'S WORD PROCESS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63600" y="761760"/>
            <a:ext cx="841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WON BEST ACTRESS FOR "LA LA 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81040" y="762120"/>
            <a:ext cx="7981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ECE OF CLOTHING FROM MICHAEL JACKSON'S "THRILLER" VIDEO WAS SOLD IN 2011 FOR $1.8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22T05:42:03Z</dcterms:modified>
  <cp:revision>483</cp:revision>
  <dc:subject/>
  <dc:title>Slide 1</dc:title>
</cp:coreProperties>
</file>