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E118-3C6B-4D3F-BEDE-F7ED917D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B143-CF1F-4568-9629-110EB57BC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5FA5-D846-4C29-A42C-5661F618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919E-E603-4BBA-954F-F368FC259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6960-9C5B-4C6A-83AF-247532B3F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194B-1F5D-406D-A31D-5A1FE1CE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21A2-717E-4DAF-BCED-65C79D592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32C6-BA8B-48B3-B324-06DB6619D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4C1A-6937-4198-9B8A-CEFD22BAD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2016-ADE7-4A28-928B-3F83B7112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4ECF-F82F-47DA-9D88-4BE0549CB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AC75-E5CF-4613-86CD-76ED009E2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894B-77BA-4FDE-8B88-C72D6E482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4F9B-9CED-488C-81D7-1F8F8CF9D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512-2B7A-46BB-80A4-3D6842D3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52C-E544-45D0-B5F3-D34BA0D9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2C8C-EF76-4811-B969-48D93703E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F0DB-B3E1-4F84-93B0-A7540562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8C9-480E-42B5-83F3-09E2172C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6AE7-74C2-4F2C-862C-66E1E54AE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B4CF-ED5D-4715-BC92-E43EA507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EC29-A9C8-45C6-B175-3C7FD4699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8822-C17F-4A9A-A207-2C34DB03A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&amp;G ALBUM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198960" y="2055960"/>
            <a:ext cx="2746080" cy="27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ASINO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7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ARTIST HAS HAD A RECORD 41 TOP-10 COUNTRY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 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92000" y="762120"/>
            <a:ext cx="75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CONNECTICUT WAS THE FIRST U.S. STATE TO PASS WHAT SORT OF LAW FOR MOTOR VEHI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1640" y="73836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STARTED IN 1959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3127320" y="2590920"/>
            <a:ext cx="2889360" cy="23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76200" y="762120"/>
            <a:ext cx="8391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 OF THE TITLE OF THIS 1994 WOODY ALLEN FILM: "____ OVER BROAD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  ST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7760" y="762120"/>
            <a:ext cx="8988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ING EQUIPMENT DO BAUER, EASTON, CCM, AND WARRIOR 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230480" y="762120"/>
            <a:ext cx="668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DID TELLY SAVALAS PLAY ON TV FOR 5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6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ASINO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42880" y="762120"/>
            <a:ext cx="805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95240" y="762120"/>
            <a:ext cx="755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&amp;G ALBUM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98960" y="2055960"/>
            <a:ext cx="2746080" cy="274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47640" y="3809880"/>
            <a:ext cx="7848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HANDS  IN  TEXAS  HOLD'EM  POKER        (AJ, 95, 55, J5, AA, 77, KJ, KK, 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9560" y="761760"/>
            <a:ext cx="718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ARTIST HAS HAD A RECORD 41 TOP-10 COUNTRY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00200" y="762120"/>
            <a:ext cx="7742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CONNECTICUT WAS THE FIRST U.S. STATE TO PASS WHAT SORT OF LAW FOR MOTOR VEHI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STARTED IN 1959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3127320" y="2590920"/>
            <a:ext cx="2889360" cy="23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 OF THE TITLE OF THIS 1994 WOODY ALLEN FILM: "____ OVER BROAD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240" y="761760"/>
            <a:ext cx="9063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ING EQUIPMENT DO BAUER, EASTON, CCM, AND WARRIOR M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2240" y="761760"/>
            <a:ext cx="6777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DID TELLY SAVALAS PLAY ON TV FOR 5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THAT HAD 20 CONSECUTIVE WINNING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0T12:52:09Z</dcterms:modified>
  <cp:revision>477</cp:revision>
  <dc:subject/>
  <dc:title>Slide 1</dc:title>
</cp:coreProperties>
</file>