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472-66ED-4070-B437-13F5E286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F4A5-AC8F-430F-830F-E61B7E1C9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A5C4-6D2D-4A5E-9377-85838FA6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9693-2E8F-4920-B555-E46269A66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C775-3BD9-4D2E-9889-9EB19322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C5D0-6BE6-4AD1-9771-BC6696D0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CF0A-CBD9-423B-8054-80223FBC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6D8B-94F1-4871-AC35-B13B0826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183B-8324-4B92-860C-A8468D70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B859-E1B4-4A49-AC70-23BB82B2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057-AA06-4CE1-B4E1-0FC14C7C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F268-5E51-40FA-B8C7-24A73084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1299-202A-4478-A73C-823B83ED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38B-D4E7-4330-94CA-C45BE3F7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1C8E-3B04-4F55-98B8-188881E7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756E-61A3-4788-BA6F-31CF50F6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53B6-CD06-4A37-A43F-E918E885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A5A-04CE-473E-B2E0-CDC151A4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AEC8-1E06-4B88-B982-A48C8EB39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C775-38E0-4806-A8DB-67AF1F5A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A649-6E24-480B-8252-0CF68759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6385-4636-44C4-9417-2F3CB7E2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870-853B-414B-84C7-924C5AAD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&amp;G ALBUM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198960" y="2055960"/>
            <a:ext cx="2746080" cy="27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ASINO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7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ARTIST HAS HAD A RECORD 41 TOP-10 COUNTRY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 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92000" y="762120"/>
            <a:ext cx="75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CONNECTICUT WAS THE FIRST U.S. STATE TO PASS WHAT SORT OF LAW FOR MOTOR VEH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STARTED IN 1959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127320" y="2590920"/>
            <a:ext cx="288936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E TITLE OF THIS 1994 WOODY ALLEN FILM: "____ OVER BROAD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  ST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7760" y="762120"/>
            <a:ext cx="898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ING EQUIPMENT DO BAUER, EASTON, CCM, AND WARRIOR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230480" y="762120"/>
            <a:ext cx="668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DID TELLY SAVALAS PLAY ON TV FOR 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ASINO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95240" y="762120"/>
            <a:ext cx="75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&amp;G ALBUM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98960" y="2055960"/>
            <a:ext cx="2746080" cy="27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47640" y="3809880"/>
            <a:ext cx="7848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HANDS  IN  TEXAS  HOLD'EM  POKER        (AJ, 95, 55, J5, AA, 77, KJ, KK, 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ARTIST HAS HAD A RECORD 41 TOP-10 COUNTRY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0200" y="762120"/>
            <a:ext cx="7742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CONNECTICUT WAS THE FIRST U.S. STATE TO PASS WHAT SORT OF LAW FOR MOTOR VEH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STARTED IN 1959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127320" y="2590920"/>
            <a:ext cx="288936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E TITLE OF THIS 1994 WOODY ALLEN FILM: "____ OVER BROAD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240" y="761760"/>
            <a:ext cx="9063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ING EQUIPMENT DO BAUER, EASTON, CCM, AND WARRIOR 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2240" y="761760"/>
            <a:ext cx="6777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DID TELLY SAVALAS PLAY ON TV FOR 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HAD 20 CONSECUTIVE WINNING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2:52:09Z</dcterms:modified>
  <cp:revision>477</cp:revision>
  <dc:subject/>
  <dc:title>Slide 1</dc:title>
</cp:coreProperties>
</file>