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AB70-4C3D-434E-9B95-099458E87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05FE-1D81-4D03-987C-B100B6C95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8017-00A5-45E2-8FB1-B0BF01D26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B6B2-97D3-47C7-8E5A-1CEE6FBB7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6E0C-D3B6-4F1C-B633-FDBA63974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B303-0923-45E2-9983-FE9308EFC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1E0B-D014-492A-A023-0D5723777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3C3E-3327-4331-898B-BDE016F42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6B51-5224-4AF4-AD3B-5D2805698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53F3-BA7E-49FA-B75A-F799E5F29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7C556-5902-4795-BB17-E1EAE9021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73CC-393A-426D-867F-B503B9677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ACFD-3A2E-440E-9580-5C60C5886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B64F-6ABC-41A0-AE48-2E3CA1A70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8BA1-41DA-453A-BE4F-AE5DDE2F3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7B01-D87A-40EB-81F3-A0446468D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F956-99AB-49CC-9082-A06F49B33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82C8-9C41-4777-8EA6-5EB12E521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1C01-5193-4BC3-892B-BB8515238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37F2-FCA2-4E9C-9249-0F1CCA3AF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B60C-C90B-46E1-915F-17787DE39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2EA0-CB02-4220-A657-8AF3AAF02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90B4-AE29-4B64-9EA6-2FCC3BB78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12840" y="791640"/>
            <a:ext cx="851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S ACCOMPANY THE FOLLOWING T-SHIRT DESIG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192560" y="2813040"/>
            <a:ext cx="1727280" cy="175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331920" y="2819520"/>
            <a:ext cx="3673440" cy="1741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6097680" y="2819520"/>
            <a:ext cx="265428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47680" y="762120"/>
            <a:ext cx="864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ALE WITCH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T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95440" y="762120"/>
            <a:ext cx="795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LING STONES SONG CONTAINS THE LYRICS "WORK AND WORK FOR  LOVE AND SEX / AIN'T YOU HUNGRY FOR SUCC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47560" y="762120"/>
            <a:ext cx="804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STARRED JIM CARREY AS A BANK TELLER WHO IS TRANSFORMED INTO A MISCHIEVOUS GANG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31640" y="738360"/>
            <a:ext cx="828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K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098880" y="1905120"/>
            <a:ext cx="2946240" cy="289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D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76200" y="762120"/>
            <a:ext cx="8391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6:00 PM IN HAWAII, WHAT TIME IS IT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30040" y="762120"/>
            <a:ext cx="8683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AMPA BAY PRO HOCKEY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VER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071720" y="762120"/>
            <a:ext cx="6999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THAT POE'S RAVEN SAYS IN HIS FAMOUS PO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41200" y="762120"/>
            <a:ext cx="8661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ALE WITCH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LO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42880" y="762120"/>
            <a:ext cx="8058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ORMULA                     1/𝜸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= 1–v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c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ROM THE THEORY OF RELATIVITY, WHAT DOES v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  IS 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22200" y="762120"/>
            <a:ext cx="849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S ACCOMPANY THE FOLLOWING T-SHIRT DESIG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203720" y="2773440"/>
            <a:ext cx="1727280" cy="1758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341280" y="2779560"/>
            <a:ext cx="3673440" cy="1741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6108840" y="2779560"/>
            <a:ext cx="2654280" cy="17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243080" y="4876920"/>
            <a:ext cx="665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KS  BY  DEAN  KOON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4800" y="761760"/>
            <a:ext cx="793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LING STONES SONG CONTAINS THE LYRICS "WORK AND WORK FOR  LOVE AND SEX / AIN'T YOU HUNGRY FOR SUCC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17400" y="762120"/>
            <a:ext cx="7909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STARRED JIM CARREY AS A BANK TELLER WHO IS TRANSFORMED INTO A MISCHIEVOUS GANG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0840" y="762120"/>
            <a:ext cx="830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K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075120" y="1957320"/>
            <a:ext cx="299376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6360" y="761760"/>
            <a:ext cx="853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6:00 PM IN HAWAII, WHAT TIME IS IT IN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5000" y="761760"/>
            <a:ext cx="887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AMPA BAY PRO HOCKEY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49400" y="761760"/>
            <a:ext cx="704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THAT POE'S RAVEN SAYS IN HIS FAMOUS PO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ORMULA                     1/𝜸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= 1–v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c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ROM THE THEORY OF RELATIVITY, WHAT DOES v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0T12:59:52Z</dcterms:modified>
  <cp:revision>479</cp:revision>
  <dc:subject/>
  <dc:title>Slide 1</dc:title>
</cp:coreProperties>
</file>