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BC6-4632-4971-A471-50583CF4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06ED-730F-483E-AB46-391DEFF6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2AA8-0EE0-457B-B288-CCE61400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CA4-9422-47D3-81F8-9FA2CEFB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EDA-1FF7-42CF-8D1D-763A75FD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76D2-AD76-401F-A8D2-46F438DB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83E-1B2A-4050-BD1B-F1C2A239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209-F79F-4421-99D6-B712960C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22E-68A7-45DA-B81B-300BE30B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2EB0-1754-4E8E-AF64-3F6E860E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47D-929B-4B3A-9089-D0CFA0E5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67AC-4A0D-4582-B370-BB6503A3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F6E-09ED-4B96-A668-44212EFF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4DB3-E2EB-412D-80C6-93AA9BCA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573-6A07-4436-A6FD-6B48A778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C1D-0C7B-4A67-A6D6-AE98222D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3FA-F921-4ED0-84F5-765E09CB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76E-DBBB-4094-800E-272FCCA9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523-F826-48BA-9C2A-7C4C9A0C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3EC-3038-41D1-B30E-76E88DE4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F249-B566-4B57-9AD0-D6C4A4A4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3BD-31DA-4B7E-AE35-2DEE1174D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A09-0E88-478B-A636-EE2354B8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12840" y="791640"/>
            <a:ext cx="851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CCOMPANY THE FOLLOWING T-SHIRT DE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92560" y="2813040"/>
            <a:ext cx="1727280" cy="175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31920" y="2819520"/>
            <a:ext cx="3673440" cy="174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6097680" y="2819520"/>
            <a:ext cx="26542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T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5440" y="762120"/>
            <a:ext cx="795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CONTAINS THE LYRICS "WORK AND WORK FOR  LOVE AND SEX / AIN'T YOU HUNGRY FOR SUC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47560" y="762120"/>
            <a:ext cx="804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IM CARREY AS A BANK TELLER WHO IS TRANSFORMED INTO A MISCHIEVOUS GANG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098880" y="1905120"/>
            <a:ext cx="294624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6:00 PM IN HAWAII, WHAT TIME IS IT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30040" y="762120"/>
            <a:ext cx="868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MPA BAY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71720" y="762120"/>
            <a:ext cx="699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THAT POE'S RAVEN SAYS IN HIS FAMOUS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1200" y="762120"/>
            <a:ext cx="866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                    1/𝜸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1–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ROM THE THEORY OF RELATIVITY, WHAT DOES v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IS 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22200" y="762120"/>
            <a:ext cx="849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CCOMPANY THE FOLLOWING T-SHIRT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03720" y="2773440"/>
            <a:ext cx="1727280" cy="1758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41280" y="2779560"/>
            <a:ext cx="3673440" cy="174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108840" y="2779560"/>
            <a:ext cx="2654280" cy="17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243080" y="4876920"/>
            <a:ext cx="665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S  BY  DEAN  KOO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CONTAINS THE LYRICS "WORK AND WORK FOR  LOVE AND SEX / AIN'T YOU HUNGRY FOR SUC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7400" y="762120"/>
            <a:ext cx="790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IM CARREY AS A BANK TELLER WHO IS TRANSFORMED INTO A MISCHIEVOUS GANG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75120" y="1957320"/>
            <a:ext cx="29937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6:00 PM IN HAWAII, WHAT TIME IS IT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MPA BAY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9400" y="761760"/>
            <a:ext cx="704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THAT POE'S RAVEN SAYS IN HIS FAMOUS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                    1/𝜸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1–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ROM THE THEORY OF RELATIVITY, WHAT DOES v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2:59:52Z</dcterms:modified>
  <cp:revision>479</cp:revision>
  <dc:subject/>
  <dc:title>Slide 1</dc:title>
</cp:coreProperties>
</file>