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21CF-EC72-4BEE-B4D3-DA6865E7A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11FE-DD8E-46B8-9863-34880EC28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BA95-EC50-4FEA-8F52-51AA2922A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702C-BBED-418D-A219-42F2A0441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AD6B-CAC4-4A07-9673-002AEB5BE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2585-9C25-4447-B971-02C8E4562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D648-D9A0-4199-A8E5-4D67A740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FC69-030E-4539-B869-0DBB22D0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BEE7-197A-41C7-85C3-7053708A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0163-0EBF-4A1B-B95A-56AE8D047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F69D-5078-4CB3-BA08-29349555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1B0-8905-4D15-88A5-5F6FA0B12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7805-BB79-400D-B63A-F2A0C5718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6C6B-C8AC-40EA-8C4D-570A1C538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158-6F29-4031-8035-A406CA903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01D1-621A-41F1-8CDD-DBCE96318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314A-A1B8-41F6-808C-159B694A2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7505-CBE0-4775-B29D-01078BF0C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C0F8-1371-409B-91AD-651114F3D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274B-6903-4EE4-8E25-774572FCE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3DCF-1E3D-4CA2-8D89-93A1EF8CE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74B-B859-4BD8-A77D-08A3B3D3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269A-4EA8-495E-9202-85D3EF516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99072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ELEMENT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32040" y="761760"/>
            <a:ext cx="727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THE MOST COMMON ELEMENT ON EARTH BY M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ELEMEN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THE SAME NAME AS A PLA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1560" y="762120"/>
            <a:ext cx="739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5% OF WHAT ELEMENT IS USED IN THE PRODUCTION OF FERTILIZ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1400" y="762120"/>
            <a:ext cx="725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ETAL TO BE CAST INTO SHAPE WITH A MOLD, AND THE FIRST TO BE ALLOYED WITH ANOTHER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03200" y="762120"/>
            <a:ext cx="833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COMBINED WITH HYDROGEN AND OXYGEN TO PRODUCE L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6200" y="762120"/>
            <a:ext cx="78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THE MAIN INGREDIENT IN PEW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92120" y="762120"/>
            <a:ext cx="8132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AND REFLEC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6640" y="762120"/>
            <a:ext cx="693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RADIOACTIVE URANIUM DECAYS, WHAT STABLE ELEMENT IS EVENTUALLY CRE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THE SAME NAME AS A PLA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7720" y="762120"/>
            <a:ext cx="8188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AND DUCTILE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0640" y="762120"/>
            <a:ext cx="7361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THE MOST COMMON ELEMENT ON EARTH BY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0200" y="3809880"/>
            <a:ext cx="7743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CHEMICAL  SYMBOLS  START  WITH  DIFFERENT  LETTERS  THAN  THEIR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19040" y="762120"/>
            <a:ext cx="830592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ELEMENT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7560" y="761760"/>
            <a:ext cx="750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95% OF WHAT ELEMENT IS USED IN THE PRODUCTION OF FERTILIZ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1840" y="762120"/>
            <a:ext cx="742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ETAL TO BE CAST INTO SHAPE WITH A MOLD, AND THE FIRST TO BE ALLOYED WITH ANOTHER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71040" y="762120"/>
            <a:ext cx="779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COMBINED WITH HYDROGEN AND OXYGEN TO PRODUCE L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7240" y="761760"/>
            <a:ext cx="776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IS THE MAIN INGREDIENT IN PEW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7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HAS THE HIGHEST ELECTRICAL CONDUCTIVITY, THERMAL CONDUCTIVITY,  AND REFLEC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69840" y="761760"/>
            <a:ext cx="720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RADIOACTIVE URANIUM DECAYS, WHAT STABLE ELEMENT IS EVENTUALLY CRE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AND DUCTILE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1T13:59:20Z</dcterms:modified>
  <cp:revision>491</cp:revision>
  <dc:subject/>
  <dc:title>Slide 1</dc:title>
</cp:coreProperties>
</file>