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FD51-8A56-4C4E-B981-1CC94EA5F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8EF6-FF1D-4ACD-B4A2-E2F4BC00B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8222-2D2A-48C8-836B-AE41EB609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8116-5C74-4312-8B80-38D3513DD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D7B0-32BA-4D74-9E99-68A81D693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05E4-5426-44AA-80DC-9AE4A4527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2DD5-8B92-41BD-9594-554312E5B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F119-C1CA-47EA-9710-F1D7C4AAA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7512-B7B9-4CFF-B297-A6AE5662F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5B13-032A-45B2-A563-4380424BE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6F33-5F8C-4F43-9C0D-535F9147D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CF91-F745-407F-923B-7A6207221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80E7-CF7E-4FA0-BEBD-17E3E8B51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4AC9-F390-46AC-9C9F-C801A49BB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39EA-CA3F-4B5B-9FB7-5DD66D4A2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66C9-C77D-4CFE-843A-312261895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FC98-AEB2-4861-B96E-5B83A7C19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0E33-E24F-40C4-A479-A8841FA52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F042-D8BA-4CFB-80CC-231DB9C17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BF5C-F655-4FEF-8FA0-35E54EE41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AAA4-6F7F-4250-AD93-2A8C673E9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086A-D36B-469B-869A-E37F844E9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6997-B7BA-48C3-A322-CC2415C3E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99072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EMICAL ELEMENT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32040" y="761760"/>
            <a:ext cx="7279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IS THE MOST COMMON ELEMENT ON EARTH BY MA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ELEMENT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HAS THE SAME NAME AS A PLAN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-38160" y="495288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TASS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71560" y="762120"/>
            <a:ext cx="7399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5% OF WHAT ELEMENT IS USED IN THE PRODUCTION OF FERTILIZ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41400" y="762120"/>
            <a:ext cx="725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METAL TO BE CAST INTO SHAPE WITH A MOLD, AND THE FIRST TO BE ALLOYED WITH ANOTHER ME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D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03200" y="762120"/>
            <a:ext cx="8337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IS COMBINED WITH HYDROGEN AND OXYGEN TO PRODUCE LY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46200" y="762120"/>
            <a:ext cx="7850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IS THE MAIN INGREDIENT IN PEW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L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92120" y="762120"/>
            <a:ext cx="8132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TAL HAS THE HIGHEST ELECTRICAL CONDUCTIVITY, THERMAL CONDUCTIVITY, AND REFLECTIV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106640" y="762120"/>
            <a:ext cx="6930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RADIOACTIVE URANIUM DECAYS, WHAT STABLE ELEMENT IS EVENTUALLY CRE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28640" y="762120"/>
            <a:ext cx="7685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HAS THE SAME NAME AS A PLAN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77720" y="762120"/>
            <a:ext cx="8188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MALLEABLE AND DUCTILE ME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90640" y="762120"/>
            <a:ext cx="7361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IS THE MOST COMMON ELEMENT ON EARTH BY MA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00200" y="3809880"/>
            <a:ext cx="7743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CHEMICAL  SYMBOLS  START  WITH  DIFFERENT  LETTERS  THAN  THEIR  N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19040" y="762120"/>
            <a:ext cx="830592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ELEMENT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17560" y="761760"/>
            <a:ext cx="7507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5% OF WHAT ELEMENT IS USED IN THE PRODUCTION OF FERTILIZ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61840" y="762120"/>
            <a:ext cx="7420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METAL TO BE CAST INTO SHAPE WITH A MOLD, AND THE FIRST TO BE ALLOYED WITH ANOTHER ME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71040" y="762120"/>
            <a:ext cx="7799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IS COMBINED WITH HYDROGEN AND OXYGEN TO PRODUCE LY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7240" y="761760"/>
            <a:ext cx="7769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IS THE MAIN INGREDIENT IN PEW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2680" y="761760"/>
            <a:ext cx="8377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TAL HAS THE HIGHEST ELECTRICAL CONDUCTIVITY, THERMAL CONDUCTIVITY,  AND REFLECTIV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69840" y="761760"/>
            <a:ext cx="7204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RADIOACTIVE URANIUM DECAYS, WHAT STABLE ELEMENT IS EVENTUALLY CRE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80960" y="762120"/>
            <a:ext cx="8182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MALLEABLE AND DUCTILE MET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7-11T13:59:20Z</dcterms:modified>
  <cp:revision>491</cp:revision>
  <dc:subject/>
  <dc:title>Slide 1</dc:title>
</cp:coreProperties>
</file>