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EED-6B65-4288-B128-AE308049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961-02FD-4DBA-8304-1F0BD46C6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AEBA-2DE7-4C32-889D-2FF15CDF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E8B-2F04-4F92-9D31-BF5A5C51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511-F9EF-4991-9301-EEB71DC4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04A8-9215-453C-81BA-EAE30D76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0897-9145-4789-849F-DC133F38B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3599-4174-4511-9C34-5BE7037D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C0BD-A7D9-4173-B3D0-D1AB44047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F872-D366-430F-B447-9D681003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98E4-9567-4278-9CD1-504EA4168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EF0-F4A5-4861-B763-AB160920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74CD-F21C-409F-A5B4-67E530DCC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7837-A36D-4FFB-948D-CE44F5B3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9B2-1C60-4784-8754-88F7D72F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6A01-C185-47AC-9319-7D297FCB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3EA-4803-4C67-B553-5F310576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60D8-DCAE-4AAC-A6C7-4F4A5832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FB10-3A93-4189-B78F-BB97F010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755-4472-4FA7-8A65-32A415531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F0F-3128-40C8-B51B-80062E65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1CD0-356B-4A54-BCB2-ECC16DA1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D4D-C98F-4DEB-848F-A04BC826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990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ALBUM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TOP-20 ALBUMS "CAHOOTS", "MUSIC FROM BIG PINK", "MOONDOG MATINEE",    AND "STAGE FR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DON QUIXOTE", "OLD DAN'S RECORDS", "SUMMERTIME DREAM", AND 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CO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1120" y="762120"/>
            <a:ext cx="8861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POPULAR PROBLEMS", "YOU WANT IT DARKER", "THANKS FOR THE DANCE,     AND "OLD IDE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ESS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3880" y="762120"/>
            <a:ext cx="789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TOP-10 ALBUMS "SHARE THE LAND" AND "AMERICAN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39760" y="762120"/>
            <a:ext cx="866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COURT AND SPARK", "FOR THE ROSES", AND "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46160" y="762120"/>
            <a:ext cx="705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#1 ALBUMS "SIGNALS", "MOVING PICTURES", AND "CLOCKWORK ANGE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5720" y="762120"/>
            <a:ext cx="743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MY WORLD 2.0", "BELIEVE", "PURPOSE", AND "CHANG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4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RECKLESS", "11", "WAKING UP THE NEIGHBORS", AND "SHINE A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DON QUIXOTE", "OLD DAN'S RECORDS", "SUMMERTIME DREAM", AND "SUN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8800" y="762120"/>
            <a:ext cx="782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HARVEST", "RUST NEVER SLEEPS", AND "AFTER THE GOLD RU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2800" y="762120"/>
            <a:ext cx="771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TOP-20 ALBUMS "CAHOOTS", "MUSIC FROM BIG PINK", "MOONDOG MATINEE",    AND "STAGE F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0200" y="4952880"/>
            <a:ext cx="77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IN 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1760"/>
            <a:ext cx="878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POPULAR PROBLEMS", "YOU WANT IT DARKER", "THANKS FOR THE DANCE,    AND "OLD IDE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82480" y="762120"/>
            <a:ext cx="7977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TOP-10 ALBUMS "SHARE THE LAND" AND "AMERICAN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8840" y="762120"/>
            <a:ext cx="862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COURT AND SPARK", "FOR THE ROSES", AND "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0320" y="761760"/>
            <a:ext cx="708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#1 ALBUMS "SIGNALS", "MOVING PICTURES", AND "CLOCKWORK ANG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MY WORLD 2.0", "BELIEVE", "PURPOSE", AND "CHANG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07520" y="761760"/>
            <a:ext cx="832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RECKLESS", "11", "WAKING UP THE NEIGHBORS", AND "SHINE A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HARVEST", "RUST NEVER SLEEPS", AND "AFTER THE GOLD RU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22T18:39:55Z</dcterms:modified>
  <cp:revision>495</cp:revision>
  <dc:subject/>
  <dc:title>Slide 1</dc:title>
</cp:coreProperties>
</file>