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8E57-A619-49F6-AE64-844A7D0E2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F160-68BB-4F99-8FE7-3EBE0D91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8AAF-441B-44A0-BA71-B1CF8B08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8E6-E88D-4634-AFFD-080A0227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FDB-620E-4521-875E-9764093D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AC06-A15C-4AF7-89D1-7A0C2AF6F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2FF7-1C6A-4439-870C-6BEA807F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CDA6-E021-43F6-8E8B-659ADF5B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9B0B-6613-487F-8715-A5667A707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34E-CC81-4E16-AAD9-326FF461B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E24D-0F43-4019-9511-A3B9D1C25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A997-D7CA-430C-B031-FD89968E2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CEF4-9EC0-479A-BB24-8A9906209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692-1B7A-4BA8-99AD-816EE173F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023B-5E20-4A23-A31C-2F7E1B7EB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5A54-1107-4921-920A-998A428A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990-EEC7-40EB-AEB0-D0167B3C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50A-338D-4613-9CBD-66EAC670A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B693-B2B3-4C6B-8DC4-B2C382E5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A222-0BFD-4359-B496-B8CA592E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8CCD-8535-4798-9C3E-5752E3F7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D663-2713-4DD3-A9D1-C7CDCC71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EFE6-D541-493B-8BF2-DD2A406F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ALBUM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TOP-20 ALBUMS "CAHOOTS", "MUSIC FROM BIG PINK", "MOONDOG MATINEE",    AND "STAGE FR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DON QUIXOTE", "OLD DAN'S RECORDS", "SUMMERTIME DREAM", AND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1120" y="762120"/>
            <a:ext cx="8861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POPULAR PROBLEMS", "YOU WANT IT DARKER", "THANKS FOR THE DANCE,     AND "OLD IDE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ESS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3880" y="762120"/>
            <a:ext cx="78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TOP-10 ALBUMS "SHARE THE LAND" AND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39760" y="762120"/>
            <a:ext cx="866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COURT AND SPARK", "FOR THE ROSES", AND "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46160" y="762120"/>
            <a:ext cx="705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#1 ALBUMS "SIGNALS", "MOVING PICTURES", AND "CLOCKWORK ANGE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5720" y="762120"/>
            <a:ext cx="743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MY WORLD 2.0", "BELIEVE", "PURPOSE", AND "CHANG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4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RECKLESS", "11", "WAKING UP THE NEIGHBORS", AND "SHINE A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DON QUIXOTE", "OLD DAN'S RECORDS", "SUMMERTIME DREAM", AND "SUN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8800" y="762120"/>
            <a:ext cx="7826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HARVEST", "RUST NEVER SLEEPS", AND "AFTER THE GOLD R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2800" y="762120"/>
            <a:ext cx="771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TOP-20 ALBUMS "CAHOOTS", "MUSIC FROM BIG PINK", "MOONDOG MATINEE",    AND "STAGE F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0200" y="4952880"/>
            <a:ext cx="7743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IN 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1760"/>
            <a:ext cx="878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POPULAR PROBLEMS", "YOU WANT IT DARKER", "THANKS FOR THE DANCE,    AND "OLD IDE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82480" y="762120"/>
            <a:ext cx="7977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TOP-10 ALBUMS "SHARE THE LAND" AND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COURT AND SPARK", "FOR THE ROSES", AND "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0320" y="761760"/>
            <a:ext cx="708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E    #1 ALBUMS "SIGNALS", "MOVING PICTURES", AND "CLOCKWORK ANG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MY WORLD 2.0", "BELIEVE", "PURPOSE", AND "CHANG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07520" y="761760"/>
            <a:ext cx="8326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#1 ALBUMS "RECKLESS", "11", "WAKING UP THE NEIGHBORS", AND "SHINE A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HAD THE TOP-10 ALBUMS "HARVEST", "RUST NEVER SLEEPS", AND "AFTER THE GOLD R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18:39:55Z</dcterms:modified>
  <cp:revision>495</cp:revision>
  <dc:subject/>
  <dc:title>Slide 1</dc:title>
</cp:coreProperties>
</file>