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D011-522A-4848-A88B-5F6F0B213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E87-3C12-4BE8-B285-7381F6B02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0C54-804A-40B6-9A63-44F3B3304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735B-C8BF-45C3-B9AA-DC21A37E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9EF6-26E2-4D60-B68E-DE2355D2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AD83-6F90-4A9F-A3DD-47FC5BBC5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7199-E955-49F0-A57B-EEA1A171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CBC-1986-42B9-97B4-7723BE10E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1934-802B-44C7-BF72-0DF499C1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F2C-C40C-4A89-B8C2-2C89F476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34F-3B6C-4798-88B6-71B194B9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1531-374C-4CF1-B0F2-1FAC66F7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1822-D49B-49D6-8F7C-1C009D39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3525-1DA3-4553-9039-042DC401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BCF6-5DE6-4BA1-B39D-246A84C7A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AB58-82EE-4524-9FAE-2566B24AE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F8C6-764E-4C1D-858A-ED13C195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C832-69EC-408D-9968-14DA2D712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3A13-256A-4945-8737-EC4B222E4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7A61-0A23-4361-8715-88775046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403C-6BCE-4F78-B84C-321DD53F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4ABB-649B-43D3-9824-E4BD2D6AF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D2A7-E2BF-425C-9ACF-4A18065E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602,214,076,000,000,000,000,000ATOMS IN CHEMI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SONG OFF HIS FIRST ALBUM, WAS THE #1 SINGLE OF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ULL ON THE CHILDREN'S TV SERIES "DORA THE EXPLOR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E)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HEAD NURSE IN "STAR TREK: THE ORIGINAL 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1560" y="762120"/>
            <a:ext cx="794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RCHIE AND EDITH ON "ALL IN THE FAMILY", AMERICA'S TOP TV SHOW 1971-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D TESTAMENT, WHAT DISOBEDIENT PROPHET IS SWALLOWED BY A GREAT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SONG OFF HIS FIRST ALBUM, WAS THE #1 SINGLE OF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06600" y="762120"/>
            <a:ext cx="613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AILBOAT, WHAT IS THE BOTTOM EDGE OF A SAI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602,214,076,000,000,000,000,000ATOMS IN CHEM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I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22320" y="761760"/>
            <a:ext cx="729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ULL ON THE CHILDREN'S TV SERIES "DORA THE EXPLOR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HEAD NURSE IN "STAR TREK: THE ORIGINAL SER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RCHIE AND EDITH ON "ALL IN THE FAMILY", AMERICA'S TOP TV SHOW 1971-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0680" y="761760"/>
            <a:ext cx="870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D TESTAMENT, WHAT DISOBEDIENT PROPHET IS SWALLOWED BY A GREAT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95360" y="762120"/>
            <a:ext cx="63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SAILBOAT, WHAT IS THE BOTTOM EDGE OF A SAI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4:10:06Z</dcterms:modified>
  <cp:revision>489</cp:revision>
  <dc:subject/>
  <dc:title>Slide 1</dc:title>
</cp:coreProperties>
</file>