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8892-34A9-4F9C-B694-B6CE37271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422F-26F0-4413-B6D4-C139CB142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1780-2D90-4D94-8A90-EF6441713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CED7-2A22-4B88-8C74-7B75B487B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6F0D-5470-4540-AFD7-B00DB06B8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0552-D44D-42C8-8606-CB0AB129D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2850-EB84-4ACC-AB15-E1C31F0EA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83CD-AC2A-41C7-8E1E-46A8F9CDA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A2F1-BBFC-422C-BD36-1BB235C4F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9B25-6191-4535-9C9D-C0589AA97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A4A8-EF1A-43A0-A17D-8170B47D9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53FC-6A0B-447D-BDDE-AF5B948DE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0244-F93C-4758-AE41-2888073C5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061E-CD21-45FD-86BB-8EA731F89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168D-AC63-47C3-B06B-278EFB6E5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5351-0B7A-4C19-9564-80FDCD94B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BD5C-A3F2-49D1-ADCF-EA13631E0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E13C-0D16-440D-A859-974BE137C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0435-BE4A-4DA2-9C9A-64A2D958D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10D3-5D3D-4BF4-BF19-10F3F8714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56E0-C552-4E82-B9ED-0B06F2833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DACA-5C4A-40DA-91E5-A0995DDA1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61E9-E6EB-40EF-8AAA-6538D1AB5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90520" y="761760"/>
            <a:ext cx="8562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602,214,076,000,000,000,000,000ATOMS IN CHEMIS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ORGE MICHAEL SONG, THE TITLE SONG OFF HIS FIRST ALBUM, WAS THE #1 SINGLE OF 198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-38160" y="495288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FILM WA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IMATED FILM TO BE NOMINATED FOR BEST PICTURE, AFTER "BEAUTY AND THE BEA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79560" y="762120"/>
            <a:ext cx="7183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GERMAN WORD FOR "BOA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43080" y="762120"/>
            <a:ext cx="8458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BULL ON THE CHILDREN'S TV SERIES "DORA THE EXPLOR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CHRISTINE)  CHAP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7160" y="762120"/>
            <a:ext cx="8689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HEAD NURSE IN "STAR TREK: THE ORIGINAL SER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N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1560" y="762120"/>
            <a:ext cx="7940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ARCHIE AND EDITH ON "ALL IN THE FAMILY", AMERICA'S TOP TV SHOW 1971-197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09600" y="762120"/>
            <a:ext cx="8523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OLD TESTAMENT, WHAT DISOBEDIENT PROPHET IS SWALLOWED BY A GREAT F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04960" y="762120"/>
            <a:ext cx="7532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ORGE MICHAEL SONG, THE TITLE SONG OFF HIS FIRST ALBUM, WAS THE #1 SINGLE OF 198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506600" y="762120"/>
            <a:ext cx="6130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SAILBOAT, WHAT IS THE BOTTOM EDGE OF A SAIL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58840" y="762120"/>
            <a:ext cx="8626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602,214,076,000,000,000,000,000ATOMS IN CHEMIS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47640" y="49528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HILL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22320" y="761760"/>
            <a:ext cx="7297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FILM WA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IMATED FILM TO BE NOMINATED FOR BEST PICTURE, AFTER "BEAUTY AND THE BEA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00080" y="762120"/>
            <a:ext cx="7143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GERMAN WORD FOR "BOA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77920" y="762120"/>
            <a:ext cx="8588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BULL ON THE CHILDREN'S TV SERIES "DORA THE EXPLOR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6360" y="761760"/>
            <a:ext cx="8531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HEAD NURSE IN "STAR TREK: THE ORIGINAL SERI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54040" y="761760"/>
            <a:ext cx="8034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ARCHIE AND EDITH ON "ALL IN THE FAMILY", AMERICA'S TOP TV SHOW 1971-197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0680" y="761760"/>
            <a:ext cx="8702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OLD TESTAMENT, WHAT DISOBEDIENT PROPHET IS SWALLOWED BY A GREAT FI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395360" y="762120"/>
            <a:ext cx="63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SAILBOAT, WHAT IS THE BOTTOM EDGE OF A SAIL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7-11T14:10:06Z</dcterms:modified>
  <cp:revision>489</cp:revision>
  <dc:subject/>
  <dc:title>Slide 1</dc:title>
</cp:coreProperties>
</file>