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C14-9CD9-4B50-A653-C75BEAD6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E56F-8611-4775-A26B-739DA0C54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435-E7E0-4339-9F64-1B5E7B0D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C1A-F6A1-4335-9F99-967FE9B0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9BB-7C04-42F1-B5D1-ABE829E2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5DE-905D-48FD-A066-F0B2C261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60C1-21C9-49F5-9620-FA7E7316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DFE8-95B3-4BC8-B44D-6CC97515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C21-53C2-4F42-919C-FFEECC62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CB07-C642-44F1-89AD-07913816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792-F17D-4498-885A-A2E7A793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495-3D07-4472-A3E4-D789D3F8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DBE4-D278-47AE-92CA-C0275C4E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80DA-2BF1-47E7-BC14-A018442A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1F9-2857-41E3-B1BB-4DF43973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94F-CB0C-4933-9FCB-A32BB1C5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121-9CB5-49DD-B687-A5E0059F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CF4-425A-439E-8CB5-3BAFEEF6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5CF-A25D-4A00-95FB-527CA58D4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D96-030A-4B91-86F2-73D81208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395-E4D9-4281-A667-25565285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6B4-1389-4206-9316-C4058F00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758-7B4B-43BC-9281-64FEF8D61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8440" y="761760"/>
            <a:ext cx="800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IAL JOB IN A PIZZA PARLO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B OF WRESTLER / ACTOR DWAYNE "THE ROCK"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ACE  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THAT APPEARED IN THE TITLE SCREEN FOR THE TV SHOW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MUS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35080" y="762120"/>
            <a:ext cx="68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LL-TIME BEST-SELLING MODEL OF 4-SEAT SPORT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1400" y="762120"/>
            <a:ext cx="725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ITS INVENTION WAS A GROUP EFFORT, WHAT WAS ALEXANDER GRAHAM BELL AWARDED THE FIRST PATENT FOR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63600" y="762120"/>
            <a:ext cx="661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IS, KONE, AND SCHINDLER ARE THE MAIN MANUFACTURERS OF WHAT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IFFEL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P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  C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1240" y="762120"/>
            <a:ext cx="712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HIRD VARIATION OF COCA-COLA SOLD, AFTER "COKE" AND "DIET C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LAS VEGAS, SOME 55 STORIES HIGH, "HIGH ROLLER", IS THE WORLD'S TALLES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THAT APPEARED IN THE TITLE SCREEN FOR THE TV SHOW "FRAS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TION PICTURE FORMAT IS KNOWN FOR ITS TALL ASPECT RATIO AND STEEP STADIUM S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HWA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IAL JOB IN A PIZZA PARLO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B OF WRESTLER / ACTOR DWAYNE "THE ROCK"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952880"/>
            <a:ext cx="826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RODUCED  AT  WORLD'S 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LL-TIME BEST-SELLING MODEL OF 4-SEAT SPORT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ITS INVENTION WAS A GROUP EFFORT, WHAT WAS ALEXANDER GRAHAM BELL AWARDED THE FIRST PATENT FOR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2320" y="762120"/>
            <a:ext cx="67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IS, KONE, AND SCHINDLER ARE THE MAIN MANUFACTURERS OF WHAT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P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HIRD VARIATION OF COCA-COLA SOLD, AFTER "COKE" AND "DIET CO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0160" y="761760"/>
            <a:ext cx="74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LAS VEGAS, SOME 55 STORIES HIGH, "HIGH ROLLER", IS THE WORLD'S TALLES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TION PICTURE FORMAT IS KNOWN FOR ITS TALL ASPECT RATIO AND STEEP STADIUM SE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4:14:09Z</dcterms:modified>
  <cp:revision>487</cp:revision>
  <dc:subject/>
  <dc:title>Slide 1</dc:title>
</cp:coreProperties>
</file>