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6535-CF43-4910-8CCB-0ADCA16B5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0928-9407-497D-B0DC-952D848E4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BDD8-2AE8-4DFB-AF28-CDF515153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2321-7BD6-4396-A6CE-99F02EBC9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9F6D-9A43-475A-A44A-114407803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1D41-EF66-4351-B196-B7557FEDC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F095-3909-41E7-A85F-A6605D53C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5452-1696-41B4-AF81-CB28B3655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C85A-2713-413B-871F-BD131D3EE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CFC1-0945-41AA-85E7-D033C1960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80CC-1DC6-4677-BA66-BEE7F2A0B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0080-5797-42D5-803A-41FA6F18D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4E2F-7714-475B-9FE2-0F7E57C70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4FFA-5F02-48BE-AC09-54EAC1122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8DF5-0624-46EE-9BDE-CF7125F51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F050-AA0A-4FA5-9229-29B9E8B34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719A-46DD-4D62-B3D9-D74417FD0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CAC8-9098-4A47-B4C7-66415E574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4D6D-462F-4114-AB3F-49991CA92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C279-A2C7-4227-8B75-7BF943FEC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9005-AD68-4402-ACE4-E0957AB11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492E-4FF9-46AC-827B-E0E0A12CC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258B-54B6-4E6A-A863-781B4DBCD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68440" y="761760"/>
            <a:ext cx="800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NIAL JOB IN A PIZZA PARLOR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JOB OF WRESTLER / ACTOR DWAYNE "THE ROCK" JOHN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PACE  NEE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BUILDING THAT APPEARED IN THE TITLE SCREEN FOR THE TV SHOW "FRASI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D  MUST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35080" y="762120"/>
            <a:ext cx="68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LL-TIME BEST-SELLING MODEL OF 4-SEAT SPORTS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41400" y="762120"/>
            <a:ext cx="725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ITS INVENTION WAS A GROUP EFFORT, WHAT WAS ALEXANDER GRAHAM BELL AWARDED THE FIRST PATENT FOR IN 18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V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63600" y="762120"/>
            <a:ext cx="661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IS, KONE, AND SCHINDLER ARE THE MAIN MANUFACTURERS OF WHAT I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IFFEL  T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46200" y="762120"/>
            <a:ext cx="7850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BUILDING IN PAR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RY  C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11240" y="762120"/>
            <a:ext cx="712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HIRD VARIATION OF COCA-COLA SOLD, AFTER "COKE" AND "DIET COK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RIS  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3560" y="762120"/>
            <a:ext cx="7615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CATED IN LAS VEGAS, SOME 55 STORIES HIGH, "HIGH ROLLER", IS THE WORLD'S TALLEST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8640" y="762120"/>
            <a:ext cx="7685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BUILDING THAT APPEARED IN THE TITLE SCREEN FOR THE TV SHOW "FRASI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3120" y="762120"/>
            <a:ext cx="7996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TION PICTURE FORMAT IS KNOWN FOR ITS TALL ASPECT RATIO AND STEEP STADIUM SE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HWAS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58840" y="762120"/>
            <a:ext cx="862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NIAL JOB IN A PIZZA PARLOR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JOB OF WRESTLER / ACTOR DWAYNE "THE ROCK" JOHN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38120" y="4952880"/>
            <a:ext cx="8267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TRODUCED  AT  WORLD'S  FAI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03400" y="761760"/>
            <a:ext cx="693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LL-TIME BEST-SELLING MODEL OF 4-SEAT SPORTS 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09640" y="762120"/>
            <a:ext cx="7524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ITS INVENTION WAS A GROUP EFFORT, WHAT WAS ALEXANDER GRAHAM BELL AWARDED THE FIRST PATENT FOR IN 18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92320" y="762120"/>
            <a:ext cx="6759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TIS, KONE, AND SCHINDLER ARE THE MAIN MANUFACTURERS OF WHAT I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7240" y="761760"/>
            <a:ext cx="7769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BUILDING IN PAR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95400" y="761760"/>
            <a:ext cx="7151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HIRD VARIATION OF COCA-COLA SOLD, AFTER "COKE" AND "DIET COK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0160" y="761760"/>
            <a:ext cx="7483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CATED IN LAS VEGAS, SOME 55 STORIES HIGH, "HIGH ROLLER", IS THE WORLD'S TALLEST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81040" y="762120"/>
            <a:ext cx="7981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TION PICTURE FORMAT IS KNOWN FOR ITS TALL ASPECT RATIO AND STEEP STADIUM SEA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1T14:14:09Z</dcterms:modified>
  <cp:revision>487</cp:revision>
  <dc:subject/>
  <dc:title>Slide 1</dc:title>
</cp:coreProperties>
</file>