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36D1-D5E2-4899-B057-CBBB0AB06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DFD0-25D6-4FDE-A206-A15B5E918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5150-0BE8-4945-AF89-9018919F9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85E5-7061-4258-9C18-69D90A6A8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82B8-35E0-442C-8E0A-5645F9DD4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1DD3-CBCA-4C47-8925-0BA0A9E59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7D35-E15B-42AD-B5DD-4D434240D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EED7-8798-4AAE-BC41-2507CBEC1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076B-28E6-4CF7-BBC5-29FBF86D6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CEEF-4272-4E11-9431-9D24D5756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9396-24FF-408A-ABCD-1527B2011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6DE7-E5A7-4D71-BEA4-EC1F87AD2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7A9D-136E-48FA-870C-95A77C109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C1AF-3229-446C-82BE-340103529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C053-572C-4F52-B2C5-85320E808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B8ED-E68E-4E02-8291-847968C70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E282-4688-4F87-97B5-CFC42D3E2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A311-8B29-4F21-9D26-FC9D2601F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8EEC-C375-4E49-9F41-31C2068A9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25B1-6EE5-4F5A-846D-DC01BD8E3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6E21-D0A1-40E2-BCA5-5C4E864AE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3B70-EC43-45E6-9564-1DE564754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63EF-37CC-4118-B2DA-2620E7C97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90520" y="761760"/>
            <a:ext cx="856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DOES DUNKIN' DONUTS USE FOR THEIR DONUT HO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E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762120"/>
            <a:ext cx="8248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COUGAR MELLENCAMP ALBUM CONTAINED THE HITS "SMALL TOWN", "LONELY OL' NIGHT", AND "R.O.C.K. IN THE U.S.A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66640" y="762120"/>
            <a:ext cx="8008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THE PERSON WHO SHOT PRESIDENT KENN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08080" y="762120"/>
            <a:ext cx="872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 SONG BEGINS WITH THE LYRICS "SOMETIMES LATE WHEN THINGS ARE REA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PEOPLE SHARE THE GIFT OF GAB BETWEEN THEMSEL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87320" y="762120"/>
            <a:ext cx="7569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N ADOPTED INDIAN CHILD WHO SEEKS HIS ROOTS WAS NOMINATED FOR 6 ACADE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OTHY  DAND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6640" y="762120"/>
            <a:ext cx="7469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THE FIRST BLACK ACTRESS TO BE NOMINATED FOR BEST ACTRESS, FOR THE 1954 FILM "CARMEN JON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LAIR  WITCH 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96760" y="762120"/>
            <a:ext cx="735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UPERNATURAL HORROR FILM MADE 1000 TIMES WHAT IT COST TO M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30320" y="762120"/>
            <a:ext cx="7081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ROSANNA", "AFRICA", AND "HOLD THE 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762120"/>
            <a:ext cx="820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COUGAR MELLENCAMP ALBUM CONTAINED THE HITS "SMALL TOWN", "LONELY OL' NIGHT", AND "R.O.C.K. IN THE U.S.A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BYE  YELLOW  BRICK  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3120" y="762120"/>
            <a:ext cx="7996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TON JOHN ALBUM CONTAINS THE HIT SONGS "CANDLE IN THE WIND" AND "BENNY AND THE JE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NCH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58840" y="762120"/>
            <a:ext cx="862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DOES DUNKIN' DONUTS USE FOR THEIR DONUT HO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19280" y="4419720"/>
            <a:ext cx="5905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INGS  IN  "THE  WIZARD  OF  OZ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88960" y="761760"/>
            <a:ext cx="7964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THE PERSON WHO SHOT PRESIDENT KENN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71360" y="762120"/>
            <a:ext cx="8801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 SONG BEGINS WITH THE LYRICS "SOMETIMES LATE WHEN THINGS ARE REA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PEOPLE SHARE THE GIFT OF GAB BETWEEN THEMSEL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6320" y="762120"/>
            <a:ext cx="7731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N ADOPTED INDIAN CHILD WHO SEEKS HIS ROOTS WAS NOMINATED FOR 6 ACADEM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9880" y="761760"/>
            <a:ext cx="7464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THE FIRST BLACK ACTRESS TO BE NOMINATED FOR BEST ACTRESS, FOR THE 1954 FILM "CARMEN JON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8720" y="761760"/>
            <a:ext cx="7304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UPERNATURAL HORROR FILM MADE 1000 TIMES WHAT IT COST TO M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96920" y="761760"/>
            <a:ext cx="6950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ROSANNA", "AFRICA", AND "HOLD THE L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81040" y="762120"/>
            <a:ext cx="7981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TON JOHN ALBUM CONTAINS THE HIT SONGS "CANDLE IN THE WIND" AND "BENNY AND THE JE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2T12:15:43Z</dcterms:modified>
  <cp:revision>488</cp:revision>
  <dc:subject/>
  <dc:title>Slide 1</dc:title>
</cp:coreProperties>
</file>