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140E-579B-461C-B22C-4C92A3278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7F7B-27F0-4510-93FE-B7715D547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4F19-235F-4205-B73B-64B07A23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7B05-516F-4E62-9742-70942353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F0AE-9EEB-4E88-AF2B-8370728E5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1EF3-4F9E-4959-8D3C-36C79925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7B7D-77FF-4F2F-B84E-C5A25DEC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5BBF-0D3E-4B95-9FB1-9B7CEB2E7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2C5-4B0A-4595-A098-13F809A8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475D-7C11-46E9-8D93-673B203FA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48CB-C178-45CC-AF73-9298D3AE3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896E-B017-40A4-ACA6-EBE6B90AA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D9A1-5154-4617-ACB8-7131B300C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8021-F63A-4AA3-A1D8-3287238CE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115-E59B-4D8A-8158-8FAF8857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29E8-B240-41FC-8885-4A20F3E8B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0096-914F-45A4-8E63-BF7B3304E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34C6-C261-4BD1-A8EB-B59B153F4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C373-FAF4-4DBF-962E-3B49D7AC6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3C2C-A28B-4ABF-AEC6-E778E373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EE73-5CA4-4294-BA80-9F58E0CB7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13DB-9B18-447F-AD5E-652F7D653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2403-1524-4FFE-B8E8-0AE09502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OES DUNKIN' DONUTS USE FOR THEIR DONUT HO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COUGAR MELLENCAMP ALBUM CONTAINED THE HITS "SMALL TOWN", "LONELY OL' NIGHT", AND "R.O.C.K. IN THE U.S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6640" y="762120"/>
            <a:ext cx="8008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PERSON WHO SHOT PRESIDENT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08080" y="762120"/>
            <a:ext cx="872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BEGINS WITH THE LYRICS "SOMETIMES LATE WHEN THINGS ARE REA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PEOPLE SHARE THE GIFT OF GAB BETWEEN THEMSEL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87320" y="762120"/>
            <a:ext cx="756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ADOPTED INDIAN CHILD WHO SEEKS HIS ROOTS WAS NOMINATED FOR 6 ACADE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Y  DAND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6640" y="762120"/>
            <a:ext cx="746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THE FIRST BLACK ACTRESS TO BE NOMINATED FOR BEST ACTRESS, FOR THE 1954 FILM "CARMEN J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IR  WITCH 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96760" y="762120"/>
            <a:ext cx="735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UPERNATURAL HORROR FILM MADE 1000 TIMES WHAT IT COST TO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30320" y="762120"/>
            <a:ext cx="708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OSANNA", "AFRICA", AND "HOLD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762120"/>
            <a:ext cx="820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COUGAR MELLENCAMP ALBUM CONTAINED THE HITS "SMALL TOWN", "LONELY OL' NIGHT", AND "R.O.C.K. IN THE U.S.A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BYE  YELLOW  BRICK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3120" y="762120"/>
            <a:ext cx="7996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TON JOHN ALBUM CONTAINS THE HIT SONGS "CANDLE IN THE WIND" AND "BENNY AND THE JE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NCH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OES DUNKIN' DONUTS USE FOR THEIR DONUT HO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19280" y="4419720"/>
            <a:ext cx="590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INGS  IN  "THE  WIZARD  OF  OZ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8960" y="761760"/>
            <a:ext cx="796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PERSON WHO SHOT PRESIDENT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1360" y="762120"/>
            <a:ext cx="8801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BEGINS WITH THE LYRICS "SOMETIMES LATE WHEN THINGS ARE REAL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PEOPLE SHARE THE GIFT OF GAB BETWEEN THEMSEL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6320" y="762120"/>
            <a:ext cx="7731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ADOPTED INDIAN CHILD WHO SEEKS HIS ROOTS WAS NOMINATED FOR 6 ACADE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THE FIRST BLACK ACTRESS TO BE NOMINATED FOR BEST ACTRESS, FOR THE 1954 FILM "CARMEN J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8720" y="761760"/>
            <a:ext cx="7304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UPERNATURAL HORROR FILM MADE 1000 TIMES WHAT IT COST TO 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96920" y="761760"/>
            <a:ext cx="695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ROSANNA", "AFRICA", AND "HOLD THE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TON JOHN ALBUM CONTAINS THE HIT SONGS "CANDLE IN THE WIND" AND "BENNY AND THE JE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2T12:15:43Z</dcterms:modified>
  <cp:revision>488</cp:revision>
  <dc:subject/>
  <dc:title>Slide 1</dc:title>
</cp:coreProperties>
</file>