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394E-841E-437D-B5FB-F0AFB36FB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E6CD-8CC9-4A22-92C7-44BE32861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CB52-582C-42C5-8E7C-0829EA8CB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BCDE-AFE4-4194-8903-6AE4D1CF2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20755-DBD3-4A2B-B45E-7D43F64C5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3D33-1314-48E5-8A84-C3C7AAAC7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ADFC-89F8-4BDC-95BF-4F04403D2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526C-6C32-4081-ACE7-E881C4B3AB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7AC7-1C8F-4EEF-A6B2-59BCB02DE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1758-B72A-4D77-A253-50939A362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FDC0-48E7-4454-B71F-06F437DC0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96DFD-E2B4-4C0F-998D-67B25BA46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1C6EE-49E3-4E1C-8585-B46EE2F05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3C6A-FF6F-4F78-A6AF-01B1F2684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13E2-62E5-4CF2-A3B3-F2D0B7A4E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09CB-CF78-45C6-83D6-658923A32D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EBB47-46A3-4402-8089-5B3D63A274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635F-214B-4441-8531-FE5D03C09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BEACA-638B-41AA-89E2-79F174563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D587-9AD8-4EDB-8EEF-EF919790C7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3956-3729-4949-9DCB-AD2ABD411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9EF60-1840-47C5-A56F-AD383C593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1E42-9274-4D9F-B760-78474FCF9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82800" y="761760"/>
            <a:ext cx="7176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THAN 2/3 OF THE CONDOMS SOLD IN THE U.S. ARE WHAT BRAN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43080" y="762120"/>
            <a:ext cx="8458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FICTION THRILLER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ERMAN-LANGUAGE ORIGINAL SERIES ON NETFLI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474840" y="762120"/>
            <a:ext cx="8194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IS ALSO A GERMAN WORD THAT MEANS "POISON" IN ENGL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RA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9560" y="762120"/>
            <a:ext cx="7183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OATING TERM FOR THE VERTICAL DISTANCE BETWEEN THE WATERLINE AND THE BOTTOM OF THE HU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G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-15840" y="762120"/>
            <a:ext cx="9182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INGLE BY JAMES BLUNT, WHICH DID NOT CHART NEARLY AS WELL AS HI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INGLE, "YOU'RE BEAUTIFU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7160" y="762120"/>
            <a:ext cx="86896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EASURED IN JOU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44480" y="762120"/>
            <a:ext cx="765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2004 HURRICANE THAT WAS THE STRONGEST HURRICANE TO EVER HIT SOUTHWEST FLOR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A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309600" y="762120"/>
            <a:ext cx="85294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NCHISE OF 8 TORTURE / HORROR FILMS HAS GROSSED NEARLY $1 BILL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71440" y="762120"/>
            <a:ext cx="859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CE FICTION THRILLER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GERMAN-LANGUAGE ORIGINAL SERIES ON NETFLI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33400" y="762120"/>
            <a:ext cx="7477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2 SONG OF PATSY CLINE WAS OFF THE SAME 1961 ALBUM AS HER #1 SONG "I FALL TO PIEC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J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66960" y="762120"/>
            <a:ext cx="7208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RE THAN 2/3 OF THE CONDOMS SOLD IN THE U.S. ARE WHAT BRAN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38120" y="4952880"/>
            <a:ext cx="82677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HORS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3280" y="761760"/>
            <a:ext cx="8136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WORD IS ALSO A GERMAN WORD THAT MEANS "POISON" IN ENGL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00080" y="762120"/>
            <a:ext cx="7143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OATING TERM FOR THE VERTICAL DISTANCE BETWEEN THE WATERLINE AND THE BOTTOM OF THE HU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360" y="762120"/>
            <a:ext cx="917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INGLE BY JAMES BLUNT, WHICH DID NOT CHART NEARLY AS WELL AS HI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INGLE, "YOU'RE BEAUTIFU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6360" y="761760"/>
            <a:ext cx="8531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EASURED IN JOU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15520" y="761760"/>
            <a:ext cx="8110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2004 HURRICANE THAT WAS THE STRONGEST HURRICANE TO EVER HIT SOUTHWEST FLORI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99520" y="761760"/>
            <a:ext cx="85424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RANCHISE OF 8 TORTURE / HORROR FILMS HAS GROSSED NEARLY $1 BILL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925560" y="762120"/>
            <a:ext cx="72914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2 SONG OF PATSY CLINE WAS OFF THE SAME 1961 ALBUM AS HER #1 SONG "I FALL TO PIEC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7-12T12:18:59Z</dcterms:modified>
  <cp:revision>491</cp:revision>
  <dc:subject/>
  <dc:title>Slide 1</dc:title>
</cp:coreProperties>
</file>