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60A7-64A5-4DEE-BC0E-580E5DC6F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2119-6417-438C-9C29-2DD8DCF40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8D00-359D-428F-97C0-3002AF5CE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D159-FDFE-42D2-8AB0-6DC2BF851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5C55-B838-46D0-A773-CE98A832C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27F3-0309-4826-8B7C-2EAD6AD99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207E-7DA1-4494-8C86-BC4EBF848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DFBC-02ED-40AE-9C35-0B27B2E1B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582E-CC85-4792-B7C3-EA72D20C2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995A-6AF0-4288-BF51-298E6DA27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90D5-00B6-4156-AC63-8DBE8FD48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0C71-D556-4E21-AF20-E85BBA9B2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1945-E564-4108-B191-B8E443367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1BE8-EB04-4959-A2BE-F2630C7FA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9D43-1417-4405-B20D-2F7B6584B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3B69-805F-40C7-8ABA-F8B2A350C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59B3-AC45-4EF4-B48F-3F7F42AF6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4531-85F1-4A93-8CDB-6D0D1D9E7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A81B-2D36-463F-87C0-A99C5EF32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9A1F-4992-4F79-AA62-A0DEFC720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E969-7511-4C5A-8F09-2FA93122D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41CF-1274-45C6-90BD-522400449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FFD7-F5C6-4A99-B11A-3924C5645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82800" y="761760"/>
            <a:ext cx="71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RE THAN 2/3 OF THE CONDOMS SOLD IN THE U.S. ARE WHAT BR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IENCE FICTION THRILLER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ERMAN-LANGUAGE ORIGINAL SERIES ON NETFLI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-38160" y="4952880"/>
            <a:ext cx="922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74840" y="762120"/>
            <a:ext cx="819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WORD IS ALSO A GERMAN WORD THAT MEANS "POISON" IN ENGL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79560" y="762120"/>
            <a:ext cx="7183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OATING TERM FOR THE VERTICAL DISTANCE BETWEEN THE WATERLINE AND THE BOTTOM OF THE HU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-15840" y="762120"/>
            <a:ext cx="9182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INGLE BY JAMES BLUNT, WHICH DID NOT CHART NEARLY AS WELL AS HI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INGLE, "YOU'RE BEAUTIFU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7160" y="762120"/>
            <a:ext cx="8689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MEASURED IN JOU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44480" y="762120"/>
            <a:ext cx="765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2004 HURRICANE THAT WAS THE STRONGEST HURRICANE TO EVER HIT SOUTHWEST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09600" y="762120"/>
            <a:ext cx="8529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ANCHISE OF 8 TORTURE / HORROR FILMS HAS GROSSED NEARLY $1 B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71440" y="762120"/>
            <a:ext cx="8599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IENCE FICTION THRILLER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ERMAN-LANGUAGE ORIGINAL SERIES ON NETFLIX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33400" y="762120"/>
            <a:ext cx="7477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2 SONG OF PATSY CLINE WAS OFF THE SAME 1961 ALBUM AS HER #1 SONG "I FALL TO PIEC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OJ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66960" y="762120"/>
            <a:ext cx="7208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RE THAN 2/3 OF THE CONDOMS SOLD IN THE U.S. ARE WHAT BR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38120" y="4952880"/>
            <a:ext cx="8267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HORS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03280" y="761760"/>
            <a:ext cx="8136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WORD IS ALSO A GERMAN WORD THAT MEANS "POISON" IN ENGLI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00080" y="762120"/>
            <a:ext cx="7143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OATING TERM FOR THE VERTICAL DISTANCE BETWEEN THE WATERLINE AND THE BOTTOM OF THE HU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360" y="762120"/>
            <a:ext cx="917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INGLE BY JAMES BLUNT, WHICH DID NOT CHART NEARLY AS WELL AS HI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INGLE, "YOU'RE BEAUTIFU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6360" y="761760"/>
            <a:ext cx="8531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MEASURED IN JOU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15520" y="761760"/>
            <a:ext cx="8110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2004 HURRICANE THAT WAS THE STRONGEST HURRICANE TO EVER HIT SOUTHWEST FLORI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99520" y="761760"/>
            <a:ext cx="8542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ANCHISE OF 8 TORTURE / HORROR FILMS HAS GROSSED NEARLY $1 B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25560" y="762120"/>
            <a:ext cx="7291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2 SONG OF PATSY CLINE WAS OFF THE SAME 1961 ALBUM AS HER #1 SONG "I FALL TO PIEC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7-12T12:18:59Z</dcterms:modified>
  <cp:revision>491</cp:revision>
  <dc:subject/>
  <dc:title>Slide 1</dc:title>
</cp:coreProperties>
</file>