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66A5-B3DF-4628-8C25-16F4A4262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A01A-7FD6-4EE8-A628-87C9141A2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0765-703D-4727-B4C9-5E38206E8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EA1C-77B9-4454-9F71-AB2B58821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0469-CE05-4C5A-B68A-568AE3E61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4FBF-E515-4D2A-ABCD-BC9DFF526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EB65-1510-4CAF-9BF7-CE9B9135C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3DD1-25F7-4F42-A67C-AD95B8CC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6C31-D25F-49ED-942D-BDACB02A9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BAE5-5ACF-4DD8-96BA-53E53DB32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CCDB-E26D-4C6B-978B-F47EAD95D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A07A-9903-48F0-AF29-140068529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57CE-310A-439D-8E10-08785B692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F189-9C49-4CFE-96BE-C3B345D0B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EAD5-1968-4CFA-8951-9EBFE2AB1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69CF-7874-4E7D-BCDC-505B2AF30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306F-717A-438A-B3EA-D566C8E4F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7D74-3ED4-436E-8FFC-AFEE2A761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3114-4A51-4CAA-B904-0FCFEB5E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D322-8697-4E45-AFA2-5434CF41C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792C-8D9E-4DDE-B68C-D1F4061A8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7780-34EE-4491-9886-8EAA7E383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7C73-7A12-4719-BF90-086CD1363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MARGARET THATCHER'S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HIE'S  CH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ABOUT A CONCENTRATION CAMP WON THE 1980 NATIONAL BOOK AWARD FOR F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NAMED AFTER JOHN LENNON'S M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52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EW YORK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NEWSPAPER, AFT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HAT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OROUGH OF NEW YORK CITY IS CENTRAL PARK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PRAIRIE  HOME  COMP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 IS GARRISON KEILLOR BEST KNOWN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IS USED FOR WHOLE NUMBERS THAT HAVE NO FACTORS OTHER THAN 1 AND THEMSELV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K  M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LY FORMS 28% OF THE UNIVERSE'S MASS, THOUGH WE HAVE NEVER SEEN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ABOUT A CONCENTRATION CAMP WON THE 1980 NATIONAL BOOK AWARD FOR F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9204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A  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INTERJECTION   IS ALSO THE FIRST SONG ON ABBA'S SELF-TITLED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IRON  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MARGARET THATCHER'S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ERYL  STREEP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NAMED AFTER JOHN LENNON'S M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EW YORK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NEWSPAPER, AFT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OROUGH OF NEW YORK CITY IS CENTRAL PARK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 IS GARRISON KEILLOR BEST KNOWN FO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IS USED FOR WHOLE NUMBERS THAT HAVE NO FACTORS OTHER THAN 1 AND THEMSELV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LY FORMS 28% OF THE UNIVERSE'S MASS, THOUGH WE HAVE NEVER SEEN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INTERJECTION IS ALSO THE FIRST SONG ON ABBA'S SELF-TITLED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18:40:10Z</dcterms:created>
  <dc:creator>Jennifer Budzinski</dc:creator>
  <dc:description/>
  <dc:language>en-US</dc:language>
  <cp:lastModifiedBy>Erich Friedman</cp:lastModifiedBy>
  <dcterms:modified xsi:type="dcterms:W3CDTF">2020-08-25T13:50:27Z</dcterms:modified>
  <cp:revision>353</cp:revision>
  <dc:subject/>
  <dc:title>Slide 1</dc:title>
</cp:coreProperties>
</file>