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49F9-3C2A-422D-B436-788C633CC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138E-ECEC-4D17-AEEC-E851374C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3FAD-B40C-430F-B156-BD09293E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32EE-36DD-422C-A8A6-BC6088473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0939-D178-42ED-969D-02B30C7BC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3673-F02B-4B40-8637-5BBDCC913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B8A0-8C9B-4827-AFA2-1F82B60B8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7232-0BEB-4EBA-8383-F3B508BC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8D71-A1B7-4034-9310-3C7E0C675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704C-9151-4763-8733-EF0CE5978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E7FF-43B8-4E75-855A-2639387C0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C983-D226-4D6C-9647-987AF65C7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4D26-F245-420A-89F3-EB640FB46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654D-332F-4BBA-8B54-4FCE38865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4308-3CCC-49E1-8C95-874297848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5190-C9F3-49D6-85BF-51760C109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57AC-2285-4AE5-A7F1-1FE42AD60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29F0-C40D-48B6-9335-546447683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3518-C3EB-445B-AF8B-31C9D33A1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7EB8-2E20-4B9E-9302-4E441E9F4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BC31-1D5D-4B3F-B553-379CCBAE6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D81E-8495-422E-9743-F0C50F661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8775-6ECD-4B9D-9EF7-A0A2C7B25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RGARET THATCHER'S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HIE'S  CHO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ABOUT A CONCENTRATION CAMP WON THE 1980 NATIONAL BOOK AWARD FOR F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AFTER JOHN LENNON'S M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524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EW YORK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NEWSPAPER, AFT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ROUGH OF NEW YORK CITY IS CENTRAL PARK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PRAIRIE  HOME  COMPA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 IS GARRISON KEILLOR BEST KNOWN F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IS USED FOR WHOLE NUMBERS THAT HAVE NO FACTORS OTHER THAN 1 AND THEMSELV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K  MA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LY FORMS 28% OF THE UNIVERSE'S MASS, THOUGH WE HAVE NEVER SEEN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VEL ABOUT A CONCENTRATION CAMP WON THE 1980 NATIONAL BOOK AWARD FOR F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9204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A  M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INTERJECTION   IS ALSO THE FIRST SONG ON ABBA'S SELF-TITLED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RON  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MARGARET THATCHER'S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534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ERYL  STREEP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AFTER JOHN LENNON'S M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EW YORK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NEWSPAPER, AFT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ROUGH OF NEW YORK CITY IS CENTRAL PARK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OW IS GARRISON KEILLOR BEST KNOWN FO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JECTIVE IS USED FOR WHOLE NUMBERS THAT HAVE NO FACTORS OTHER THAN 1 AND THEMSELV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LY FORMS 28% OF THE UNIVERSE'S MASS, THOUGH WE HAVE NEVER SEEN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INTERJECTION IS ALSO THE FIRST SONG ON ABBA'S SELF-TITLED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18:40:10Z</dcterms:created>
  <dc:creator>Jennifer Budzinski</dc:creator>
  <dc:description/>
  <dc:language>en-US</dc:language>
  <cp:lastModifiedBy>Erich Friedman</cp:lastModifiedBy>
  <dcterms:modified xsi:type="dcterms:W3CDTF">2020-08-25T13:50:27Z</dcterms:modified>
  <cp:revision>353</cp:revision>
  <dc:subject/>
  <dc:title>Slide 1</dc:title>
</cp:coreProperties>
</file>