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84A3-D681-4B22-93D9-1E4883547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A014-328A-49F6-8E14-60416B26D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D570-3A21-4A51-A73A-99565C128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4736-3C16-4544-86BD-760BD3FCE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CEDB-C07A-485B-9879-93917D939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4D17-C518-492C-A3B4-868C10E26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9E07-0E6F-4AF4-9BB1-0D25312AB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4F74-FB6C-47ED-AB87-36F465071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645A-1D86-4907-8A34-49CB104D1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D611-76B2-4A79-9C18-6C5C482EE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0C30-03B1-441A-BE1D-C0AE50063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07B5-6EFF-482B-BA1E-A0199855A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05ED-0122-4739-A10F-FE3EB105E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16CB-9894-4AC9-B50E-A1AD1D007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A01C-DFCF-4A91-8F7A-04C80AC22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6257-5E79-48B2-83B2-86E99547E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1EAD-1CA7-4C67-8A51-F96BEE876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5182-1DF1-4E2A-9C0F-EECB1E35E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A0FA-6CE3-423E-96DC-8B618E4C3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181D-A59D-44C4-8FD3-41C4849E0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D791-8102-4F7F-814D-8C2111FE3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827C-653B-47B2-8E6C-9C3E8D163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0F49-CF1E-49AD-9A9A-A25A670C4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MARGARET THATCHER'S NICK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PHIE'S  CHO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VEL ABOUT A CONCENTRATION CAMP WON THE 1980 NATIONAL BOOK AWARD FOR FI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838080" y="4876920"/>
            <a:ext cx="7467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295280" y="762120"/>
            <a:ext cx="6553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IS NAMED AFTER JOHN LENNON'S M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71680" y="75240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NEW YORK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NEWSPAPER, AFTER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TIM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HATT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BOROUGH OF NEW YORK CITY IS CENTRAL PARK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PRAIRIE  HOME  COMPA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OW IS GARRISON KEILLOR BEST KNOWN F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DJECTIVE IS USED FOR WHOLE NUMBERS THAT HAVE NO FACTORS OTHER THAN 1 AND THEMSELV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981080" y="4876920"/>
            <a:ext cx="5181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RK  MA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POSEDLY FORMS 28% OF THE UNIVERSE'S MASS, THOUGH WE HAVE NEVER SEEN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VEL ABOUT A CONCENTRATION CAMP WON THE 1980 NATIONAL BOOK AWARD FOR FI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9204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MMA  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30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ALIAN INTERJECTION   IS ALSO THE FIRST SONG ON ABBA'S SELF-TITLED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IRON  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MARGARET THATCHER'S NICK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534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MERYL  STREEP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409760" y="761760"/>
            <a:ext cx="6324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IS NAMED AFTER JOHN LENNON'S MO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NEW YORK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NEWSPAPER, AFTER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TIM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BOROUGH OF NEW YORK CITY IS CENTRAL PARK LOC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OW IS GARRISON KEILLOR BEST KNOWN FOR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DJECTIVE IS USED FOR WHOLE NUMBERS THAT HAVE NO FACTORS OTHER THAN 1 AND THEMSELVE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POSEDLY FORMS 28% OF THE UNIVERSE'S MASS, THOUGH WE HAVE NEVER SEEN 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ALIAN INTERJECTION IS ALSO THE FIRST SONG ON ABBA'S SELF-TITLED ALB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9T18:40:10Z</dcterms:created>
  <dc:creator>Jennifer Budzinski</dc:creator>
  <dc:description/>
  <dc:language>en-US</dc:language>
  <cp:lastModifiedBy>Erich Friedman</cp:lastModifiedBy>
  <dcterms:modified xsi:type="dcterms:W3CDTF">2020-08-25T13:50:27Z</dcterms:modified>
  <cp:revision>353</cp:revision>
  <dc:subject/>
  <dc:title>Slide 1</dc:title>
</cp:coreProperties>
</file>