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F0B-A8BB-4F8A-B988-55D06E42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0323-2D2A-42D1-AC29-1BE0372F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013-B0DC-4366-82A5-FCCC5E75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4A0-DC20-4440-A6EB-EC90C49D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639-915D-41D9-BDC2-65627E8F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AD61-6184-4DD5-B819-26096E80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8D8-EEEC-49CE-BA8D-08754497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60C-9164-48D8-8FF7-D9BEBCD1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ACE-5ADC-4DB8-8CFE-E43D9E293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FB7-B1A8-4552-8434-B20498F0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84DA-EE04-4E72-8259-896C21F7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2408-7D8D-4DAE-8A8C-B9C09F7D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B22-9713-4051-98FF-C1B8D62E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BD6-9E93-4939-989E-1123DF48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C2DB-53EB-401F-87B1-6A00B9F4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320-E97D-457E-A32B-D38FA3B0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FD9-97D8-4D28-94CD-75BFE068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889-9ED6-4C21-A917-D4E8AEEB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9BA-6A6C-4EC1-A2E9-05BB16C8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512E-4FDC-493E-A710-52D2A571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7A12-C982-40ED-984C-B04A489E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6F38-0820-48FC-AC8C-9A1E6CAC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ABE-02FC-4B0F-8E96-5AFD06B5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700-8264-4669-B389-7B6C07239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96920" y="762120"/>
            <a:ext cx="6950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RECENTLY OMITTED "DONUTS" FROM THEI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3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HOLLYWOOD ARGYLES IN 1960 INSPIRED THE NAME OF A COMIC STRIP ABOUT A CAV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52640" y="762120"/>
            <a:ext cx="703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FILM DID TOM HANKS FALL IN LOVE WITH A MERMAID PLAYED BY DARYL HANN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88960" y="762120"/>
            <a:ext cx="796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HREE LITTLE PIGS" BUILT HOUSES OUT OF STRAW, WOOD, AND WHAT OTHER BUILDING MATE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8320" y="762120"/>
            <a:ext cx="794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DO YOU GET BY MULTIPLYING CURRENT AND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30360" y="774720"/>
            <a:ext cx="78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NAME IS GIVEN TO THE FIRST 3 COMMUNITY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6040" y="762120"/>
            <a:ext cx="825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ROBIN WILLIAMS PLAY PETER PAN AND JULIA ROBERTS PLAY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93680" y="762120"/>
            <a:ext cx="6954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3-LETTER WORD DENOTES THE TONIC NOTE OR CH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DESSERTS ARBY'S OFFERS ARE SHAKES, COOKIE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63800" y="762120"/>
            <a:ext cx="701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RECENTLY OMITTED "DONUTS" FROM THEI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Y  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03480" y="762120"/>
            <a:ext cx="673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HOLLYWOOD ARGYLES IN 1960 INSPIRED THE NAME OF A COMIC STRIP ABOUT A CAV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38240" y="4876920"/>
            <a:ext cx="7067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FILM DID TOM HANKS FALL IN LOVE WITH A MERMAID PLAYED BY DARYL HANN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97960" y="761760"/>
            <a:ext cx="794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HREE LITTLE PIGS" BUILT HOUSES OUT OF STRAW, WOOD, AND WHAT OTHER BUILDING MATE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16040" y="762120"/>
            <a:ext cx="771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DO YOU GET BY MULTIPLYING CURRENT AND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NAME IS GIVEN TO THE FIRST 3 COMMUNITY C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2200" y="762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ROBIN WILLIAMS PLAY PETER PAN AND JULIA ROBERTS PLAY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3-LETTER WORD DENOTES THE TONIC NOTE OR CH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761760"/>
            <a:ext cx="769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DESSERTS ARBY'S OFFERS ARE SHAKES, COOKIES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3T17:54:51Z</dcterms:modified>
  <cp:revision>521</cp:revision>
  <dc:subject/>
  <dc:title>Slide 1</dc:title>
</cp:coreProperties>
</file>