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397B-EF1F-4DA0-9583-699D04A39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6463-87A2-499B-B6AF-C64383097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4528-B9D3-4E95-AB7F-F9B5D05E5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E039-3E32-42D9-AA2F-7C4CF939E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1C4F-B5AA-4207-A587-1E0FEA16A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91B5-BEFF-4751-ACFC-F5D960251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D59A-4042-4F90-BBA8-9E0C98C16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77AF-5E8B-4C98-A0DE-5DF2D0959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761A-55C2-4AF7-BDEA-8D4225C86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7101-D4A6-493D-9D22-23027D1CD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F7E2-23B2-4276-9246-D46334CD0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024C-CF0B-41B6-A0D2-4DE60F3F2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7E81-53EC-423A-B964-D5EE867A7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FCB7-44CD-4982-B23D-C8BBF6D14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FD02-E04B-4FC6-A90B-F51F600A3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24B5-B18B-4334-BFDC-4841374A6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2667-EA77-46E1-B748-15E4A5E3B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39D6-93E9-4E6D-AD68-B62C281BA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6417-F44E-4B5F-9DEF-9D3F2CFE7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3D3B-9B1D-4CB7-A5AA-58910AF8F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5E98-D80D-49B6-B2D9-DA78976ED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2285-0E71-4520-BE3F-4E60D43B8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5F6F-03CF-4F3E-B801-08C64FFE5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D1DB-F5D1-4B33-BA87-01386FA25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96920" y="762120"/>
            <a:ext cx="6950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IN RECENTLY OMITTED "DONUTS" FROM THEIR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06640" y="761760"/>
            <a:ext cx="693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THE HOLLYWOOD ARGYLES IN 1960 INSPIRED THE NAME OF A COMIC STRIP ABOUT A CAV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052640" y="762120"/>
            <a:ext cx="703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4 FILM DID TOM HANKS FALL IN LOVE WITH A MERMAID PLAYED BY DARYL HANN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361800" y="4876920"/>
            <a:ext cx="842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88960" y="762120"/>
            <a:ext cx="796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THREE LITTLE PIGS" BUILT HOUSES OUT OF STRAW, WOOD, AND WHAT OTHER BUILDING MATER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98320" y="762120"/>
            <a:ext cx="794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DO YOU GET BY MULTIPLYING CURRENT AND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30360" y="774720"/>
            <a:ext cx="788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XAS HOLD'EM, WHAT NAME IS GIVEN TO THE FIRST 3 COMMUNITY C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46040" y="762120"/>
            <a:ext cx="8251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1 FILM DID ROBIN WILLIAMS PLAY PETER PAN AND JULIA ROBERTS PLAY TINKER B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93680" y="762120"/>
            <a:ext cx="6954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3-LETTER WORD DENOTES THE TONIC NOTE OR CH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27120" y="762120"/>
            <a:ext cx="788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NLY DESSERTS ARBY'S OFFERS ARE SHAKES, COOKIES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998720" y="4876920"/>
            <a:ext cx="514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NKIN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063800" y="762120"/>
            <a:ext cx="701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IN RECENTLY OMITTED "DONUTS" FROM THEIR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EY  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203480" y="762120"/>
            <a:ext cx="673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THE HOLLYWOOD ARGYLES IN 1960 INSPIRED THE NAME OF A COMIC STRIP ABOUT A CAV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038240" y="4876920"/>
            <a:ext cx="7067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KETBALL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4 FILM DID TOM HANKS FALL IN LOVE WITH A MERMAID PLAYED BY DARYL HANN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97960" y="761760"/>
            <a:ext cx="794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THREE LITTLE PIGS" BUILT HOUSES OUT OF STRAW, WOOD, AND WHAT OTHER BUILDING MATER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16040" y="762120"/>
            <a:ext cx="771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DO YOU GET BY MULTIPLYING CURRENT AND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XAS HOLD'EM, WHAT NAME IS GIVEN TO THE FIRST 3 COMMUNITY C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2200" y="762120"/>
            <a:ext cx="795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1 FILM DID ROBIN WILLIAMS PLAY PETER PAN AND JULIA ROBERTS PLAY TINKER B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09720" y="761760"/>
            <a:ext cx="732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3-LETTER WORD DENOTES THE TONIC NOTE OR CH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2160" y="761760"/>
            <a:ext cx="7699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NLY DESSERTS ARBY'S OFFERS ARE SHAKES, COOKIES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5-23T17:54:51Z</dcterms:modified>
  <cp:revision>521</cp:revision>
  <dc:subject/>
  <dc:title>Slide 1</dc:title>
</cp:coreProperties>
</file>