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45FC-41C3-4FD3-B09D-33DA39DFD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1681-3302-4286-B1E9-25862420D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9708-B12A-48F7-B6A4-01B65EFA5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E1C2-C483-468B-88BC-3948FFFC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6CB-278F-45E9-843D-77EF74EF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3142-2AF9-467B-9537-F52FBBB64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1DCE-6546-4BBF-B0AD-642FA30C7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3198-DB13-4319-A88C-5134001B8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32DB-140C-4BFF-9A9D-760249229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72D7-D303-44DA-9D1F-3145C1F8B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D1A8-61E2-4BF2-80A1-F91C854A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601-57CC-4908-9109-045BDB01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4887-9289-4ABE-80E1-9771897BE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95B15-24A9-44BF-88C9-6A362D8E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1BE7-AD6C-4405-B85A-6385BDF07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D79EE-F1A9-41E0-85F1-D898B1767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F1F24-04D4-4C63-B50A-4F95830E0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C865-3D0E-4B75-B90E-6CBB00469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DA1B-42DF-47C5-8AF7-158AC708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DA39-AFAA-452E-A389-544204407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8C9D-0A8A-48D8-A095-FF2889529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6AD5-B814-442F-9EB8-1C58E4CBA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1BBC-9261-4454-BDFF-A879AC75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44640" y="761760"/>
            <a:ext cx="72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LUMBINE", "IN COLD BLOOD", AND "MIDNIGHT IN THE GARDEN OF GOOD AND EVIL" ARE EXAMPLES OF WHAT BOOK GEN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3200" y="762120"/>
            <a:ext cx="8877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213000" y="2057400"/>
            <a:ext cx="2718000" cy="282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O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8640" y="762120"/>
            <a:ext cx="714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ERIES STARS NATHAN FILLION AS A POLIC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55520" y="762120"/>
            <a:ext cx="7031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TALIST CONQUERS THE GALAXY IN ISAAC ASIMOV'S "FOUNDATION"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SOLUTE  P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79320" y="762120"/>
            <a:ext cx="778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QUOTE BY LORD JOHN DALBERG-ACTON, MEMBER OF THE BRITISH PARLIAMENT: "____ ____ CORRUPTS ABSOLUTE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CADILL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31880" y="762120"/>
            <a:ext cx="767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TOP-10 SONG BY BRUCE SPRINGSTEEN USED AUTOMOBILE TRAVEL AS      A METAPHOR FOR SE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ANTU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2960" y="762120"/>
            <a:ext cx="731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SPIDERS IS THE LARGEST, AND THE MOST POPULAR AS 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  TO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, NAMED AFTER THE ITALIAN CITY OF TURIN, WAS DRIVEN BY "STARSKY AND HUT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840" y="762120"/>
            <a:ext cx="894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OWSER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997360" y="2133720"/>
            <a:ext cx="31492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76320" y="4952880"/>
            <a:ext cx="8991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IDGES  OF  MADISON  C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34800" y="762120"/>
            <a:ext cx="847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VE STORY BY ROBERT JAMES WALLER HAS SOLD ALMOST AS MANY COPIES AS THE HARRY POTTER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C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LUMBINE", "IN COLD BLOOD", AND "MIDNIGHT IN THE GARDEN OF GOOD AND EVIL" ARE EXAMPLES OF WHAT BOOK GEN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6320" y="4952880"/>
            <a:ext cx="8991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CLINT  EASTWOOD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69840" y="761760"/>
            <a:ext cx="720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ERIES STARS NATHAN FILLION AS A POLIC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76400" y="762120"/>
            <a:ext cx="6991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NTALIST CONQUERS THE GALAXY IN ISAAC ASIMOV'S "FOUNDATION"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9200" y="762120"/>
            <a:ext cx="7723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E QUOTE BY LORD JOHN DALBERG-ACTON, MEMBER OF THE BRITISH PARLIAMENT: "____ ____ CORRUPTS ABSOLUTE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6960" y="761760"/>
            <a:ext cx="775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TOP-10 SONG BY BRUCE SPRINGSTEEN USED AUTOMOBILE TRAVEL AS     A METAPHOR FOR SE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58960" y="761760"/>
            <a:ext cx="742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ILY OF SPIDERS IS THE LARGEST, AND THE MOST POPULAR AS 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5120" y="761760"/>
            <a:ext cx="8753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, NAMED AFTER THE ITALIAN CITY OF TURIN, WAS DRIVEN BY "STARSKY AND HUT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VE STORY BY ROBERT JAMES WALLER HAS SOLD ALMOST AS MANY COPIES AS THE HARRY POTTER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2T12:25:26Z</dcterms:modified>
  <cp:revision>500</cp:revision>
  <dc:subject/>
  <dc:title>Slide 1</dc:title>
</cp:coreProperties>
</file>