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94BD-3EAC-4235-AE91-41DA13724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68B3-0151-47E2-B19C-7A773675C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7A90-E20B-4F35-9E31-C3D566F87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311F-9D11-4AF6-880E-0AF73B5EE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6DA1-1D61-4ACB-AC47-C4328994B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1466-E934-416C-BB8E-E6DFD1453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285E-91B8-49F4-9CF3-D558DFFCB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4BBB-E78C-4862-9C75-670175891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56BF-1C06-4571-8B19-417BB8F2C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A2D4-ECFE-495C-9091-A795F805B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4D67-146A-47DC-B1CF-7FDCEE476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A02D-16AD-499A-BBAA-BFE71E6F3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462C-60FB-4833-AB00-A25E84C16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CC09-E0DB-4D6F-B233-97C2D2AF4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E885-F573-403F-B142-C1C38FE5A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96C6-D45F-487F-A55D-932C1D04E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F417-63B5-45B2-8B28-7564AA526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AF09-5BFF-44DF-9BEF-A3F1251FB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0F5C-F528-48A2-8E75-49196FDDA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26FA-6CD8-4472-AAF1-2ED7B0AEC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43C0-E77C-4CA1-BA82-1E7A7B6C2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F35C-C40A-4524-A583-EA39640EB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9C27-BF82-46B8-90A4-E0C40F7DE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44640" y="761760"/>
            <a:ext cx="72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OLUMBINE", "IN COLD BLOOD", AND "MIDNIGHT IN THE GARDEN OF GOOD AND EVIL" ARE EXAMPLES OF WHAT BOOK GEN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F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3200" y="762120"/>
            <a:ext cx="8877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OWSER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3213000" y="2057400"/>
            <a:ext cx="2718000" cy="282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-38160" y="495288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OK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98640" y="762120"/>
            <a:ext cx="7145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TV SERIES STARS NATHAN FILLION AS A POLICE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055520" y="762120"/>
            <a:ext cx="7031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NTALIST CONQUERS THE GALAXY IN ISAAC ASIMOV'S "FOUNDATION" NOV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SOLUTE 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79320" y="762120"/>
            <a:ext cx="7785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L IN THE QUOTE BY LORD JOHN DALBERG-ACTON, MEMBER OF THE BRITISH PARLIAMENT: "____ ____ CORRUPTS ABSOLUTE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K  CADILL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31880" y="762120"/>
            <a:ext cx="7678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TOP-10 SONG BY BRUCE SPRINGSTEEN USED AUTOMOBILE TRAVEL AS      A METAPHOR FOR SE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RANT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12960" y="762120"/>
            <a:ext cx="7318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OF SPIDERS IS THE LARGEST, AND THE MOST POPULAR AS P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  TOR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52280" y="762120"/>
            <a:ext cx="8839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D MODEL, NAMED AFTER THE ITALIAN CITY OF TURIN, WAS DRIVEN BY "STARSKY AND HUT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6840" y="762120"/>
            <a:ext cx="894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OWSER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997360" y="2133720"/>
            <a:ext cx="314928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76320" y="4952880"/>
            <a:ext cx="8991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RIDGES  OF  MADISON  COU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34800" y="762120"/>
            <a:ext cx="8474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VE STORY BY ROBERT JAMES WALLER HAS SOLD ALMOST AS MANY COPIES AS THE HARRY POTTER BOO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  CR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OLUMBINE", "IN COLD BLOOD", AND "MIDNIGHT IN THE GARDEN OF GOOD AND EVIL" ARE EXAMPLES OF WHAT BOOK GEN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76320" y="4952880"/>
            <a:ext cx="8991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LES  OF  CLINT  EASTWOOD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69840" y="761760"/>
            <a:ext cx="7204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TV SERIES STARS NATHAN FILLION AS A POLICE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76400" y="762120"/>
            <a:ext cx="6991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NTALIST CONQUERS THE GALAXY IN ISAAC ASIMOV'S "FOUNDATION" NOV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09200" y="762120"/>
            <a:ext cx="7723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L IN THE QUOTE BY LORD JOHN DALBERG-ACTON, MEMBER OF THE BRITISH PARLIAMENT: "____ ____ CORRUPTS ABSOLUTE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96960" y="761760"/>
            <a:ext cx="7750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TOP-10 SONG BY BRUCE SPRINGSTEEN USED AUTOMOBILE TRAVEL AS     A METAPHOR FOR SE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58960" y="761760"/>
            <a:ext cx="742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OF SPIDERS IS THE LARGEST, AND THE MOST POPULAR AS P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95120" y="761760"/>
            <a:ext cx="8753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D MODEL, NAMED AFTER THE ITALIAN CITY OF TURIN, WAS DRIVEN BY "STARSKY AND HUTC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16080" y="762120"/>
            <a:ext cx="8510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VE STORY BY ROBERT JAMES WALLER HAS SOLD ALMOST AS MANY COPIES AS THE HARRY POTTER BOO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7-12T12:25:26Z</dcterms:modified>
  <cp:revision>500</cp:revision>
  <dc:subject/>
  <dc:title>Slide 1</dc:title>
</cp:coreProperties>
</file>