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C282-E034-4B51-ADB1-501729940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F692-3530-4791-8D9D-A550A9E0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633F-E83F-4640-88D0-F83BFD951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E294-8AA7-40C6-9C00-58FC8D34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C11A-8CEC-4799-A2D3-D6DF55A0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3FE6-73AD-432F-81BE-0E23DC1B4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1511-1620-41FC-ABC0-746788B9D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E791-06FA-4C91-B5DF-5E67C8183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8653-4270-46C2-B230-E1871047D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1259-95BB-442E-A34C-B90227F89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CE8F-6655-40C4-84B1-A0CD51839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4F2A-12AC-4A5D-ADB6-15C304DD3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B53D-FCE7-4D9E-B05E-7FC9DF932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F051-8C7F-405B-8E18-103B1AD4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1EBC-E3A9-4C3A-9700-372614713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9B4-604E-4C2A-9A30-E3501C83B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D5DE-6C62-4489-BC4A-8800107A1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B8BF-09F8-4C10-8423-DC72FC1C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BD3D-9C75-4005-9A8C-3B5B42B0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2532-BE3C-4754-AD79-F508B68B2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04A2-A912-49D2-A6AB-F152A655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85CF-6F80-4142-8AD6-47AE128C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71D2-9EFA-464A-9D6A-8FFD1D823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34440" y="761760"/>
            <a:ext cx="847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ETS 1/5 OF ITS OPERATING BUDGET FROM FEES FROM A WATER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1960" y="762120"/>
            <a:ext cx="80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2200" y="762120"/>
            <a:ext cx="849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NAME MEANS "RED PEOPLE" IN CHOCT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OMAS)  JEFFERSON  (DAV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0680" y="762120"/>
            <a:ext cx="81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SHARED B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 AND THE PRESIDENT OF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T LEAVENWORTH, THE OLDEST U.S. ARMY POST WEST OF WASHINGTON, D.C.,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94000" y="762120"/>
            <a:ext cx="6154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OF CANADA BY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(EYE  MOV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17520" y="762120"/>
            <a:ext cx="6708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RE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 COVERS 1/5 OF THE EARTH'S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44680" y="762120"/>
            <a:ext cx="805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O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WHAT INDIAN TRIBE WERE CRAZY HORSE, RED CLOUD, AND SITTING BULL ME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11120" y="762120"/>
            <a:ext cx="8319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ETS 1/5 OF ITS OPERATING BUDGET FROM FEES FROM A WATER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IT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8040" y="761760"/>
            <a:ext cx="846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NAME MEANS "RED PEOPLE" IN CHOCT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00040" y="762120"/>
            <a:ext cx="814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SHARED B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 AND THE PRESIDENT OF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8720" y="762120"/>
            <a:ext cx="8026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T LEAVENWORTH, THE OLDEST U.S. ARMY POST WEST OF WASHINGTON, D.C., IS LOCATED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96880" y="761760"/>
            <a:ext cx="615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OF CANADA BY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01680" y="761760"/>
            <a:ext cx="67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RE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05960" y="761760"/>
            <a:ext cx="7729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 COVERS 1/5 OF THE EARTH'S SURF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WHAT INDIAN TRIBE WERE CRAZY HORSE, RED CLOUD, AND SITTING BULL ME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5T14:40:10Z</dcterms:modified>
  <cp:revision>500</cp:revision>
  <dc:subject/>
  <dc:title>Slide 1</dc:title>
</cp:coreProperties>
</file>