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C962-96C8-4875-9B04-65C768B6F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B361-A644-4B57-8961-6867B0931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627F-56BA-4755-991D-D2C18E496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865D-22A9-471B-ACE1-EFB30ED04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2E5A-D81D-43A3-8391-E8F08BCF2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8615-D2CB-4C06-A617-6CA044C05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4F8D-1FA0-4ED7-8947-B29406DE8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F907-88EE-43E6-9FC3-BA3139A5E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CDBA-41D6-4164-A878-397E520D5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D2D9-68B9-40AF-988B-B1C41C7AE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E97F-1766-4D84-B070-56E5CA1F3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596F-85E7-4A57-9BC0-3A9B44A52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6C91-4388-4B39-8953-4DAB3BD55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8827-9DAF-4DCE-BB4B-B7EC5537C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FCAF-193C-4925-8F2F-E83E591A6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5C85-88BF-49C2-A4FB-6E9F1BD6A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43E0-EAA3-4936-92B4-1FF056A1D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C714-813D-4A11-B7F4-DADEE1AA2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8D35-83E8-4720-8DBB-64D08B6E5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B4FD-7770-4879-83FA-1EB7C4F1B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D357-8D5C-4162-B9D4-E4D31642D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CEB8-283E-472C-9834-1D788EBA9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5672-C35C-488B-9FCE-E93C7E1E8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34440" y="761760"/>
            <a:ext cx="8472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GETS 1/5 OF ITS OPERATING BUDGET FROM FEES FROM A WATERW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X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61960" y="762120"/>
            <a:ext cx="8020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OUS SPANISH-SPEAKING COUNTRY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-38160" y="495288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KLAHO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22200" y="762120"/>
            <a:ext cx="849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'S NAME MEANS "RED PEOPLE" IN CHOCTA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HOMAS)  JEFFERSON  (DAV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90680" y="762120"/>
            <a:ext cx="8162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SHARED BY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 AND THE PRESIDENT OF THE CONFEDERATE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NS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T LEAVENWORTH, THE OLDEST U.S. ARMY POST WEST OF WASHINGTON, D.C., IS LOCATED IN WHAT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B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494000" y="762120"/>
            <a:ext cx="6154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PROVINCE OF CANADA BY AR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PID  (EYE  MOV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217520" y="762120"/>
            <a:ext cx="6708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R" STAND FOR IN "RE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TLAN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CEAN COVERS 1/5 OF THE EARTH'S SURF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44680" y="762120"/>
            <a:ext cx="8054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OUS SPANISH-SPEAKING COUNTRY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O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34800" y="762120"/>
            <a:ext cx="8474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WHAT INDIAN TRIBE WERE CRAZY HORSE, RED CLOUD, AND SITTING BULL MEMB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N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11120" y="762120"/>
            <a:ext cx="8319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GETS 1/5 OF ITS OPERATING BUDGET FROM FEES FROM A WATERW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47640" y="495288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CITY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38040" y="761760"/>
            <a:ext cx="8467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'S NAME MEANS "RED PEOPLE" IN CHOCTA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00040" y="762120"/>
            <a:ext cx="8143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SHARED BY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 AND THE PRESIDENT OF THE CONFEDERATE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58720" y="762120"/>
            <a:ext cx="8026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T LEAVENWORTH, THE OLDEST U.S. ARMY POST WEST OF WASHINGTON, D.C., IS LOCATED IN WHAT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496880" y="761760"/>
            <a:ext cx="615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PROVINCE OF CANADA BY ARE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01680" y="761760"/>
            <a:ext cx="674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R" STAND FOR IN "RE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05960" y="761760"/>
            <a:ext cx="7729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CEAN COVERS 1/5 OF THE EARTH'S SURF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16080" y="762120"/>
            <a:ext cx="8510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WHAT INDIAN TRIBE WERE CRAZY HORSE, RED CLOUD, AND SITTING BULL MEMB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7-15T14:40:10Z</dcterms:modified>
  <cp:revision>500</cp:revision>
  <dc:subject/>
  <dc:title>Slide 1</dc:title>
</cp:coreProperties>
</file>