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3066-2CC4-4CAC-8753-97BA8F097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A798-F725-42DA-B22E-DC8C7D8FB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126F-1F6F-4BF6-A3EC-FDE5104E3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A6D6-E386-4588-A46F-30229B3DD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FB25-D8C3-4994-87AA-671771677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8439-A69F-437B-ADA7-1CC7E0422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A0FF-9548-45B1-93FB-6834039FB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D49C-E246-4AC3-8CE9-ACA433DF6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2BA0-1997-4AD2-B20F-7A9CD758F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342C-CBBA-4B32-8DE1-5F0FEB3CF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D446-7FBF-4DF1-914C-681B3DFD6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BF49-5411-4F98-B253-A5C74A225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D281-2C1C-4E11-AC98-F8548AC91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B3A9-58C4-4D7C-804E-F00804A6C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774E-6E9D-424D-8245-0FB545F7F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D0E8-4390-4C59-8212-A80EF8050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1482-CE7F-413C-BA54-DC0CDF93A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6150-C9C0-4403-9B3B-DA4CFA319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33AE-0D2E-49D9-B1AF-62738C280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3F25-D95D-49CF-9011-69B2B9A7F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BE10-DDF8-4460-AAF7-2AEF8EA7D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2FFD-88DC-4654-86EF-1DD644617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44F4-5EF7-4AA7-840E-42468BF3D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3800" y="761760"/>
            <a:ext cx="8096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CE 1965, WHAT BREAKFAST CEREAL HAS CONSISTED OF HEXAGONS OF SWEETENED CORN FUSED TOGE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OF CLOTHING DO MANY GROOMS REMOVE FROM THEIR BRIDE AT THE RECEPTION, SYMBOLIZING HER DEFLOWE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309680" y="762120"/>
            <a:ext cx="6524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ONE DO HUMANS HAVE 24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ERPIL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36800" y="762120"/>
            <a:ext cx="7068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OTH IN ITS LARVAL STAG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MB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46320" y="762120"/>
            <a:ext cx="665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STEST GROWING PLANT BELONGS TO WHAT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44480" y="762120"/>
            <a:ext cx="765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IS EQUAL TO 1/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NAUTICAL M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1720" y="762120"/>
            <a:ext cx="754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SSAN MODEL IS THE WORLD'S BEST-SELLING HIGHWAY-CAPABLE ELECTRIC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ERSU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1920" y="762120"/>
            <a:ext cx="847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BRIC'S NAME COMES FROM THE PERSIAN WORDS "SHÎR" AND "SHAKAR", MEANING "MILK" AND "SUG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65280" y="762120"/>
            <a:ext cx="781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OF CLOTHING DO MANY GROOMS REMOVE FROM THEIR BRIDE AT THE RECEPTION, SYMBOLIZING HER DEFLOWE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0080" y="762120"/>
            <a:ext cx="8943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IT HAS A SOLO IN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VEMENT, FRANZ LISZT'S PIANO CONCERTO NO. 1 IS NAMED FOR WHAT INSTRU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EYCO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95200" y="762120"/>
            <a:ext cx="855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CE 1965, WHAT BREAKFAST CEREAL HAS CONSISTED OF HEXAGONS OF SWEETENED CORN FUSED TOGE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76280" y="4952880"/>
            <a:ext cx="819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KNITTING  STIT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71160" y="761760"/>
            <a:ext cx="6599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ONE DO HUMANS HAVE 24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3080" y="762120"/>
            <a:ext cx="7196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OTH IN ITS LARVAL STAG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6600" y="762120"/>
            <a:ext cx="667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STEST GROWING PLANT BELONGS TO WHAT SPEC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7240" y="761760"/>
            <a:ext cx="7769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IS EQUAL TO 1/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NAUTICAL MI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08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SSAN MODEL IS THE WORLD'S BEST-SELLING HIGHWAY-CAPABLE ELECTRIC 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9600" y="761760"/>
            <a:ext cx="852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BRIC'S NAME COMES FROM THE PERSIAN WORDS "SHÎR" AND "SHAKAR", MEANING "MILK" AND "SUG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160" y="762120"/>
            <a:ext cx="9105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IT HAS A SOLO IN THE 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VEMENT, FRANZ LISZT'S PIANO CONCERTO NO. 1 IS NAMED FOR WHAT INSTRU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5T14:45:40Z</dcterms:modified>
  <cp:revision>469</cp:revision>
  <dc:subject/>
  <dc:title>Slide 1</dc:title>
</cp:coreProperties>
</file>