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69EE-8EF7-44C2-8FAF-D03C5C91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A742-5DA4-4DF1-8FE9-38C3AE11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3D50-022A-47D2-BD39-C57097C1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95C-4C17-426B-90C0-A88DE20B6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EA4-DEF2-4B30-9EB1-D546C544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D385-7AC8-416A-BA25-36929CECF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BDC3-2FDF-43B3-A90A-768D757A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ED96-D44D-47C8-BA86-09E56A59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863D-7399-4B2E-826D-54884AFB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268-BC6B-41F6-B374-70D0E5FDB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857E-97B9-4618-B50E-F6E1DC240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9255-1E7A-4796-B72A-8C6A08D97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E541-4556-4799-A4A1-9A565D29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2BD-619F-4EF2-A818-1BC4D9E38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0342-AB1C-44E2-80E2-8FBA771D9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4012-3DB3-451B-9CE4-8CF55B66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B4D6-121B-4D34-9549-78AAEB102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7477-7D7E-4386-964F-DBADB979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ECE9-2977-4ADC-AED5-549224DF6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BA54-3CC8-4DE4-831E-1043E9204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CD8A-4BF5-478D-9514-E3434033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2DA-1981-4EC7-989D-E58504D3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01CF-0FD9-449C-88B8-D56170C0D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1965, WHAT BREAKFAST CEREAL HAS CONSISTED OF HEXAGONS OF SWEETENED CORN FUSED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9680" y="762120"/>
            <a:ext cx="65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E DO HUMANS HAVE 24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OTH IN ITS LARVAL STAG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STEST GROWING PLANT BELONGS TO WHAT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EQUAL TO 1/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NAUTICAL 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1720" y="762120"/>
            <a:ext cx="754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ERS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BRIC'S NAME COMES FROM THE PERSIAN WORDS "SHÎR" AND "SHAKAR", MEANING "MILK" AND "SUG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0080" y="762120"/>
            <a:ext cx="894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FRANZ LISZT'S PIANO CONCERTO NO. 1 IS NAMED FOR WHAT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CO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1965, WHAT BREAKFAST CEREAL HAS CONSISTED OF HEXAGONS OF SWEETENED CORN FUSED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KNITTING  STI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71160" y="761760"/>
            <a:ext cx="659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E DO HUMANS HAVE 24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OTH IN ITS LARVAL STAG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STEST GROWING PLANT BELONGS TO WHAT SPEC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EQUAL TO 1/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NAUTICAL M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SSAN MODEL IS THE WORLD'S BEST-SELLING HIGHWAY-CAPABLE ELECTRIC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BRIC'S NAME COMES FROM THE PERSIAN WORDS "SHÎR" AND "SHAKAR", MEANING "MILK" AND "SUG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160" y="762120"/>
            <a:ext cx="910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FRANZ LISZT'S PIANO CONCERTO NO. 1 IS NAMED FOR WHAT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5T14:45:40Z</dcterms:modified>
  <cp:revision>469</cp:revision>
  <dc:subject/>
  <dc:title>Slide 1</dc:title>
</cp:coreProperties>
</file>