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F2AD-5802-4883-9B8A-DD6866D42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1131-9668-40DE-9614-49365FE7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27C-4C7C-4BE1-B5CB-2CA118465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312-FAA0-4EAC-B4A3-D731DA873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5542-5711-44E1-9601-DAEBFD43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E9F3-6DE2-4D74-9053-9C05C8715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84E5-2D3F-4766-8842-33CE9118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C6E-7BCF-45F0-977C-2090817D0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DD6E-F711-45C4-AF1A-A8112334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AC3E-19A2-480F-97F1-76B5AA4A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9CC9-D0C1-41CA-8C9F-66BFED97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CC7F-FCAD-42A7-9695-DE9830C8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BE3-C1C2-41B5-8C16-7B40D5EF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92F8-A054-4DD0-9BE6-22B569BB6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A8B6-7EEF-4C90-BCD9-CAFAB410B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A299-3010-4001-9E20-B6D6F14F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12D1-FCFE-4E1C-AFA9-692F0D4BA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B7C-DF46-4AAE-92A6-DE60CD6E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8B41-A9B3-4747-AB17-D3EEFFAD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C3E5-DFAD-4194-908F-6D31EA1E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12D2-02B8-4A4D-A7D1-F1B08FF00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1CAF-EB06-46E5-84B2-3D488A0E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13F6-3D66-40BD-A55C-3B2D5CBA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68320" y="762120"/>
            <a:ext cx="74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WELVE DAYS OF CHRISTMAS", WHAT IS THE NEW GIFT ON DAY 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5240" y="762120"/>
            <a:ext cx="701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SKI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I  MINA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26960" y="762120"/>
            <a:ext cx="829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ARTIST KNOWN    FOR HER PINK WIG PUT OUT ALBUMS TITLED "PINK FRIDAY" AND "THE PINKPR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6320" y="78264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EB HOSTING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AT  TIFFA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26920" y="762120"/>
            <a:ext cx="749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AUDREY HEPBURN SING THE SONG "MOON R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D  BA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PILOT MANFRED VON RICHTHOFE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SW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7080" y="762120"/>
            <a:ext cx="762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ILENT SCREEN'S MOST SUCCESSFUL AND HIGHEST PAID FEMALE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WH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NS THE WEBSITE "INFOWARS", BASED ON CONSPIRACY THEORIES AND FAKE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  PIPERS  PI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3400" y="762120"/>
            <a:ext cx="747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WELVE DAYS OF CHRISTMAS", WHAT IS THE NEW GIFT ON DAY 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76200" y="4343400"/>
            <a:ext cx="8391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MATES  ON  "ORANGE  IS  THE  NEW  BL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SKI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6280" y="762120"/>
            <a:ext cx="819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ARTIST KNOWN   FOR HER PINK WIG PUT OUT ALBUMS TITLED "PINK FRIDAY" AND "THE PINKPR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EB HOSTING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AUDREY HEPBURN SING THE SONG "MOON RI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09520" y="761760"/>
            <a:ext cx="6924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PILOT MANFRED VON RICHTHOFEN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2120"/>
            <a:ext cx="7767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ILENT SCREEN'S MOST SUCCESSFUL AND HIGHEST PAID FEMALE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1640" y="762120"/>
            <a:ext cx="75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NS THE WEBSITE "INFOWARS", BASED ON CONSPIRACY THEORIES AND FAKE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01T14:58:07Z</dcterms:modified>
  <cp:revision>453</cp:revision>
  <dc:subject/>
  <dc:title>Slide 1</dc:title>
</cp:coreProperties>
</file>