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13CA-000F-4E68-AF22-D73ED7EB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29A-8F92-4B69-AA45-DF2DD18C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571-0E86-4A88-A675-DF73960F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279-156A-4F3A-A1FE-28348974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A50-2FD7-4D98-9CC4-DE29FB5D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62E-2E54-4B44-A52C-E6B10489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BBB-E2EC-4A46-B24C-9D871D8F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29A-6A99-4BA1-8C8B-C2CE8E85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747-B435-4303-B211-C8333156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1C8-4A2A-4FDA-A78F-689E27DA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690-D767-48BA-A0F9-44C24822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AE81-529C-4E14-AE88-648C9634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7EB-C209-4F01-81FB-AC4A32A7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B03-C6CA-4938-82D2-E7B799C8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5957-7977-47D8-9CC3-89CF4D51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C20-449D-4451-AEA3-2E7EBF4D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81F9-7E89-4046-9437-EA435AFD1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4EC-DAC7-49F8-A986-B39E77C1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B7F-70D9-4B1F-A418-881D4864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B3F-699F-4A49-9173-C16C5F83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9D2-711F-4475-8208-75B26A0C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5A0-6CCA-499A-9E48-C760BB27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6C7-03E3-41F6-84C9-9AF7F142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8320" y="762120"/>
            <a:ext cx="74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WELVE DAYS OF CHRISTMAS", WHAT IS THE NEW GIFT ON DAY 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5240" y="762120"/>
            <a:ext cx="701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SKI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I  MIN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26960" y="762120"/>
            <a:ext cx="829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ARTIST KNOWN    FOR HER PINK WIG PUT OUT ALBUMS TITLED "PINK FRIDAY" AND "THE PINKPR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6320" y="78264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EB HOSTING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AT  TIFFA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26920" y="762120"/>
            <a:ext cx="749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AUDREY HEPBURN SING THE SONG "MOON R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D  BA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PILOT MANFRED VON RICHTHOFE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SW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7080" y="762120"/>
            <a:ext cx="762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ILENT SCREEN'S MOST SUCCESSFUL AND HIGHEST PAID FEMALE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WH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NS THE WEBSITE "INFOWARS", BASED ON CONSPIRACY THEORIES AND FAKE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  PIPERS  PI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3400" y="762120"/>
            <a:ext cx="747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WELVE DAYS OF CHRISTMAS", WHAT IS THE NEW GIFT ON DAY 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76200" y="4343400"/>
            <a:ext cx="8391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MATES  ON  "ORANGE  IS  THE  NEW  BL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SKI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6280" y="762120"/>
            <a:ext cx="819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ARTIST KNOWN   FOR HER PINK WIG PUT OUT ALBUMS TITLED "PINK FRIDAY" AND "THE PINKPR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EB HOSTING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AUDREY HEPBURN SING THE SONG "MOON RI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09520" y="761760"/>
            <a:ext cx="6924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PILOT MANFRED VON RICHTHOFEN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2120"/>
            <a:ext cx="7767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ILENT SCREEN'S MOST SUCCESSFUL AND HIGHEST PAID FEMALE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1640" y="762120"/>
            <a:ext cx="75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NS THE WEBSITE "INFOWARS", BASED ON CONSPIRACY THEORIES AND FAKE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01T14:58:07Z</dcterms:modified>
  <cp:revision>453</cp:revision>
  <dc:subject/>
  <dc:title>Slide 1</dc:title>
</cp:coreProperties>
</file>