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0029-5FA5-4AC6-87A3-70B3E9D9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78D-6D6C-4F67-AF61-4AD7F12F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C447-7378-4D0B-A262-31B52A9E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52D-EF48-4304-9E85-4F92EB06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8C8D-53A9-439C-B185-D40DC0E3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70F-0E05-46E7-BA18-50049CF3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842F-D232-4B6F-9054-9E7DAA43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D34-8E99-4895-9C56-9DA4FA59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B8B6-291C-4C1E-817C-459EF8BA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2CA-6018-4006-BB67-7192C374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1D26-AE4C-4362-BD72-760A9C11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777-EB64-4A89-8FF2-9C56B16E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9D9-9E9B-4817-A51D-C6EAC3B6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8F4E-1F25-4C66-9C98-2B3DAF3F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A08D-F507-44B8-91BD-030272D8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A22-F711-4988-B6AD-BC92950A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82F3-FD7A-4A7B-8D6A-43DAE969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C1C-58FB-4EB8-8989-92AC048C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AC41-9D88-4E4A-88FE-40FC618D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870-FA5E-4E48-943B-62EC5200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A26-4323-4E5F-91F9-E11959E3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09EF-1203-4829-9B33-819F4CB5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9DE-0701-488C-8BE3-6AD3E9A6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ST OF "WHO WANTS TO BE A MILLIONAIRE", AFTER REGIS PHILB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HA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AT JOHN MCCAIN'S FUNERAL: "AMERICA HAS NO NEED TO BE MADE GREAT AGAIN BECAUSE AMERICA WAS ALWAYS GRE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PE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WHITE MAN CAN'T JUMP" WAS NOMINATED FOR BEST SUPPORTING ACTRESS FOR "FEARL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Y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IS A PROMINENT PURVEYOR OF ANTI-VACCINATION IDE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BEST ACTRESS FOR "THE COLOR PURPLE" AND "GH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O'DONN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THE WEBSITE WWW.ROSIE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A  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CBS SHOW "THE JOB", THE OWN SHOW "OUR AMERICA", AND THE CNN SHOW "THIS IS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WA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676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-ANCHORED THE TV SHOW "20 / 20" FOR 2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3600" y="762120"/>
            <a:ext cx="8234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AT JOHN MCCAIN'S FUNERAL: "AMERICA HAS NO NEED TO BE MADE GREAT AGAIN BECAUSE AMERICA WAS ALWAYS GRE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Y  HUNT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UGHTER OF THE AMBASSADOR TO RUSSIA LEFT THE MORMON CHURCH OVER HER SUPPORT FOR LGBT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EDITH  VI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ST OF "WHO WANTS TO BE A MILLIONAIRE", AFTER REGIS PHILB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TED  "THE  VIE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WHITE MAN CAN'T JUMP" WAS NOMINATED FOR BEST SUPPORTING ACTRESS FOR "FEARL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71520" y="762120"/>
            <a:ext cx="8400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IS A PROMINENT PURVEYOR OF ANTI-VACCINATION IDE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BEST ACTRESS FOR "THE COLOR PURPLE" AND "GH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THE WEBSITE WWW.ROSIE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CBS SHOW "THE JOB", THE OWN SHOW "OUR AMERICA", AND THE CNN SHOW "THIS IS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5040" y="7621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-ANCHORED THE TV SHOW "20 / 20" FOR 2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UGHTER OF THE AMBASSADOR TO RUSSIA LEFT THE MORMON CHURCH OVER HER SUPPORT FOR LGBT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01T15:02:58Z</dcterms:modified>
  <cp:revision>443</cp:revision>
  <dc:subject/>
  <dc:title>Slide 1</dc:title>
</cp:coreProperties>
</file>