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2DD4-EB21-4993-BF8B-F42899F22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834C-A824-4B67-9A4F-DCAD3D2F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3426-7CD3-49F0-9AAD-E24A7FA8D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5C8E-39F1-4D90-8F8C-F499199E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536F-7648-4E43-8D8B-467C6C28B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DD52-D884-41F1-A053-29A2D111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7A55-C1AE-4008-8701-E718B605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E4D0-7F37-4E21-A384-EC57B4940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60C-8B0B-47D8-936F-327E98771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D4C2-A435-4E23-8C75-97DF25861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4718-9ECE-4947-AD8D-AF49A0557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75EA-DA50-44C5-ACC9-B0D179D9A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A2EC-07D3-4D13-8251-EAF366F5C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EA91-742A-4D3E-AA74-5396C7225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971F-82A3-4743-9E23-F45D24F00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98C-91E9-4038-B485-3A9AE59D7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7E35-745A-4C7B-BCFD-76DD075BA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27C2-A7DF-4B80-9A25-D5B609F7C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F05B-82DC-4533-B1ED-EBB3887BD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1CCA-44F0-4B51-A4C3-277BB8DEC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A2D4-A115-4F32-8CD9-89289D65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6C47-6452-4997-8DB7-1FF8A48B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F82-CE62-45B6-8363-30293126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85840" y="762120"/>
            <a:ext cx="67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ST OF "WHO WANTS TO BE A MILLIONAIRE", AFTER REGIS PHILB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HA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AT JOHN MCCAIN'S FUNERAL: "AMERICA HAS NO NEED TO BE MADE GREAT AGAIN BECAUSE AMERICA WAS ALWAYS GRE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IE  PER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8120" y="762120"/>
            <a:ext cx="8267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WHITE MAN CAN'T JUMP" WAS NOMINATED FOR BEST SUPPORTING ACTRESS FOR "FEARL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Y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IS A PROMINENT PURVEYOR OF ANTI-VACCINATION IDE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OPI  GOLD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BEST ACTRESS FOR "THE COLOR PURPLE" AND "GH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IE  O'DONN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THE WEBSITE WWW.ROSIE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SA  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CBS SHOW "THE JOB", THE OWN SHOW "OUR AMERICA", AND THE CNN SHOW "THIS IS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WA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6760" y="762120"/>
            <a:ext cx="7348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-ANCHORED THE TV SHOW "20 / 20" FOR 2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3600" y="762120"/>
            <a:ext cx="8234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AT JOHN MCCAIN'S FUNERAL: "AMERICA HAS NO NEED TO BE MADE GREAT AGAIN BECAUSE AMERICA WAS ALWAYS GRE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Y  HUNT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UGHTER OF THE AMBASSADOR TO RUSSIA LEFT THE MORMON CHURCH OVER HER SUPPORT FOR LGBT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EDITH  VI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00240" y="762120"/>
            <a:ext cx="6743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OST OF "WHO WANTS TO BE A MILLIONAIRE", AFTER REGIS PHILB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876920"/>
            <a:ext cx="7639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TED  "THE  VIEW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WHITE MAN CAN'T JUMP" WAS NOMINATED FOR BEST SUPPORTING ACTRESS FOR "FEARL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71520" y="762120"/>
            <a:ext cx="8400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AYBO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YMATE OF THE YEAR IS A PROMINENT PURVEYOR OF ANTI-VACCINATION IDEO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S FOR BEST ACTRESS FOR "THE COLOR PURPLE" AND "GH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S THE WEBSITE WWW.ROSIE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CBS SHOW "THE JOB", THE OWN SHOW "OUR AMERICA", AND THE CNN SHOW "THIS IS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5040" y="762120"/>
            <a:ext cx="7691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-ANCHORED THE TV SHOW "20 / 20" FOR 2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UGHTER OF THE AMBASSADOR TO RUSSIA LEFT THE MORMON CHURCH OVER HER SUPPORT FOR LGBT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01T15:02:58Z</dcterms:modified>
  <cp:revision>443</cp:revision>
  <dc:subject/>
  <dc:title>Slide 1</dc:title>
</cp:coreProperties>
</file>