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6F26-DF51-4ABC-B021-C7EC0B9D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485D-3882-42A2-951F-727A4AD2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543F-26A1-4B5A-BADA-C90F3ABDB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1FE-8FE3-4A77-824F-23D0C5BEA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1ABD-4660-4BC5-B88E-38D6042EC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5F3E-3263-4A26-9400-AF072972D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0F56-5B4F-449F-BA28-70287F66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3DEA-3D4F-4FCE-BD1A-987A513C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0687-B8FE-479D-AC54-19BD9B587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AEF4-09BF-4B10-8D40-C644326C4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2F0C-CD31-4076-B1B5-68FB11303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A997-32C3-49C8-8E35-761B638C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BEE1-A7E6-4613-8BEF-70DEAFEE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C6E5-1BDE-4A83-B4AE-56DBEBBA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43E-53BF-4BB3-9F2C-A651ACDEE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17B-E8CA-4665-A097-89607896E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172F-415F-4113-97C5-6C2B334AC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0069-DA88-4487-9D7C-825744ABC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6EBA-2D88-46E9-8E1D-E61A8DDE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C014-89D5-409D-BCB9-A1B2ED82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7DB2-F769-4C9C-B9AC-60190331D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27FA-2515-4A2F-8386-F63BE45AA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E04-3BA4-4002-A65F-8E72B762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1FF-5B99-418E-808E-B7A8E58C5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PRIATELY ENOUGH,  THREE DOG NIGHT HAD THREE #1 HIT SONGS: "MAMA TOLD ME", "JOY TO THE WORLD",  AND WHAT OTHER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ST OFFICE IN WHAT TOWN BETWEEN ORLANDO AND TITUSVILLE SENDS MUCH MORE MAIL PER CAPITA THAN ANY OTHER CITY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CONSISTS OF GENE SIMMONS, PAUL STANLEY, ERIC SINGER, AND ONE OTHER PERSON WHOSE LAST NAME DOESN'T START WITH "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 FOOTBALL BOWL IS PLAYED IN NEW ORLEANS AND IS CURRENTLY SPONSORED BY ALL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87240" y="762120"/>
            <a:ext cx="7767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SIMPSONS", WHAT IS NAME OF THEIR SEQUENCE OF 5 PET CATS, ALL NAMED FOR THE FIRST WHITE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NANCE MAGAZINE ALSO STARTING WITH "F" IS THE MAIN COMPETITOR OF "FORB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04920" y="990720"/>
            <a:ext cx="3585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ORD PUZZL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381560" y="457200"/>
            <a:ext cx="436248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  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92240" y="762120"/>
            <a:ext cx="875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DOES GEORGE WASHINGTON CARVER OFTEN GET CREDIT FOR INVENTING, THOUGH IT WAS PRODUCED MORE THAN 30 YEARS EARLI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320" y="990720"/>
            <a:ext cx="514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VING CHILDREN'S TOY WAS THIS GALAXY NAMED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24648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&amp;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4200" y="762120"/>
            <a:ext cx="8715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PRIATELY ENOUGH,  THREE DOG NIGHT HAD THREE #1 HIT SONGS: "MAMA TOLD ME", "JOY TO THE WORLD", AND WHAT OTHER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03120" y="762120"/>
            <a:ext cx="853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ST OFFICE IN WHAT TOWN BETWEEN ORLANDO AND TITUSVILLE SENDS MUCH MORE MAIL PER CAPITA THAN ANY OTHER CITY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89000" y="762120"/>
            <a:ext cx="876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CONSISTS OF GENE SIMMONS, PAUL STANLEY, ERIC SINGER, AND ONE OTHER PERSON WHOSE LAST NAME DOESN'T START WITH "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 FOOTBALL BOWL IS PLAYED IN NEW ORLEANS AND IS CURRENTLY SPONSORED BY ALL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42960" y="762120"/>
            <a:ext cx="785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SIMPSONS", WHAT IS NAME OF THEIR SEQUENCE OF 5 PET CATS, ALL NAMED FOR THE FIRST WHITE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NANCE MAGAZINE ALSO STARTING WITH "F" IS THE MAIN COMPETITOR OF "FORB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371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ORD PUZZLE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381560" y="457200"/>
            <a:ext cx="43624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DOES GEORGE WASHINGTON CARVER OFTEN GET CREDIT FOR INVENTING, THOUGH IT WAS PRODUCED MORE THAN 30 YEARS EAR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5920" y="914040"/>
            <a:ext cx="529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VING CHILDREN'S TOY WAS THIS GALAXY NAMED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246480" cy="253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16:52:50Z</dcterms:modified>
  <cp:revision>488</cp:revision>
  <dc:subject/>
  <dc:title>Slide 1</dc:title>
</cp:coreProperties>
</file>