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E373-EB78-42A0-970A-4AF79FA79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F9EE-87C9-494B-91A9-ED605B46B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F1A5-369A-4BBC-B00A-29336580B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BC35-987E-44FF-8C06-3098A6CDC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BD4F-F6B5-4500-883A-97FFDBB7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8254-FC01-483C-AC58-5D650CABF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B0EA-EB5E-4E57-ACC1-9B050358D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3D89-7AE7-4D99-A924-397108C41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1E91-1695-40FE-9534-A00E90ED2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1B0B-BA7D-4504-9B6E-8165725F4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57E2-099D-4355-8C30-4AF8D06FC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69B5-869C-4341-B0D7-1EF3C6A11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FE9A-E771-4C66-B217-0A55CDF36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ED83-D514-4625-A956-406AF0541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5957-A1EC-453B-B53E-4C2979518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DA6C-26FD-4122-89CE-613301A31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FC7D-ABD1-496B-8442-F5B857DE9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79E4-FC02-472F-993B-FCD7869C2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A797-C51B-44C4-A97F-39E27041B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8A60-2763-46EB-B3DE-13BF882BA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5054-ABAD-4174-A3D2-04C3F2D8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BD88-AE44-488C-AB00-AA73E4285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C1FC-D7A2-4E3D-8176-7D1748176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346A-FD63-4AC8-8D8A-7A25103DA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PRIATELY ENOUGH,  THREE DOG NIGHT HAD THREE #1 HIT SONGS: "MAMA TOLD ME", "JOY TO THE WORLD",  AND WHAT OTHER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20840" y="761760"/>
            <a:ext cx="8300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ST OFFICE IN WHAT TOWN BETWEEN ORLANDO AND TITUSVILLE SENDS MUCH MORE MAIL PER CAPITA THAN ANY OTHER CITY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47680" y="762120"/>
            <a:ext cx="864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CONSISTS OF GENE SIMMONS, PAUL STANLEY, ERIC SINGER, AND ONE OTHER PERSON WHOSE LAST NAME DOESN'T START WITH "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LEGE FOOTBALL BOWL IS PLAYED IN NEW ORLEANS AND IS CURRENTLY SPONSORED BY ALL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87240" y="762120"/>
            <a:ext cx="7767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SIMPSONS", WHAT IS NAME OF THEIR SEQUENCE OF 5 PET CATS, ALL NAMED FOR THE FIRST WHITE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NANCE MAGAZINE ALSO STARTING WITH "F" IS THE MAIN COMPETITOR OF "FORB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04920" y="990720"/>
            <a:ext cx="3585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WORD PUZZL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381560" y="457200"/>
            <a:ext cx="436248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  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92240" y="762120"/>
            <a:ext cx="875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DOES GEORGE WASHINGTON CARVER OFTEN GET CREDIT FOR INVENTING, THOUGH IT WAS PRODUCED MORE THAN 30 YEARS EARLI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320" y="990720"/>
            <a:ext cx="514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VING CHILDREN'S TOY WAS THIS GALAXY NAMED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24648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&amp;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4200" y="762120"/>
            <a:ext cx="8715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PRIATELY ENOUGH,  THREE DOG NIGHT HAD THREE #1 HIT SONGS: "MAMA TOLD ME", "JOY TO THE WORLD", AND WHAT OTHER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03120" y="762120"/>
            <a:ext cx="853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ST OFFICE IN WHAT TOWN BETWEEN ORLANDO AND TITUSVILLE SENDS MUCH MORE MAIL PER CAPITA THAN ANY OTHER CITY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OO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89000" y="762120"/>
            <a:ext cx="876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CONSISTS OF GENE SIMMONS, PAUL STANLEY, ERIC SINGER, AND ONE OTHER PERSON WHOSE LAST NAME DOESN'T START WITH "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LEGE FOOTBALL BOWL IS PLAYED IN NEW ORLEANS AND IS CURRENTLY SPONSORED BY ALL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42960" y="762120"/>
            <a:ext cx="785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SIMPSONS", WHAT IS NAME OF THEIR SEQUENCE OF 5 PET CATS, ALL NAMED FOR THE FIRST WHITE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7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NANCE MAGAZINE ALSO STARTING WITH "F" IS THE MAIN COMPETITOR OF "FORB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371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WORD PUZZLE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381560" y="457200"/>
            <a:ext cx="43624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DOES GEORGE WASHINGTON CARVER OFTEN GET CREDIT FOR INVENTING, THOUGH IT WAS PRODUCED MORE THAN 30 YEARS EARL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5920" y="914040"/>
            <a:ext cx="529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VING CHILDREN'S TOY WAS THIS GALAXY NAMED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246480" cy="2539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16:52:50Z</dcterms:modified>
  <cp:revision>488</cp:revision>
  <dc:subject/>
  <dc:title>Slide 1</dc:title>
</cp:coreProperties>
</file>