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04D8-7443-4D25-AB2E-B07C557B7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109C-B42E-4660-AEE8-562B0A9DD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FADB-2461-47E4-A517-F8BF15668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62FE-3A7D-46D7-AB3D-F0C511E05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8FAA-1602-47EE-8DDA-9722010A7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48EC-84D4-4AA4-9F92-3DEF8DDD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2260-7F3E-4FDE-B019-3EEA0921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7866-ED10-4427-9DC0-F65DA9CF0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D64C-5992-4D47-BE09-015049BD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39159-3D91-4C01-BCAC-A04EB686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9F6E-D819-4757-9625-D53061870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B562-7285-427A-B9D7-8B0A377DC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8952-5F84-4206-9D6A-3DC02537F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C2F56-BB70-4CDE-8C3A-24B1EEDA3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FD87-C2AC-463B-A207-6C96D35D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DFEA-6E8E-4B68-A8A4-6AD52D744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3E91-566C-4FDB-A9EA-BC0F0F6D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52EB-E5AE-4382-BF6A-DEA9ABC5A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938A-6FC3-4F8C-9725-53239005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792B-EA50-47B5-AD54-F0833F5B2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DA79-5B86-4BF5-8E3F-F750BA9A4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7D72-9F47-497A-BC9B-8B8B255BE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7D50-E08E-4298-8FEA-CE6B173D3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81160" y="990360"/>
            <a:ext cx="6781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GUAG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" y="761760"/>
            <a:ext cx="8155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NDI, BENGALI, MARATHI, AND TELUGU ARE SOME OF THE 22 LANGUAGES OFTEN LUMPED TOGETHER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828800" y="762120"/>
            <a:ext cx="548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LANGUAG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CIL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RIANT OF ITALIAN IS SPOKEN MOSTLY ON THE LARGEST ISLAND OF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0320" y="762120"/>
            <a:ext cx="762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CONTAINS THE MOST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74640" y="762120"/>
            <a:ext cx="7794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G "AULD LANG SYNE" WAS ORIGINALLY WRITTEN BY ROBERT BURNS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4360" y="762120"/>
            <a:ext cx="83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SPOKEN GERMANIC LANGUAGE, AFTER ENGLISH AND GER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V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66960" y="762120"/>
            <a:ext cx="7210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N, POLISH, AND CZECH ARE IN WHAT FAMILY OF LANGU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01640" y="762120"/>
            <a:ext cx="774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ISH IS THE MOST COMMON OFFICIAL LANGUAGE (58 COUNTRIES). WHAT LANGUAGE COMES IN SECOND (29 COUNTRI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54200" y="762120"/>
            <a:ext cx="76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LANGUAGE OF THE TINY COUNTRY OF ANDOR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ARIANT OF ITALIAN IS SPOKEN MOSTLY ON THE LARGEST ISLAND OF ITA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3880" y="762120"/>
            <a:ext cx="8434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ENGLISH AND CHINESE, 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USED LANGUAGE ON THE INTER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2360" y="762120"/>
            <a:ext cx="809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NDI, BENGALI, MARATHI, AND TELUGU ARE SOME OF THE 22 LANGUAGES OFTEN LUMPED TOGETHER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4197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OPENINGS  OR DEFENSES  IN  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52480" y="762120"/>
            <a:ext cx="563904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LANGUAG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NGUAGE CONTAINS THE MOST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G "AULD LANG SYNE" WAS ORIGINALLY WRITTEN BY ROBERT BURNS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-SPOKEN GERMANIC LANGUAGE, AFTER ENGLISH AND G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14480" y="761760"/>
            <a:ext cx="711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USSIAN, POLISH, AND CZECH ARE IN WHAT FAMILY OF LANGU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GLISH IS THE MOST COMMON OFFICIAL LANGUAGE (58 COUNTRIES). WHAT LANGUAGE COMES IN SECOND (29 COUNTRI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LANGUAGE OF THE TINY COUNTRY OF ANDOR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2120"/>
            <a:ext cx="85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ENGLISH AND CHINESE, WHAT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USED LANGUAGE ON THE INTER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37:14Z</dcterms:modified>
  <cp:revision>457</cp:revision>
  <dc:subject/>
  <dc:title>Slide 1</dc:title>
</cp:coreProperties>
</file>