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2501-F661-489F-890A-CEFBF1269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D961-5AC6-4863-8ED9-8FA0B43E1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A3D4-594E-4D61-9BA3-B873EF359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5C43-5074-4814-B52A-009BDE74D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B63E-64C8-4A5C-8448-C6537D05F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ED67-B208-4B92-B976-65E438594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EB80-4651-4CE7-85AC-061526BED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F033-4E5A-4137-B011-DB90D0094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B878-9030-4F16-9CA4-C52462E51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2A9C-931E-43FD-BE7A-28966962F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0197-B686-475C-8E25-A0EA7A8FC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390A-8BE5-48F6-921D-32C7D9E0E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A3B1-9CDA-47D8-A460-D8A7C84C8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2BD4-8867-4C2B-9485-4DB62F7BC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3EEF-A0BB-4D17-914C-CD9D31388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78C0-2CC3-4510-9A76-53DBD2B75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FC0B-3773-4C2B-B4F5-383571119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4147-5AEE-444F-9553-E0E822B3E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BB76-CBB5-4604-9D83-2536BB28D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9CDE-C111-4885-9031-3376BC391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ED34-976C-4978-847F-8106A6BFA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44FF-E604-48A7-86B6-95C755241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A032-C909-4836-AABD-120854341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81160" y="990360"/>
            <a:ext cx="6781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GUAG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3200" y="761760"/>
            <a:ext cx="815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NDI, BENGALI, MARATHI, AND TELUGU ARE SOME OF THE 22 LANGUAGES OFTEN LUMPED TOGETHER A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828800" y="762120"/>
            <a:ext cx="5486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LANGUAG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CIL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RIANT OF ITALIAN IS SPOKEN MOSTLY ON THE LARGEST ISLAND OF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952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0320" y="762120"/>
            <a:ext cx="7623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NGUAGE CONTAINS THE MOST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74640" y="762120"/>
            <a:ext cx="7794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NG "AULD LANG SYNE" WAS ORIGINALLY WRITTEN BY ROBERT BURNS IN WHAT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4360" y="762120"/>
            <a:ext cx="8315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-SPOKEN GERMANIC LANGUAGE, AFTER ENGLISH AND GER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V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66960" y="762120"/>
            <a:ext cx="7210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SSIAN, POLISH, AND CZECH ARE IN WHAT FAMILY OF LANGU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01640" y="762120"/>
            <a:ext cx="774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LISH IS THE MOST COMMON OFFICIAL LANGUAGE (58 COUNTRIES). WHAT LANGUAGE COMES IN SECOND (29 COUNTRI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54200" y="762120"/>
            <a:ext cx="76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LANGUAGE OF THE TINY COUNTRY OF ANDOR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09560" y="762120"/>
            <a:ext cx="7724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RIANT OF ITALIAN IS SPOKEN MOSTLY ON THE LARGEST ISLAND OF ITA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N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53880" y="762120"/>
            <a:ext cx="8434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ENGLISH AND CHINESE, WHAT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USED LANGUAGE ON THE INTER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22360" y="762120"/>
            <a:ext cx="8099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NDI, BENGALI, MARATHI, AND TELUGU ARE SOME OF THE 22 LANGUAGES OFTEN LUMPED TOGETHER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33520" y="441972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OPENINGS  OR DEFENSES  IN  C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752480" y="762120"/>
            <a:ext cx="563904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LANGUAG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NGUAGE CONTAINS THE MOST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37960" y="762120"/>
            <a:ext cx="866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NG "AULD LANG SYNE" WAS ORIGINALLY WRITTEN BY ROBERT BURNS IN WHAT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-SPOKEN GERMANIC LANGUAGE, AFTER ENGLISH AND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14480" y="761760"/>
            <a:ext cx="711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SSIAN, POLISH, AND CZECH ARE IN WHAT FAMILY OF LANGUA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LISH IS THE MOST COMMON OFFICIAL LANGUAGE (58 COUNTRIES). WHAT LANGUAGE COMES IN SECOND (29 COUNTRI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LANGUAGE OF THE TINY COUNTRY OF ANDOR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6080" y="762120"/>
            <a:ext cx="851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ENGLISH AND CHINESE, WHAT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USED LANGUAGE ON THE INTERN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1T02:37:14Z</dcterms:modified>
  <cp:revision>457</cp:revision>
  <dc:subject/>
  <dc:title>Slide 1</dc:title>
</cp:coreProperties>
</file>