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E986-2482-4A9F-B8AE-82B81428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3A09-B95C-4868-B58E-C702657F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927-AB54-4D45-BEFE-6CB4C1A5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FFF-9492-44D7-89CF-7E21D618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7ACB-B0ED-41BB-AE39-99FEB767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2DB4-E704-4B9D-954F-E7A6379F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581B-3177-41ED-BF1E-F5944D96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1F6-99B0-4108-BC87-6437835E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2C4-7934-4F86-B366-AEA3E08C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320-9088-4ED1-921A-4C69D931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0EF-1FFF-4024-BEE0-66AA958E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2C3-0D2F-4D29-BAE6-2AAC019A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645-74A6-4162-946E-5ED6DD54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E76-7A31-43AE-B4EE-C9885552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8C4-A54C-4D9F-A7C0-057D15A2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BBB-C090-4469-8898-9BAAF9FB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B8EC-C3D9-4C0B-A7DB-2C276016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B2C-C5F4-40A8-ACD9-2B1FE9DD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4C0-F9A9-4476-820D-C9001113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8B5-216F-4A95-AA5B-3F08417E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2E4A-B32C-401C-93CA-93151160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E20-73B6-4684-93B4-EE041537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767E-B58D-419C-A044-A63B719C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NAMED FOR THE FRENCH WORD FOR "TURKI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S "LONGFELLOW SERENADE" AND "SONG SUNG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ALD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WIZARD LIVE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2160" y="762120"/>
            <a:ext cx="71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HITCHCOCK FILM WAS ABOUT A FRENCH SPY DURING THE CUBAN MISSIL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2120"/>
            <a:ext cx="85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STORM TO HIT FLORIDA BETWEEN 1993 AND 2003, CAUSING ITS NAME TO BE REPLACED WITH "OLGA" IN THE ALPHABETIC R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P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PUSH" THAT WAS MADE INTO THE MOVIE "PRECIOUS", FOR WHICH MO'NIQUE WON BEST SUPPORTING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  SL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PAIR OF SHOES USED IN A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ER  AL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ARE CHILD ABDUCTION EMERGENCY ALERTS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S "LONGFELLOW SERENADE" AND "SONG SUNG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IE  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9960" y="762120"/>
            <a:ext cx="834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COMEDIENNE SARAH OPHELIA COLLEY, WHO APPEARED AT THE GRAND OLE OPRY FOR MORE THAN 5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QU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NAMED FOR THE FRENCH WORD FOR "TURKI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GEM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WIZARD LIVE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HITCHCOCK FILM WAS ABOUT A FRENCH SPY DURING THE CUBAN MISSIL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2360" y="762120"/>
            <a:ext cx="863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STORM TO HIT FLORIDA BETWEEN 1993 AND 2003, CAUSING ITS NAME TO BE REPLACED WITH "OLGA" IN THE ALPHABETIC R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PUSH" THAT WAS MADE INTO THE MOVIE "PRECIOUS", FOR WHICH MO'NIQUE WON BEST SUPPORTING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3080" y="761760"/>
            <a:ext cx="719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PAIR OF SHOES USED IN A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ARE CHILD ABDUCTION EMERGENCY ALERTS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COMEDIENNE SARAH OPHELIA COLLEY, WHO APPEARED AT THE GRAND OLE OPRY FOR MORE THAN 5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40:11Z</dcterms:modified>
  <cp:revision>484</cp:revision>
  <dc:subject/>
  <dc:title>Slide 1</dc:title>
</cp:coreProperties>
</file>