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519B-E4F8-4A0A-960C-A6881A734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312A-EF02-4A88-BED9-3314730BA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A814-45C2-47F4-8DBE-D79ACC6A9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8B1E-7678-417B-BA82-74819685C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3256-6AF1-449C-9C21-49337C25C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03B1-4BBC-4D3C-A0B4-CC05ACD62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B847-FF19-4938-BD1B-61236D6F1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31CB-6477-4276-A91E-26332A1D3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EE38-2529-4AEA-955D-80CF1DBDE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09FB2-90B2-4D99-BCB0-B78F67265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10C2-8E4B-4A82-A39F-C54B20662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D010-FA80-4AF8-8CE4-29D57BE65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0FC9-C5F4-4F4B-8327-2210CBE4A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2EED-21ED-4EDB-8E6E-F4ABC2ECE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30C2-84ED-4F79-AA41-81F8D0339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1ED1-A56E-4832-B364-30A43B59E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2101-6E68-42E6-BCB4-C6E5F9B10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BE5A-1DE8-4BDF-B96E-52F0A7D01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0E03-5AB4-41DF-9828-5AED87046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E35B-1B3A-41E4-BBE9-0CE4355E5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9080-03B5-4DD0-817F-0AEBDC0B3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19E30-8BFB-48A3-91D9-775DCD7C6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8662-0B60-4F1E-A43A-7DDED7F2A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33280" y="761760"/>
            <a:ext cx="867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NAMED FOR THE FRENCH WORD FOR "TURKIS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S "LONGFELLOW SERENADE" AND "SONG SUNG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ERALD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OES THE WIZARD LIVE IN "THE WIZARD OF OZ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92160" y="762120"/>
            <a:ext cx="7158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HITCHCOCK FILM WAS ABOUT A FRENCH SPY DURING THE CUBAN MISSILE CRI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RICANE  O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04920" y="762120"/>
            <a:ext cx="8557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STORM TO HIT FLORIDA BETWEEN 1993 AND 2003, CAUSING ITS NAME TO BE REPLACED WITH "OLGA" IN THE ALPHABETIC ROT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PPH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76200" y="762120"/>
            <a:ext cx="8389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 "PUSH" THAT WAS MADE INTO THE MOVIE "PRECIOUS", FOR WHICH MO'NIQUE WON BEST SUPPORTING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Y  SLIP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28880" y="762120"/>
            <a:ext cx="7086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VALUABLE PAIR OF SHOES USED IN A MOV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BER  AL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42960" y="762120"/>
            <a:ext cx="7858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ARE CHILD ABDUCTION EMERGENCY ALERTS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4800" y="762120"/>
            <a:ext cx="7934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SONGS "LONGFELLOW SERENADE" AND "SONG SUNG 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IE  PEA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99960" y="762120"/>
            <a:ext cx="8344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TAGE NAME OF COMEDIENNE SARAH OPHELIA COLLEY, WHO APPEARED AT THE GRAND OLE OPRY FOR MORE THAN 5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QUO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23920" y="762120"/>
            <a:ext cx="8696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NAMED FOR THE FRENCH WORD FOR "TURKIS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5680" y="4952880"/>
            <a:ext cx="897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GEM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DOES THE WIZARD LIVE IN "THE WIZARD OF OZ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09720" y="762120"/>
            <a:ext cx="7324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9 HITCHCOCK FILM WAS ABOUT A FRENCH SPY DURING THE CUBAN MISSILE CRI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2360" y="762120"/>
            <a:ext cx="8639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STORM TO HIT FLORIDA BETWEEN 1993 AND 2003, CAUSING ITS NAME TO BE REPLACED WITH "OLGA" IN THE ALPHABETIC ROT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 "PUSH" THAT WAS MADE INTO THE MOVIE "PRECIOUS", FOR WHICH MO'NIQUE WON BEST SUPPORTING ACT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73080" y="761760"/>
            <a:ext cx="719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VALUABLE PAIR OF SHOES USED IN A MOV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73120" y="761760"/>
            <a:ext cx="7997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ARE CHILD ABDUCTION EMERGENCY ALERTS BETTER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12840" y="762120"/>
            <a:ext cx="8518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TAGE NAME OF COMEDIENNE SARAH OPHELIA COLLEY, WHO APPEARED AT THE GRAND OLE OPRY FOR MORE THAN 5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1T02:40:11Z</dcterms:modified>
  <cp:revision>484</cp:revision>
  <dc:subject/>
  <dc:title>Slide 1</dc:title>
</cp:coreProperties>
</file>