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82B2-5F95-47C2-B7B4-BCECA8881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39E4-BC49-4734-8F4A-F502A1845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C68C-5796-44EA-949D-AC397E5BA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EC39-72E7-4CDD-887B-C9D2C1838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5EBF-1DCF-4B0D-B342-2290AC886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86DC-8883-4CD2-9DDE-62FAF6AD9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088E-75AA-4BF0-A785-43C504F6E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20ED-EC0F-4256-BF4A-680E39B0B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AB97-DB08-4A74-9A98-1890F91FF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20E4-4CA7-4248-ABD9-ED2AF6A3C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780D-55C9-46E1-A7E5-CDD53B1AF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54A2-A386-4F6B-89A4-DE656713F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D449-832B-4FFA-83CF-91DAD6944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BD9F-9A2C-4DB5-85AE-C6F99A48A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30DF-6F40-411B-83D0-480DBD986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E93D-1BA3-4B6F-9FE6-DC3C2552A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E625-756E-4125-9787-4FEDB6210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BC76-4B88-4CE1-935C-C4EC0409F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503E-181A-447D-94F7-70EC88870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D795-1FEC-4B78-B56F-D456C532C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B2FA-F8E7-4981-A374-319F2C8A4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067A-4EC3-4B9A-A4FB-433781BCA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80A0-DF28-4866-91AF-5E41A0B47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01600" y="761760"/>
            <a:ext cx="874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CIENT HINDU, CHINESE,       AND NATIVE AMERICAN MYTHOLOGIES INDEPENDENTLY HAD THE WORLD SUPPORTED BY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80920" y="762120"/>
            <a:ext cx="7382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ROSOFT SUITE OF APPLICATIONS IS USED BY OVER 1 B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GARY NUMAN'S ONLY TOP-10 SONG, IN WHICH HE REPEATS THE 4-LETTER TITLE 27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78040" y="762120"/>
            <a:ext cx="7386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STUDY OF FACEBOOK STATUSES, WHAT IS THE MOST POPULAR SEASON FOR COUPLES TO BREAK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09800" y="762120"/>
            <a:ext cx="712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PART REMAINS A WORD IF ANY 1 OF THE 4 LETTERS IS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3440" y="762120"/>
            <a:ext cx="8277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ALOG VERSIONS WERE INVENTED IN THE 1820'S. 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IGITAL ONE, THE SIZE OF A TOASTER, WAS INVENTED IN 1975.  WHAT DEVICE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66680" y="762120"/>
            <a:ext cx="701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-MADE FLYING OBJECT APPEARS IN CAVE PAINTINGS THAT ARE 11,000 YEAR 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98320" y="762120"/>
            <a:ext cx="7947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3 DAILY MEALS IN INDIA IS OFTEN SERVED IN A TIFFIN, A STEEL PA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45640" y="762120"/>
            <a:ext cx="7450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ROSOFT SUITE OF APPLICATIONS IS USED BY OVER 1 BILLION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35080" y="762120"/>
            <a:ext cx="68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WRITTEN MUSIC, 20, NOTCH, OR GR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95120" y="762120"/>
            <a:ext cx="8753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CIENT HINDU, CHINESE,       AND NATIVE AMERICAN MYTHOLOGIES INDEPENDENTLY HAD THE WORLD SUPPORTED BY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BOX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50760" y="761760"/>
            <a:ext cx="7242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GARY NUMAN'S ONLY TOP-10 SONG, IN WHICH HE REPEATS THE 4-LETTER TITLE 27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69840" y="762120"/>
            <a:ext cx="720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STUDY OF FACEBOOK STATUSES, WHAT IS THE MOST POPULAR SEASON FOR COUPLES TO BREAK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14480" y="762120"/>
            <a:ext cx="7113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PART REMAINS A WORD IF ANY 1 OF THE 4 LETTERS IS REMO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ALOG VERSIONS WERE INVENTED IN THE 1820'S. 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IGITAL ONE, THE SIZE OF A TOASTER, WAS INVENTED IN 1975.  WHAT DEVICE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12400" y="761760"/>
            <a:ext cx="6916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-MADE FLYING OBJECT APPEARS IN CAVE PAINTINGS THAT ARE 11,000 YEAR O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92200" y="761760"/>
            <a:ext cx="795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3 DAILY MEALS IN INDIA IS OFTEN SERVED IN A TIFFIN, A STEEL PA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78000" y="762120"/>
            <a:ext cx="6586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WRITTEN MUSIC, 20, NOTCH, OR GR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1T02:43:46Z</dcterms:modified>
  <cp:revision>497</cp:revision>
  <dc:subject/>
  <dc:title>Slide 1</dc:title>
</cp:coreProperties>
</file>