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F1F2-66A1-4F08-BD48-C34E71620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BBE0-9E9D-4978-85D0-B843A323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959-C279-464E-ABE9-61F3E0FE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D40-2E34-4C35-AA29-43528C462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AC2C-5F58-47DA-92D7-0B8583075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88E6-B4CD-45AE-9E16-85D477DA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A59-6FFF-4941-A4BC-CA2C459E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F1D0-69D2-4ADD-BB5C-84C5CCF5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58EE-A617-4373-9BD9-FB91D57A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4145-8D54-48D2-9EA1-79D7FE318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A63D-3C0A-46AD-9CAB-39B04102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1AB-C374-4B7B-A43B-8F980BADF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DB44-B338-4E17-864F-4E0284148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7E14-567F-4EB3-AEB8-6787AC7E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897D-8457-40F4-9BB0-D4F436B2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E317-88C6-4761-94B1-6E666155D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257D-ED6C-4697-9160-0EF007B72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0493-2D6B-45C8-B0FC-321C017A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BE20-EA8E-48D8-8197-F20D0A904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193F-3C98-478D-8AEC-5C670243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4173-173C-4781-A479-36CC4F9C6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F958-F424-4B0C-AD28-EBED5E54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6344-8487-4496-8A7D-4D758C7D8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4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CIENT HINDU, CHINESE,       AND NATIVE AMERICAN MYTHOLOGIES INDEPENDENTLY HAD THE WORLD SUPPORTED BY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SUITE OF APPLICATIONS IS USED BY OVER 1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ARY NUMAN'S ONLY TOP-10 SONG, IN WHICH HE REPEATS THE 4-LETTER TITLE 27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UDY OF FACEBOOK STATUSES, WHAT IS THE MOST POPULAR SEASON FOR COUPLES TO BREAK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PART REMAINS A WORD IF ANY 1 OF THE 4 LETTERS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3440" y="762120"/>
            <a:ext cx="82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OG VERSIONS WERE INVENTED IN THE 1820'S. 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GITAL ONE, THE SIZE OF A TOASTER, WAS INVENTED IN 1975.  WHAT DEVIC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-MADE FLYING OBJECT APPEARS IN CAVE PAINTINGS THAT ARE 11,000 YEAR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DAILY MEALS IN INDIA IS OFTEN SERVED IN A TIFFIN, A STEEL P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SUITE OF APPLICATIONS IS USED BY OVER 1 B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35080" y="762120"/>
            <a:ext cx="68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WRITTEN MUSIC, 20, NOTCH, OR G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5120" y="762120"/>
            <a:ext cx="8753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CIENT HINDU, CHINESE,       AND NATIVE AMERICAN MYTHOLOGIES INDEPENDENTLY HAD THE WORLD SUPPORTED BY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OX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0760" y="761760"/>
            <a:ext cx="724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ARY NUMAN'S ONLY TOP-10 SONG, IN WHICH HE REPEATS THE 4-LETTER TITLE 27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UDY OF FACEBOOK STATUSES, WHAT IS THE MOST POPULAR SEASON FOR COUPLES TO BREAK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PART REMAINS A WORD IF ANY 1 OF THE 4 LETTERS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ALOG VERSIONS WERE INVENTED IN THE 1820'S. 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GITAL ONE, THE SIZE OF A TOASTER, WAS INVENTED IN 1975.  WHAT DEVIC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12400" y="761760"/>
            <a:ext cx="691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-MADE FLYING OBJECT APPEARS IN CAVE PAINTINGS THAT ARE 11,000 YEAR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DAILY MEALS IN INDIA IS OFTEN SERVED IN A TIFFIN, A STEEL P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78000" y="762120"/>
            <a:ext cx="6586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WRITTEN MUSIC, 20, NOTCH, OR GR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43:46Z</dcterms:modified>
  <cp:revision>497</cp:revision>
  <dc:subject/>
  <dc:title>Slide 1</dc:title>
</cp:coreProperties>
</file>