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E65B-BEB9-4F49-94F0-6A9FC7308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55CD-B101-4426-BF9F-279A8A101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DDAC-BA64-4814-B9F2-AE8E112BB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9174-68FC-4375-B542-548361E39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B078-C064-4757-B74C-5E92CDE5C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BDD0-8B42-4F82-82C4-EA1876E9C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7495-86B4-4CC7-A353-2A4F9171C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D3FA-D4CB-487C-A7F9-DB13130B8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69C3-4E8B-48A7-8854-4280E84FD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4D9C-72B5-4A18-85DD-1D2BCC2BA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AEDD-281A-4223-A253-44ADEFC51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298F-B14E-4559-89B3-E291A9D8C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D670-417D-4E1F-AC1A-2B3073D0C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149D-0A48-4879-A13D-C2B3235D9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740F-7D3D-4888-907A-9F2CF9595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E7FE-C206-4D05-BFED-63D29BCFF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59B6-40AB-4F53-8E18-A414FB28E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55DF-1AA8-448B-A5C9-672D52825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C6BC-1615-4E29-8F0E-7F59E9DFC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0329-D5CD-4053-B966-EBA3D8424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C750-4E7C-4C21-82BB-B6206CB69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588A-3C25-4BE4-9864-4B3688BE9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8660-3D8C-43FC-B7F1-0226BF259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DERS ARE KNOWN FOR THE HOURGLASS FIGURE ON THEIR ABDOM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CK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ORMER NAME OF MERCURY, THOUGHT TO BE THE LIQUID FORM OF ANOTHER ELE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ERFECT  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EORGE CLOONEY MOVIE WAS SET ON THE DOOMED FISHING BOAT,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NDREA GAI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0212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K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CAPTAIN BENJAMIN PIERCE ON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VE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95280" y="76212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MEMBER OF THE WEASEL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SSUS  OF  RH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WONDERS OF THE WORLD WAS A STATUE OF THE GREEK   GOD OF THE SUN, HELI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  HEYERDAH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ORWEGIAN ADVENTURER CROSSED THE PACIFIC ON HIS HAND-BUILT RAFT,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KON-TIK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N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  MAN  TRIATH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THLETICS EVENT CONSISTS OF A 2.4-MILE SWIM, A 112-MILE BICYCLE RIDE AND A MARATH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ORMER NAME OF MERCURY, THOUGHT TO BE THE LIQUID FORM OF ANOTHER ELE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PANTHER  PA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TICAL ORGANIZATION WAS FOUNDED BY BOBBY SEALE AND HUEY NEWTON IN 1966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WI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83808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DERS ARE KNOWN FOR THE HOURGLASS FIGURE ON THEIR ABDOM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THE  NAMES  OF  MARVEL  SUPERHER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GEORGE CLOONEY MOVIE WAS SET ON THE DOOMED FISHING BOAT,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NDREA GAI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CAPTAIN BENJAMIN PIERCE ON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MEMBER OF THE WEASEL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WONDERS OF THE WORLD WAS A STATUE OF THE GREEK GOD OF THE SUN, HELI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ORWEGIAN ADVENTURER CROSSED THE PACIFIC ON HIS HAND-BUILT RAFT,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KON-TIK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N 194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THLETICS EVENT CONSISTS OF A 2.4-MILE SWIM, A 112-MILE BICYCLE RIDE AND A MARATH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TICAL ORGANIZATION WAS FOUNDED BY BOBBY SEALE AND HUEY NEWTON IN 1966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20:49:37Z</dcterms:created>
  <dc:creator>Jennifer Budzinski</dc:creator>
  <dc:description/>
  <dc:language>en-US</dc:language>
  <cp:lastModifiedBy>Erich Friedman</cp:lastModifiedBy>
  <dcterms:modified xsi:type="dcterms:W3CDTF">2020-08-25T13:55:07Z</dcterms:modified>
  <cp:revision>387</cp:revision>
  <dc:subject/>
  <dc:title>Slide 1</dc:title>
</cp:coreProperties>
</file>