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B8AB-7A0D-480D-A2E7-E0A95508D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83E1-35A0-4932-8C50-EF427B938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EFB3-3453-4CFB-A99A-17EBFD183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04D7-69A3-4713-924C-31C52A210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FCBF-415C-436D-9E96-923A270BD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6221-3E6A-4C95-8650-0B85ECE80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50F2-677A-400B-9094-268A71D92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E135-5948-49C0-8E30-B52F2B21E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20A0-3FEA-430C-A881-779D82814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4C76-63FD-472D-8778-00DC81239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BAD7-E92E-425C-827C-8711C9698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A8C2-49D3-494B-8BEB-F03945EEB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08D4-2705-49E1-AE32-30FD97C64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FED3-FF3B-420B-8735-40A3B1DC0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B0C3-E7A6-45A6-9543-78429CBA0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34D1-2E0C-446E-8179-2E598E528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6EF1-5F3F-455A-84A1-00FFEEAE4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36CD-B32E-4AEA-8B0D-7DD885603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300F-8C56-4162-AB64-3A564D1CF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E15F-76B0-42A9-A075-6810CE4C0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4440-0BC4-4062-9F0F-59D39D0D5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98E3-87FD-43D3-8288-B09015A1D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D07D-4BEC-4B6B-9B86-086E0FA4E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DERS ARE KNOWN FOR THE HOURGLASS FIGURE ON THEIR ABDOME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CKSI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ORMER NAME OF MERCURY, THOUGHT TO BE THE LIQUID FORM OF ANOTHER EL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ERFECT  ST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GEORGE CLOONEY MOVIE WAS SET ON THE DOOMED FISHING BOAT,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NDREA GAI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90212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WK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CAPTAIN BENJAMIN PIERCE ON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LVE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95280" y="762120"/>
            <a:ext cx="6629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MEMBER OF THE WEASEL FAM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OSSUS  OF  RH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7 WONDERS OF THE WORLD WAS A STATUE OF THE GREEK   GOD OF THE SUN, HELI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R  HEYERDAH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ORWEGIAN ADVENTURER CROSSED THE PACIFIC ON HIS HAND-BUILT RAFT,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KON-TIKI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IN 194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ON  MAN  TRIATH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THLETICS EVENT CONSISTS OF A 2.4-MILE SWIM, A 112-MILE BICYCLE RIDE AND A MARATH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ORMER NAME OF MERCURY, THOUGHT TO BE THE LIQUID FORM OF ANOTHER EL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PANTHER  PA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TICAL ORGANIZATION WAS FOUNDED BY BOBBY SEALE AND HUEY NEWTON IN 1966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WI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838080"/>
            <a:ext cx="81532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DERS ARE KNOWN FOR THE HOURGLASS FIGURE ON THEIR ABDOM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90720" y="43434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THE  NAMES  OF  MARVEL  SUPERHER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GEORGE CLOONEY MOVIE WAS SET ON THE DOOMED FISHING BOAT,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NDREA GAI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CAPTAIN BENJAMIN PIERCE ON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MEMBER OF THE WEASEL FAM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7 WONDERS OF THE WORLD WAS A STATUE OF THE GREEK GOD OF THE SUN, HELIO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ORWEGIAN ADVENTURER CROSSED THE PACIFIC ON HIS HAND-BUILT RAFT,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KON-TIKI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IN 194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THLETICS EVENT CONSISTS OF A 2.4-MILE SWIM, A 112-MILE BICYCLE RIDE AND A MARATH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TICAL ORGANIZATION WAS FOUNDED BY BOBBY SEALE AND HUEY NEWTON IN 1966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20:49:37Z</dcterms:created>
  <dc:creator>Jennifer Budzinski</dc:creator>
  <dc:description/>
  <dc:language>en-US</dc:language>
  <cp:lastModifiedBy>Erich Friedman</cp:lastModifiedBy>
  <dcterms:modified xsi:type="dcterms:W3CDTF">2020-08-25T13:55:07Z</dcterms:modified>
  <cp:revision>387</cp:revision>
  <dc:subject/>
  <dc:title>Slide 1</dc:title>
</cp:coreProperties>
</file>