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A0D-3299-47D9-9EAD-F6133416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CADA-B472-4826-816B-9054263D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C66-3481-4BD0-A77D-118103DB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D04-3275-41C3-A75B-A33236C7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2D6-61E6-466A-808B-D7F647D5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94E-41A9-423F-872C-58FAFAEB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DEE-2B99-4990-91A9-4CC5F617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2318-C320-467E-A860-11792BC1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422E-88C4-4006-8E5A-CD932E38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DE9-9D2A-404C-AB52-129E2E42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92AC-1A42-48D7-A417-F5EE44E1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7B5-F4DB-4F9D-8538-F3EB4B6E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CF1-4525-4DDC-A5B1-407DEB906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B99-B01F-4FEE-BCD5-860DFAF6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101-6F8B-46EF-99AA-952863F9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01C-5834-4854-88AB-55EB9348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934-4697-4BC4-A8AE-302D6BC9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D2C8-2562-4190-A7E7-ABAC7713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322-1637-477E-9CDB-2886B82E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E07-73DE-4D0F-B111-3F9217C4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5DF1-A40A-4F63-887E-F25F5154F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046-F7B8-4AFF-86BE-B02FEDB3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BE0-BF00-434D-823E-4270932B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CK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RFECT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2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V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  GOD OF THE SUN, HEL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  HEYERD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  TRIATH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8380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THE  NAMES  OF  MARVEL  SUPER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GOD OF THE SUN, HEL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49:37Z</dcterms:created>
  <dc:creator>Jennifer Budzinski</dc:creator>
  <dc:description/>
  <dc:language>en-US</dc:language>
  <cp:lastModifiedBy>Erich Friedman</cp:lastModifiedBy>
  <dcterms:modified xsi:type="dcterms:W3CDTF">2020-08-25T13:55:07Z</dcterms:modified>
  <cp:revision>387</cp:revision>
  <dc:subject/>
  <dc:title>Slide 1</dc:title>
</cp:coreProperties>
</file>