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A88E-0A69-4E95-86A6-7ECE6B655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55DA-9F11-4D48-829E-4AF8C31E5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8BBE-A443-4FB0-B72E-014A46320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DC7B-8BE1-4FE4-BDDD-1797F37E0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CE3C-3F29-4BC2-9E81-A3A7A2E65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6A79-4F67-4ACF-96D0-AD3E671DE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C6FA-7BCC-4BB0-AA81-8A1A4FD89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31EF-B43E-47F8-9A88-F8E563A4B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0107-7DD9-452B-8061-6C4011D81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05F8-56EB-46FB-990D-00CDBCCED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DC27-3678-4596-8BA8-8EA61B9FF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ED6D-A877-458C-B994-128C1F9E4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7C53-ADED-462D-8B82-D1A495D83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CD74-F8CC-4648-87DB-2904E7D37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51C3-1D62-4321-9033-80052E98E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EB41-2E68-42B5-8973-4F2CEB616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E7FD-81F0-4911-89D1-8B0EBE7D7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CD07-3BA3-46B0-85DE-CA065C42C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4937-8469-4DC9-8042-D0B3FBAA3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1406-46BF-48E2-B141-1A6689AD4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E2EA-1A39-4EDD-AE09-2231E5FF7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BABF-D07F-4CF3-A53C-545AFD855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9F33-7722-40FE-B6DF-90FAB40DB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66720" y="1523880"/>
            <a:ext cx="7810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I KNOW WHY THE CAGED BIRD SING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 (HINT:   #9 DID IT THREE TIMES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ACH  BR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14320" y="762120"/>
            <a:ext cx="7515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NARRATED AND PLAYED J.D. ON "SCRUB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486080" y="48006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TY  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71600" y="762120"/>
            <a:ext cx="8200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D THE LONGEST CAREER IN TELEVISION, OVER 80 YEARS, BEFORE SHE DIED ON THE LAST DAY OF 202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1968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ACK  OB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95280" y="743040"/>
            <a:ext cx="83534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U.S. PRESIDENT BORN IN HAWA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0060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AQUIN  PHOEN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28760" y="782640"/>
            <a:ext cx="8286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HIS ROLES IN "THE MASTER", "JOKER", AND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WALK THE LINE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TIN  SCORS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90680" y="762120"/>
            <a:ext cx="8162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LEONARDO DICAPRIO IN 5 MOVIES, INCLUDING "THE AVIATOR", "THE WOLF OF WALL STREET", AND "GANGS OF NEW YOR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00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IN  WILLI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79320" y="762120"/>
            <a:ext cx="77853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S IN "POPEYE" AND "MRS. DOUBTFI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409760" y="4800600"/>
            <a:ext cx="6324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DREY  HEPB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096920" y="762120"/>
            <a:ext cx="6948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THE FILMS "SABRINA" AND "ROMAN HOLID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60320" y="762120"/>
            <a:ext cx="7623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NARRATED AND PLAYED J.D. ON "SCRUB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006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  G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05040" y="762120"/>
            <a:ext cx="7333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ULD HAVE BEEN ELECTED PRESIDENT IF 269 FLORIDIANS HAD CHANGED THEIR VO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YA  ANGEL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I KNOW WHY THE CAGED BIRD SING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38080" y="4876920"/>
            <a:ext cx="7467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N  GRAMMY  AW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09480" y="762120"/>
            <a:ext cx="7925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 (HINT:   #9 DID IT THREE TIMES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1600" y="761760"/>
            <a:ext cx="82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D THE LONGEST CAREER IN TELEVISION, OVER 80 YEARS, BEFORE SHE DIED ON THE LAST DAY OF 202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17600" y="762120"/>
            <a:ext cx="8308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U.S. PRESIDENT BORN IN HAWA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04640" y="762120"/>
            <a:ext cx="8334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HIS ROLES IN "THE MASTER", "JOKER", AND "WALK THE L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6560" y="762120"/>
            <a:ext cx="8210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LEONARDO DICAPRIO IN 5 MOVIES, INCLUDING "THE AVIATOR", "THE WOLF OF WALL STREET", AND "GANGS OF NEW YOR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04960" y="761760"/>
            <a:ext cx="7534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S IN "POPEYE" AND "MRS. DOUBTFI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96760" y="762120"/>
            <a:ext cx="7350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THE FILMS "SABRINA" AND "ROMAN HOLID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61840" y="762120"/>
            <a:ext cx="7420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ULD HAVE BEEN ELECTED PRESIDENT IF 269 FLORIDIANS HAD CHANGED THEIR VO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2-08-21T16:58:50Z</dcterms:modified>
  <cp:revision>456</cp:revision>
  <dc:subject/>
  <dc:title>Slide 1</dc:title>
</cp:coreProperties>
</file>