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4FB5-193D-451B-BF81-9E474E801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D135-B1FD-4672-BD31-7EFCAC438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C985-DD82-4BD1-96B2-A2818112B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A2C9-3323-4B66-8916-E0EDB231E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E81D-806A-4465-9F7D-04F7BCE30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6094-F153-4815-A93A-562377840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4540-FE3F-4456-9F91-158CB9219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BDDD-8959-49F2-8880-16DCE49EE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6D98-1199-4F29-97B9-0113C5F5C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D85F-5F45-4BFE-9D19-2CA9E5BD1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5344-E43E-4969-95E6-9A02D21AA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58CB-1C69-4659-BB40-E2AB1EC9B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7954-CBEA-45B6-9FC1-E7F0E78C7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3F7B-3B53-4CE7-811F-C22080911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1871-FEDA-47CF-8A5B-56BBB88C7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B588-FE9F-460D-B85D-4654A0674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EDFB-CB14-4221-91E5-D7B4E2DC3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B567-1A67-43B9-903B-4B2230E56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00BF-DE36-4C23-9416-C421696F4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F715-9CA0-482A-AE46-43E8FE026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3EE7-7A70-46A3-9F35-3AFD19C75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D77B-AA38-4F54-8608-590ED4E8F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66ED-6A9F-462C-BD45-59713E9D8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66720" y="1523880"/>
            <a:ext cx="7810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I KNOW WHY THE CAGED BIRD SING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 (HINT:   #9 DID IT THREE TIMES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ACH  BR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14320" y="762120"/>
            <a:ext cx="751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NARRATED AND PLAYED J.D. ON "SCRUB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86080" y="4800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TY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71600" y="762120"/>
            <a:ext cx="8200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THE LONGEST CAREER IN TELEVISION, OVER 80 YEARS, BEFORE SHE DIED ON THE LAST DAY OF 202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1968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ACK  O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95280" y="743040"/>
            <a:ext cx="83534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U.S. PRESIDENT BORN IN HAWA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0060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QUIN  PHOEN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28760" y="782640"/>
            <a:ext cx="8286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HIS ROLES IN "THE MASTER", "JOKER", AND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WALK THE LINE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SCORS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90680" y="762120"/>
            <a:ext cx="8162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LEONARDO DICAPRIO IN 5 MOVIES, INCLUDING "THE AVIATOR", "THE WOLF OF WALL STREET", AND "GANGS OF NEW YOR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0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IN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79320" y="762120"/>
            <a:ext cx="7785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POPEYE" AND "MRS. DOUBTFI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409760" y="4800600"/>
            <a:ext cx="6324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DREY  HEPB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96920" y="762120"/>
            <a:ext cx="6948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THE FILMS "SABRINA" AND "ROMAN HOLI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60320" y="762120"/>
            <a:ext cx="7623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NARRATED AND PLAYED J.D. ON "SCRUB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006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  G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05040" y="762120"/>
            <a:ext cx="7333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ULD HAVE BEEN ELECTED PRESIDENT IF 269 FLORIDIANS HAD CHANGED THEIR VO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A  ANGEL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I KNOW WHY THE CAGED BIRD SING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38080" y="487692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N  GRAMMY  AW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09480" y="762120"/>
            <a:ext cx="7925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 (HINT:   #9 DID IT THREE TIMES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0" y="761760"/>
            <a:ext cx="82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THE LONGEST CAREER IN TELEVISION, OVER 80 YEARS, BEFORE SHE DIED ON THE LAST DAY OF 202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17600" y="762120"/>
            <a:ext cx="8308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U.S. PRESIDENT BORN IN HAWA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04640" y="762120"/>
            <a:ext cx="8334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HIS ROLES IN "THE MASTER", "JOKER", AND "WALK THE L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6560" y="762120"/>
            <a:ext cx="8210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LEONARDO DICAPRIO IN 5 MOVIES, INCLUDING "THE AVIATOR", "THE WOLF OF WALL STREET", AND "GANGS OF NEW YOR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04960" y="761760"/>
            <a:ext cx="7534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POPEYE" AND "MRS. DOUBTFI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96760" y="762120"/>
            <a:ext cx="735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THE FILMS "SABRINA" AND "ROMAN HOLI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61840" y="762120"/>
            <a:ext cx="7420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ULD HAVE BEEN ELECTED PRESIDENT IF 269 FLORIDIANS HAD CHANGED THEIR VO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2-08-21T16:58:50Z</dcterms:modified>
  <cp:revision>456</cp:revision>
  <dc:subject/>
  <dc:title>Slide 1</dc:title>
</cp:coreProperties>
</file>