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B697-DC57-43EB-8E97-650DD3CD9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336F-5565-48D9-BADA-B11075517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EDD9-3A4D-48CF-8B5B-BC7E49873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DBF8-9903-4A1B-B153-1B1464F2A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5A60-8DB1-483B-9A6F-646971CC8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E461-013D-4D10-8A9C-A5B56E7B2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B920-A9DE-4AD2-B991-BBB8BB279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6169-285C-4D0F-A8A7-82A649E2F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7AE3-9C08-43B1-A518-F28A423A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20A-FD04-45FE-B498-CF9D8ACBA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9E77-274B-4615-B9BA-3D2C845D6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B791-399F-49E0-8F06-AAEA9BB96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8013-F6E1-4FA5-84F8-2836A8DB3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2296-14EC-478F-B674-63C5EE68E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CF20-65E7-413F-9EDE-7D3D4BE5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8182-4AB4-4B7F-B311-9F492F7E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8161-1979-4520-A995-C46F5AF3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21BA-37EF-460F-A328-43DDB3EC3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89F8-31E7-4233-820B-EA7EC0C0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911A-EC5E-4E14-8050-D65615DC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656-0A47-4BAC-A95D-2DF47F3C6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9739-AF96-48B4-BF8F-B904F8730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75BE-2CC9-49DC-A448-C44F706FA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0840" y="761760"/>
            <a:ext cx="8300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STARTS WITH THE QUESTION "HOW MANY ROADS MUST A MAN WALK DOWN BEFORE YOU CALL HIM A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 TITL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ING  LA  VIDA  LO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24000" y="762120"/>
            <a:ext cx="669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KY MARTIN'S  SIGNATURE SONG, AND  THE BEST-SELLING LATIN POP SONG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CKLING  RO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DIAMOND #1 HIT SONG CONTAINS THE LYRICS "YOU'RE A STORE BOUGHT WOMAN, YOU MAKE ME SING LIKE A GUITAR HUMM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LE  LOTTA  SHAKING  GOING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3120" y="762120"/>
            <a:ext cx="7996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RRY LEE LEWIS SONG SOLD THE MOST COPIES, AND WAS LATER COVERED BY LITTLE RICHARD AND BY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YING  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E GEES SONG ON THE "SATURDAY NIGHT FEVER" SOUNDTRACK WAS THEIR BIGGEST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STOP  BELIE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EY SONG IS THEIR BEST-SELLING SINGLE, IN PART BECAUSE IT WAS PLAYING DURING THE FINAL SCENE OF "THE SOPRANO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  JACK  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58960" y="762120"/>
            <a:ext cx="742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IS ALSO THE TITLE OF A WHOOPIE GOLDBERG FILM ABOUT THA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50960" y="4952880"/>
            <a:ext cx="764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ING  IN  THE  FRE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7680" y="762120"/>
            <a:ext cx="8648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YOUNG SONG POKED FUN AT PRESIDENT BUSH WITH THE LYRICS "WE GOT A 1000 POINTS OF LIGHT FOR THE HOMELESS MAN, WE GOT A KINDER, GENTLER, MACHINE GUN HAND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50920" y="762120"/>
            <a:ext cx="684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ICKY MARTIN'S  SIGNATURE SONG, AND  THE BEST-SELLING LATIN POP SONG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23960" y="495288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IN'T  SEEN  NOTHING  Y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240" y="762120"/>
            <a:ext cx="9082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HMAN-TURNER OVERDRIVE SONG WAS WRITTEN AS A JOKE FOR A BROTHER WITH A STUTTER, BUT BECAME THEIR BEST-SELLING SONG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ING  IN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1720" y="762120"/>
            <a:ext cx="8078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B DYLAN SONG STARTS WITH THE QUESTION "HOW MANY ROADS MUST A MAN WALK DOWN BEFORE YOU CALL HIM A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06640" y="4419720"/>
            <a:ext cx="6929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SPELLED  WITH  "–IN' " INSTEAD  OF  "–IN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 TITL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IL DIAMOND #1 HIT SONG CONTAINS THE LYRICS "YOU'RE A STORE BOUGHT WOMAN, YOU MAKE ME SING LIKE A GUITAR HUMM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68440" y="762120"/>
            <a:ext cx="8007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RRY LEE LEWIS SONG SOLD THE MOST COPIES, AND WAS LATER COVERED BY LITTLE RICHARD AND BY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87400" y="762120"/>
            <a:ext cx="7367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E GEES SONG ON THE "SATURDAY NIGHT FEVER" SOUNDTRACK WAS THEIR BIGGEST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EY SONG IS THEIR BEST-SELLING SINGLE, IN PART BECAUSE IT WAS PLAYING DURING THE FINAL SCENE OF "THE SOPRANO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9400" y="761760"/>
            <a:ext cx="758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LING STONES SONG IS ALSO THE TITLE OF A WHOOPIE GOLDBERG FILM ABOUT THA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0960" y="761760"/>
            <a:ext cx="8722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YOUNG SONG POKED  FUN AT PRESIDENT BUSH WITH THE LYRICS "WE GOT A 1000 POINTS OF LIGHT FOR THE HOMELESS MAN, WE GOT A KINDER, GENTLER, MACHINE GUN HAND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840" y="762120"/>
            <a:ext cx="905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CHMAN-TURNER OVERDRIVE SONG WAS WRITTEN AS A JOKE FOR A BROTHER WITH A STUTTER, BUT BECAME THEIR BEST-SELLING SONG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53:57Z</dcterms:modified>
  <cp:revision>492</cp:revision>
  <dc:subject/>
  <dc:title>Slide 1</dc:title>
</cp:coreProperties>
</file>