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09BC-0232-4C13-969E-0AB91EDBE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FBD9-DE05-40EE-9D40-715287153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91C7-3993-4A06-AE54-CE93B195C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8693-540C-481E-ADA9-F6B058144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E89C-01E8-4B76-9B3E-AA76449E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D75B-CAD3-4108-AD9C-550C87B82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155A-9953-407B-B6C9-7BE2597CF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0595-BAC4-4B08-B5F9-488C325AE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B0E8-43F3-45DE-9D02-7E50C8BD1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0BF6-F7A0-4E6E-B800-C5F93C097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42FF-8D5B-4B17-9121-624C0FB3D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2144-868B-4A02-B20B-D7CDCD97C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E728-DD05-4AEF-BE0B-6F81317BE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5FD4-FEF8-4E63-918C-2D0DECF87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61FD-877E-4A5C-AB79-82145AA0E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B7C2-D656-4172-ABBE-EC266EA15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16F5-022C-4FEE-96F5-056BAF8C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0871-F417-47EA-A23A-A83540BF1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F962-BB6A-4733-B974-803A6B871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FE0A-F37A-4136-8CE5-9B2B66296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254B-51EC-4907-BA8C-B61CAD8A2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EE15-AE57-40D3-82EA-085C7E03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586B-C8C6-47DE-9753-3D57EC8D3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0840" y="761760"/>
            <a:ext cx="8300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DYLAN SONG STARTS WITH THE QUESTION "HOW MANY ROADS MUST A MAN WALK DOWN BEFORE YOU CALL HIM A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 TITL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VING  LA  VIDA  LO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24000" y="762120"/>
            <a:ext cx="669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CKY MARTIN'S  SIGNATURE SONG, AND  THE BEST-SELLING LATIN POP SONG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CKLING  RO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DIAMOND #1 HIT SONG CONTAINS THE LYRICS "YOU'RE A STORE BOUGHT WOMAN, YOU MAKE ME SING LIKE A GUITAR HUMMIN' 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LE  LOTTA  SHAKING  GOING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3120" y="762120"/>
            <a:ext cx="7996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RRY LEE LEWIS SONG SOLD THE MOST COPIES, AND WAS LATER COVERED BY LITTLE RICHARD AND BY ELVIS PRES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YING   A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E GEES SONG ON THE "SATURDAY NIGHT FEVER" SOUNDTRACK WAS THEIR BIGGEST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'T  STOP  BELIE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URNEY SONG IS THEIR BEST-SELLING SINGLE, IN PART BECAUSE IT WAS PLAYING DURING THE FINAL SCENE OF "THE SOPRANO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ING  JACK  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8960" y="762120"/>
            <a:ext cx="742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LING STONES SONG IS ALSO THE TITLE OF A WHOOPIE GOLDBERG FILM ABOUT THA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50960" y="4952880"/>
            <a:ext cx="764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ING  IN  THE  FREE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47680" y="762120"/>
            <a:ext cx="864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EIL YOUNG SONG POKED FUN AT PRESIDENT BUSH WITH THE LYRICS "WE GOT A 1000 POINTS OF LIGHT FOR THE HOMELESS MAN, WE GOT A KINDER, GENTLER, MACHINE GUN HAND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50920" y="762120"/>
            <a:ext cx="684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CKY MARTIN'S  SIGNATURE SONG, AND  THE BEST-SELLING LATIN POP SONG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23960" y="495288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AIN'T  SEEN  NOTHING  Y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240" y="762120"/>
            <a:ext cx="9082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CHMAN-TURNER OVERDRIVE SONG WAS WRITTEN AS A JOKE FOR A BROTHER WITH A STUTTER, BUT BECAME THEIR BEST-SELLING SONG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WING  IN  THE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1720" y="762120"/>
            <a:ext cx="8078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DYLAN SONG STARTS WITH THE QUESTION "HOW MANY ROADS MUST A MAN WALK DOWN BEFORE YOU CALL HIM A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06640" y="4419720"/>
            <a:ext cx="692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SPELLED  WITH  "–IN' " INSTEAD  OF  "–IN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 TITL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DIAMOND #1 HIT SONG CONTAINS THE LYRICS "YOU'RE A STORE BOUGHT WOMAN, YOU MAKE ME SING LIKE A GUITAR HUMMIN' 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68440" y="762120"/>
            <a:ext cx="8007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RRY LEE LEWIS SONG SOLD THE MOST COPIES, AND WAS LATER COVERED BY LITTLE RICHARD AND BY ELVIS PRES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87400" y="762120"/>
            <a:ext cx="7367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E GEES SONG ON THE "SATURDAY NIGHT FEVER" SOUNDTRACK WAS THEIR BIGGEST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URNEY SONG IS THEIR BEST-SELLING SINGLE, IN PART BECAUSE IT WAS PLAYING DURING THE FINAL SCENE OF "THE SOPRANO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9400" y="761760"/>
            <a:ext cx="758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LING STONES SONG IS ALSO THE TITLE OF A WHOOPIE GOLDBERG FILM ABOUT THA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10960" y="761760"/>
            <a:ext cx="872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EIL YOUNG SONG POKED  FUN AT PRESIDENT BUSH WITH THE LYRICS "WE GOT A 1000 POINTS OF LIGHT FOR THE HOMELESS MAN, WE GOT A KINDER, GENTLER, MACHINE GUN HAND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2840" y="762120"/>
            <a:ext cx="9058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CHMAN-TURNER OVERDRIVE SONG WAS WRITTEN AS A JOKE FOR A BROTHER WITH A STUTTER, BUT BECAME THEIR BEST-SELLING SONG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02:53:57Z</dcterms:modified>
  <cp:revision>492</cp:revision>
  <dc:subject/>
  <dc:title>Slide 1</dc:title>
</cp:coreProperties>
</file>