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C101-DEAE-4CAE-9B19-528AC4937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77D2-A35A-46E7-828F-47E1D1CEC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63EE-C342-447E-B5D2-AE40FA488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1D27-EC17-49F5-ACE5-4DDE86726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E93A-502A-4C17-942F-BADC9132E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225C-4924-4A31-934A-CED920FFB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7EED-81BB-4772-8693-DF0109917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3718-F637-42DF-9F64-79F9F43D3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8E01-5BEE-452E-A9DF-4FAE9B6A2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E7A8-3418-4CF1-BEFE-4AB0E9F40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EFA6-D3B6-462D-AD3D-B9C1F3531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5AD1-A9A2-4871-B6CB-8E6F1EF71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DB4D-FFDB-436B-A99E-E2330D470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F183-5D67-4F87-AA53-A252A0B6B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FF1D-236C-40D2-8E5C-BA762FFEB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4A3C-BC28-4B1C-ADAF-050D1352D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6D05-6E1C-4198-8F81-F1CB13CA2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D04C-B2F3-468C-83ED-D79252BD1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24CC-DA54-4E06-A4EC-4760A9DB7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8A1E-62DC-45D8-A656-9FC741C04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0E5C-224B-4A97-BB38-CFB61EC05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FC6E-BEC3-427E-B50E-4B7D33E25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08F5-2C87-40EE-B397-407980678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EXPENSIVE TYPE OF CAVIAR, COSTING $4000 PER P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05000" y="762120"/>
            <a:ext cx="6534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MARY COLOR IS ASSOCIATED WITH MOURNING IN IN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  (TUTUOL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RAPPER ICE-T'S CHARACTER ON "LAW &amp; ORDER: SPECIAL VICTIMS UNIT", A ROLE HE HAS HAD FOR 23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78040" y="762120"/>
            <a:ext cx="7386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IS       USED FOR TRIANGLES CONTAINING A 9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V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NEW JERSEY'S NH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ME BEFORE THE WORD "QUEEN" IN THE TITLE OF QUEEN'S FIRST TOP-20 HIT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I(ZE  THE  DA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RST 3 LETTERS IN THE USUAL (THOUGH QUESTIONABLE) TRANSLATION OF THE LATIN PHRASE "CARPE DIE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19000" y="762120"/>
            <a:ext cx="750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WERE          THE UNIFORMS OF CONFEDERATE SOLDI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12920" y="762120"/>
            <a:ext cx="651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MARY COLOR IS ASSOCIATED WITH MOURNING IN IND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14200" y="762120"/>
            <a:ext cx="8715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A MICROSCOPE, WHAT TADPOLE-LOOKING THINGS DID ANTOINE VAN LEEUWENHOEK DISCOVER IN 1677, CALLING THEM "LITTLE ANIMA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U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69880" y="762120"/>
            <a:ext cx="8002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EXPENSIVE TYPE OF CAVIAR, COSTING $4000 PER P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5680" y="4952880"/>
            <a:ext cx="897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WH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RAPPER ICE-T'S CHARACTER ON "LAW &amp; ORDER: SPECIAL VICTIMS UNIT", A ROLE HE HAS HAD FOR 23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1560" y="762120"/>
            <a:ext cx="7400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IS       USED FOR TRIANGLES CONTAINING A 9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87400" y="762120"/>
            <a:ext cx="7367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NEW JERSEY'S NHL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ME BEFORE THE WORD "QUEEN" IN THE TITLE OF QUEEN'S FIRST TOP-20 HIT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7120" y="761760"/>
            <a:ext cx="788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RST 3 LETTERS IN THE USUAL (THOUGH QUESTIONABLE) TRANSLATION OF THE LATIN PHRASE "CARPE DIE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71480" y="761760"/>
            <a:ext cx="7601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WERE          THE UNIFORMS OF CONFEDERATE SOLDI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9160" y="762120"/>
            <a:ext cx="8905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A MICROSCOPE, WHAT TADPOLE-LOOKING THINGS DID ANTOINE VAN LEEUWENHOEK DISCOVER IN 1677, CALLING THEM "LITTLE ANIMA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1T02:59:21Z</dcterms:modified>
  <cp:revision>491</cp:revision>
  <dc:subject/>
  <dc:title>Slide 1</dc:title>
</cp:coreProperties>
</file>