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1814-5699-49C8-99D8-B95F93F0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ED04-F26E-4749-8279-437DDFCB3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F7FD-66C1-4D0C-A859-A24782757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4A31-578D-47EA-8AB3-FB5A76253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6148-A9BC-4839-8C8F-9E97D7E63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419E-D773-4FF4-B2DB-7ED5ED84B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2746-DFE4-4B00-8ADD-A01AE370E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B996-CDD5-4C8D-BF8F-E80CFDA40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A288-1D98-4E4E-B609-9E695ABC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7282-7DDD-466E-A271-73B73690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9366-BA85-4F10-A0AF-597DF3E74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70D0-66D6-4170-A5A8-336E3B3A8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3D39-48EA-4092-8D8C-BAD524650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F5A6-1929-404E-A467-A0A10F3E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B4B8-70CF-4ED8-8CED-1EF5C6CFB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3574-7580-42A3-A49A-B22EDA054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B5AA-0C98-4D1B-A066-CA6506020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DFB3-8215-4284-A95E-BF73DCC59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CEA91-08D4-4ADF-A5A4-316FED9A6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C1CE-2A8F-4967-90C5-B15CFEE42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2AA0-EB93-44B8-9B44-14B5161BF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A85B-47D9-44EB-8FAD-7AE63562C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E056-D057-47D1-BE06-7C156EF1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XPENSIVE TYPE OF CAVIAR, COSTING $4000 PER P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05000" y="762120"/>
            <a:ext cx="653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ARY COLOR IS ASSOCIATED WITH MOURNING IN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  (TUTUOL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RAPPER ICE-T'S CHARACTER ON "LAW &amp; ORDER: SPECIAL VICTIMS UNIT", A ROLE HE HAS HAD FOR 23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      USED FOR TRIANGLES CONTAINING A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EW JERSEY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ME BEFORE THE WORD "QUEEN" IN THE TITLE OF QUEEN'S FIRST TOP-20 HI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I(ZE  THE  D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IN THE USUAL (THOUGH QUESTIONABLE) TRANSLATION OF THE LATIN PHRASE "CARPE DIE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ERE          THE UNIFORMS OF CONFEDERATE SOLD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12920" y="762120"/>
            <a:ext cx="65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ARY COLOR IS ASSOCIATED WITH MOURNING IN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14200" y="762120"/>
            <a:ext cx="8715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A MICROSCOPE, WHAT TADPOLE-LOOKING THINGS DID ANTOINE VAN LEEUWENHOEK DISCOVER IN 1677, CALLING THEM "LITTLE ANIMA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U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9880" y="762120"/>
            <a:ext cx="8002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XPENSIVE TYPE OF CAVIAR, COSTING $4000 PER P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WH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RAPPER ICE-T'S CHARACTER ON "LAW &amp; ORDER: SPECIAL VICTIMS UNIT", A ROLE HE HAS HAD FOR 23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1560" y="762120"/>
            <a:ext cx="7400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      USED FOR TRIANGLES CONTAINING A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EW JERSEY'S NH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ME BEFORE THE WORD "QUEEN" IN THE TITLE OF QUEEN'S FIRST TOP-20 HI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IN THE USUAL (THOUGH QUESTIONABLE) TRANSLATION OF THE LATIN PHRASE "CARPE DIE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ERE          THE UNIFORMS OF CONFEDERATE SOLDI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9160" y="762120"/>
            <a:ext cx="8905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A MICROSCOPE, WHAT TADPOLE-LOOKING THINGS DID ANTOINE VAN LEEUWENHOEK DISCOVER IN 1677, CALLING THEM "LITTLE ANIMA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59:21Z</dcterms:modified>
  <cp:revision>491</cp:revision>
  <dc:subject/>
  <dc:title>Slide 1</dc:title>
</cp:coreProperties>
</file>