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AE6E-A631-4FF2-8E64-B597E60D0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68AB-8490-4F60-A5F7-FE881CFD0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8983-84A0-429E-8923-7111795B1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B994-1D06-498D-9454-C3584037A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04E2-AC13-4156-9327-5014E771E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6C1D-FFDB-4B75-A58F-CC2BE2C16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DA99-FF80-4753-87A7-A88EE3082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9EEC-AF39-49B0-81E3-D055F6D9E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2AA6-0C97-456C-9FA9-15A8C1466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408B-222C-4F22-AC38-61380F2D5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75E2-AA26-48C2-BFD8-AC6AA99DC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03A5-BC3C-4AB6-B4DA-FDB897D23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B9BD-6010-4B3A-87E3-F6D6054A0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E955-3BBC-4DEA-BC9E-1C1D5843C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2751-1F61-4D31-B956-F27AEF655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948B-466C-4011-A083-0C32B4418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8906-22F4-4B0A-872F-24E3B2F01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7205-C89E-4B65-9BDE-72A332F0D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83F1-DE67-43E5-9518-40BD44702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12FF-048E-4920-9575-4B0C39069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7700-46FD-4C0A-B8BF-7D075BE1A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ED16-8005-47B9-BBA4-BA1B894C9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5A26-627D-4BAF-BA0D-DDFEA0A98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12840" y="761760"/>
            <a:ext cx="851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OHIO WHOSE NAME DOES NOT BEGIN WITH "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L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ILL AND HILLARY CLINTON'S DAUGH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ONICA  (MA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TEEN DETECTIVE THAT KRISTEN BELL PLAYED FOR 4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SON  (KRAU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63440" y="762120"/>
            <a:ext cx="8815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BLUEGRASS ARTIST WHO IS THE MOST AWARDED FEMALE ARTIST IN GRAMMY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  FIDE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55600" y="762120"/>
            <a:ext cx="8632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ROMANTIC COMEDY STARS JOHN CUSACK AND  JACK BLACK AS MUSIC SNOBS WORKING IN A RECORD ST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AMSTERD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22160" y="762120"/>
            <a:ext cx="769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RIGINAL NAME OF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IS THE SIGNATURE SONG OF THE EURYTHM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579680" y="5029200"/>
            <a:ext cx="329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12640" y="762120"/>
            <a:ext cx="811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WORDS APPEARED     IN LARGE LETTERS ON THIS WWII RECRUITMENT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715000" y="3341520"/>
            <a:ext cx="2685960" cy="23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08080" y="762120"/>
            <a:ext cx="872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ILL AND HILLARY CLINTON'S DAUGH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62120"/>
            <a:ext cx="723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M OF THE 10 DIFFERENT DIGI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L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95200" y="762120"/>
            <a:ext cx="855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OHIO WHOSE NAME DOES NOT BEGIN WITH "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S  COSTELLO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2960" y="761760"/>
            <a:ext cx="7318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TEEN DETECTIVE THAT KRISTEN BELL PLAYED FOR 4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54160" y="762120"/>
            <a:ext cx="8635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BLUEGRASS ARTIST WHO IS THE MOST AWARDED FEMALE ARTIST IN GRAMMY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0680" y="762120"/>
            <a:ext cx="8702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ROMANTIC COMEDY STARS JOHN CUSACK AND  JACK BLACK AS MUSIC SNOBS WORKING IN A RECORD ST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RIGINAL NAME OF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87560" y="761760"/>
            <a:ext cx="696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IS THE SIGNATURE SONG OF THE EURYTHM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6800" y="761760"/>
            <a:ext cx="815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WORDS APPEARED     IN LARGE LETTERS ON THIS WWII RECRUITMENT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228840" y="3276720"/>
            <a:ext cx="2686320" cy="23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4600" y="762120"/>
            <a:ext cx="6994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M OF THE 10 DIFFERENT DIGI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1T18:05:48Z</dcterms:modified>
  <cp:revision>482</cp:revision>
  <dc:subject/>
  <dc:title>Slide 1</dc:title>
</cp:coreProperties>
</file>