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C6FF-B047-4548-A626-C42CA70DF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DCD4-DADA-48AA-A563-2242458B1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249B-8B92-4645-BC03-80379A856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84163-D18E-4299-8788-F10E41CA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CCC6-0F73-4ABC-85B4-5DFB09D1D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04E2-C021-4BDC-8A5B-9F495017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BC20-CD8B-4422-8A62-08095F29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57F74-540C-484A-A7AC-8A97D75F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15F7-CFCA-45B2-A20A-369BF0397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6DC2-6335-4529-A620-0AECEFFC1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040A-5E98-4D04-B3E0-C9B16E91B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8344-3A35-48B8-8ACD-7168FE8F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EF1D-4C87-4B0F-85EE-0D7C2035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D12B-3F16-44B3-A331-1F605A02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3DF3-A3FB-4DD2-BE9B-6F013FE2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B745-D2AC-4400-825B-D7B5ECCFB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E544-1E9F-4AFA-9190-B3FE5859D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8956-8FC1-43E7-B01C-D9C7A212B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670A-62AA-4B33-A28F-EF1B1A44C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A2D-A2C3-4960-AE96-10CCBCFF4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B7FBC-FE2C-434A-8E2F-8A2ECF54A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55A3-2EE2-4D55-967B-EDB41824A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7639-9E22-4421-B6AA-067D66BD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NOT BEGIN WITH "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 AND HILLARY CLINTON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ONICA  (M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TEEN DETECTIVE THAT KRISTEN BELL PLAY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(KRAUS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63440" y="762120"/>
            <a:ext cx="8815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BLUEGRASS ARTIST WHO IS THE MOST AWARDED FEMALE ARTIST IN GRA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55600" y="762120"/>
            <a:ext cx="8632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ROMANTIC COMEDY STARS JOHN CUSACK AND  JACK BLACK AS MUSIC SNOBS WORKING IN A RECORD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2160" y="762120"/>
            <a:ext cx="769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NAME OF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THE EURYTH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79680" y="5029200"/>
            <a:ext cx="329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12640" y="762120"/>
            <a:ext cx="8118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APPEARED     IN LARGE LETTERS ON THIS WWII RECRUITMENT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715000" y="3341520"/>
            <a:ext cx="2685960" cy="23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8080" y="762120"/>
            <a:ext cx="872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 AND HILLARY CLINTON'S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M OF THE 10 DIFFERENT DIG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L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OHIO WHOSE NAME DOES NOT BEGIN WITH "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COSTELLO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2960" y="761760"/>
            <a:ext cx="731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TEEN DETECTIVE THAT KRISTEN BELL PLAYED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54160" y="762120"/>
            <a:ext cx="863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BLUEGRASS ARTIST WHO IS THE MOST AWARDED FEMALE ARTIST IN GRAMMY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ROMANTIC COMEDY STARS JOHN CUSACK AND  JACK BLACK AS MUSIC SNOBS WORKING IN A RECORD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RIGINAL NAME OF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IS THE SIGNATURE SONG OF THE EURYTH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6800" y="761760"/>
            <a:ext cx="815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WORDS APPEARED     IN LARGE LETTERS ON THIS WWII RECRUITMENT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228840" y="3276720"/>
            <a:ext cx="2686320" cy="230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4600" y="762120"/>
            <a:ext cx="6994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M OF THE 10 DIFFERENT DIG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18:05:48Z</dcterms:modified>
  <cp:revision>482</cp:revision>
  <dc:subject/>
  <dc:title>Slide 1</dc:title>
</cp:coreProperties>
</file>