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20C1-67F2-4182-A7AF-21C84B3B8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ECD2-70DA-4F43-BCF6-2EB9246FB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6367-8990-48AA-8AB6-F0E296011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C680-019F-4231-8C99-CDA6DF755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4B97-6CBA-4EBC-8176-F3757FCAF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0DEB-9E6B-4767-80C2-BCE7578DE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357F-BAC7-4111-A4A5-FF91ECF9F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145C-52E6-42F5-93FC-344370B49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3697-9000-45BE-8DBA-953647FD3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4977-A43C-49F5-980C-2FDA5A0A8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9B71-BE19-444A-B66E-F69A72BB4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75C9-8CBE-42AE-AABC-ABCCF32C6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7241-91ED-49D2-A27B-C34FB0742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DBC6-D91B-4454-AC0B-C2C1786AB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D4DC-3645-4AFA-9548-2DBCE5E47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4420-7376-40A7-8433-8A663059D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6340-2345-4427-9B00-D5EC6F940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83EA-F8ED-4468-B3F4-264211EAB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FE2D-B3F0-4440-B657-1A162A0BA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0800-8ED0-441C-AB50-BBC264D5A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C6CB-258C-4899-A121-A4447128D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EC2B-F678-4FEA-9DCD-1244BC398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F895-454D-4560-854B-178C4EF1B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66880" y="1523880"/>
            <a:ext cx="7410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1520" y="761760"/>
            <a:ext cx="894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CCUPATION WERE MICHAEL FARADAY, ANTOINE LAVOISIER, AND ROBERT BOY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52280" y="914400"/>
            <a:ext cx="6058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MUSICAL NOT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80180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228680" y="4952880"/>
            <a:ext cx="6686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SCU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09600" y="762120"/>
            <a:ext cx="8523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CEY MUSGRAVES SONG ABOUT MINDING YOUR OWN BUSINESS DI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ILLBOA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ANK AS THE BEST COUNTRY SONG OF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04920" y="762120"/>
            <a:ext cx="8496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ITS SHAPE AND LOCATION IN EUROPE, ITALY IS SOMETIMES REFERRED TO AS WHAT PIECE OF CLO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95280" y="762120"/>
            <a:ext cx="8352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-SEASON MOTORCYCLE COP SHOW STARRED LARRY WILCOX AND ERIK ESTR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44520" y="762120"/>
            <a:ext cx="8454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EN AN OBJECT PASSES THROUGH AIR HORIZONTALLY, THE VERTICAL FORCE ACTING ON THE OBJECT IS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DISON  SQUARE)  GA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971640" y="762120"/>
            <a:ext cx="720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YC, WHAT DOES THE "G" IN "MSG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90440" y="4952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OES HAYDEN CHRISTENSEN REPEATEDLY TELEPORT TO ESCAPE A SECRET SOCIETY RUN BY SAMUEL L.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1920" y="990720"/>
            <a:ext cx="6110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MUSICAL NOT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801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ILLIE)  HOL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33280" y="990720"/>
            <a:ext cx="434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IS ICONIC JAZZ 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M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1000" y="762120"/>
            <a:ext cx="898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CCUPATION WERE MICHAEL FARADAY, ANTOINE LAVOISIER, AND ROBERT BOY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266760" y="4419720"/>
            <a:ext cx="8610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DIFFERENT  MEANINGS  IN  BRITISH  AND  AMERICAN  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50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CEY MUSGRAVES SONG ABOUT MINDING YOUR OWN BUSINESS DI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ILLBOA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ANK AS THE BEST COUNTRY SONG OF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07880" y="762120"/>
            <a:ext cx="8328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ITS SHAPE AND LOCATION IN EUROPE, ITALY IS SOMETIMES REFERRED TO AS WHAT PIECE OF CLO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7760" y="762120"/>
            <a:ext cx="8447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-SEASON MOTORCYCLE COP SHOW STARRED LARRY WILCOX AND ERIK ESTR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3080" y="761760"/>
            <a:ext cx="8496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EN AN OBJECT PASSES THROUGH AIR HORIZONTALLY, THE VERTICAL FORCE ACTING ON THE OBJECT IS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44640" y="761760"/>
            <a:ext cx="72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YC, WHAT DOES THE "G" IN "MSG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90120" y="761760"/>
            <a:ext cx="7761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OES HAYDEN CHRISTENSEN REPEATEDLY TELEPORT TO ESCAPE A SECRET SOCIETY RUN BY SAMUEL L.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8160" y="914040"/>
            <a:ext cx="4443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IS ICONIC JAZZ SIN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29200" y="4572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1T18:27:22Z</dcterms:modified>
  <cp:revision>513</cp:revision>
  <dc:subject/>
  <dc:title>Slide 1</dc:title>
</cp:coreProperties>
</file>