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9D4-512E-4986-B38F-DC1AC2CA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0E09-1F59-4983-B1AA-10F55421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CD70-2956-4E19-BCEF-FADA35622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0041-20D2-41FE-B18D-B886FC49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F5DE-9AB3-4653-BAA2-9C5ED04D3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9ED3-D538-4D6F-AD27-B1D28C689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3180-0F02-4C24-BD60-B0797F97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9D07-BEC2-4B91-8922-7E3C75B1D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AC0F-BE7B-44C4-B149-43CA44EE6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CB88-5C47-46CD-8047-F28581925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618B-82FD-44AF-BC4D-AE7B813C8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D016-A55A-43FB-90D3-24F259F28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42BC-A069-4C2D-B4A0-C6476690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D149-9D12-4A4F-8D45-C2FF24D4E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82A-E2E1-46E7-BBCF-0D02B0A3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4E62-EA2F-4102-8668-A2119C8A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5AD2-BEFF-4DCA-8FCB-F52D54D1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EACE-5721-4CC5-AB62-0417BCFB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CEA9-4A89-48BE-B7EE-A852A8FCA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4881-EA06-4747-879C-F844084F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49FF-B9AD-41B8-A766-BE6F8BA7D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09D9-ED40-4954-A47A-FFD434DC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97A6-C10A-4808-8B61-4D2575DF9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66880" y="1523880"/>
            <a:ext cx="74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1520" y="761760"/>
            <a:ext cx="894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ATION WERE MICHAEL FARADAY, ANTOINE LAVOISIER, AND ROBERT BOY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52280" y="914400"/>
            <a:ext cx="6058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AL NO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01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228680" y="4952880"/>
            <a:ext cx="668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SC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09600" y="762120"/>
            <a:ext cx="852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CEY MUSGRAVES SONG ABOUT MINDING YOUR OWN BUSINESS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ANK AS THE BEST COUNTRY SONG OF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762120"/>
            <a:ext cx="8496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SHAPE AND LOCATION IN EUROPE, ITALY IS SOMETIMES REFERRED TO AS WHAT PIECE OF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95280" y="762120"/>
            <a:ext cx="835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SEASON MOTORCYCLE COP SHOW STARRED LARRY WILCOX AND ERIK ESTR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44520" y="762120"/>
            <a:ext cx="8454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EN AN OBJECT PASSES THROUGH AIR HORIZONTALLY, THE VERTICAL FORCE ACTING ON THE OBJECT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DISON  SQUARE)  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971640" y="762120"/>
            <a:ext cx="720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YC, WHAT DOES THE "G" IN "MSG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ES HAYDEN CHRISTENSEN REPEATEDLY TELEPORT TO ESCAPE A SECRET SOCIETY RUN BY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611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AL NO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01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IE)  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33280" y="990720"/>
            <a:ext cx="434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IS ICONIC JAZZ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M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1000" y="762120"/>
            <a:ext cx="898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ATION WERE MICHAEL FARADAY, ANTOINE LAVOISIER, AND ROBERT BOY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66760" y="44197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DIFFERENT  MEANINGS  IN  BRITISH  AND  AMERICAN  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CEY MUSGRAVES SONG ABOUT MINDING YOUR OWN BUSINESS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ANK AS THE BEST COUNTRY SONG OF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SHAPE AND LOCATION IN EUROPE, ITALY IS SOMETIMES REFERRED TO AS WHAT PIECE OF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7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SEASON MOTORCYCLE COP SHOW STARRED LARRY WILCOX AND ERIK ESTR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3080" y="761760"/>
            <a:ext cx="8496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EN AN OBJECT PASSES THROUGH AIR HORIZONTALLY, THE VERTICAL FORCE ACTING ON THE OBJECT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44640" y="761760"/>
            <a:ext cx="72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YC, WHAT DOES THE "G" IN "MSG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ES HAYDEN CHRISTENSEN REPEATEDLY TELEPORT TO ESCAPE A SECRET SOCIETY RUN BY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8160" y="914040"/>
            <a:ext cx="4443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IS ICONIC JAZZ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18:27:22Z</dcterms:modified>
  <cp:revision>513</cp:revision>
  <dc:subject/>
  <dc:title>Slide 1</dc:title>
</cp:coreProperties>
</file>