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2608-4DE5-4647-BDD5-247924A48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E1D7-58D4-4DD1-B216-94E03FBD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9AA9-DBE9-424E-8D7A-0B24EDC2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06FC-D124-4ACF-B872-126063CC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630-A8CB-45F8-BE5A-102A87AA4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564-059F-4BE7-B29D-3CC4DA86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FD7F-7B81-4FB3-8BCC-21D98F7F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3ED-5C62-4049-8314-A3AC9CF8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DDF0-AE91-4056-A8CE-D8AF4624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B9DC-4A6B-452F-86EE-452ED9FB4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BE3B-B07F-45A7-B00E-6C053E25A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E84-6A6A-4071-B4CA-FFF6B5C4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0DFC-D887-45B4-8997-1B95BE1E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922B-387F-4FC3-894D-4650956AA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FF61-9A32-4706-B08D-A01B60A9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2F71-527D-4645-8463-95C20FC9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E5E-A1D0-469F-B055-65DCB3CA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64E2-2913-4D19-A286-65E78261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05BC-1427-4F43-B9F5-D3839CF1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7149-2C9B-495A-BA30-A20A6683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0AE5-651C-4CE2-A576-78F27290F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6E3-E334-47CA-9F66-4ECB8D70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4166-57F1-40E3-BFD0-3078D4EF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DISTANCE BETWEEN RAILROAD RA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CANDIDATES FOR THE OLDEST LIVING THING ALIVE ARE IN WHAT CATEG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68160" y="762120"/>
            <a:ext cx="780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RECOGNIZABLE MOVIE SCENE EVER, DIRECTED BY HITCHCOCK, TOOK PLACE IN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75564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HITCHCOCK, "IT COULD BE THE MOST TERRIFYING MOTION PICTURE I HAVE EVER MADE" WAS THE TAGLINE         FOR HIS FILM "THE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47600" y="771480"/>
            <a:ext cx="704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IL INDUSTRY, WHAT UNIT IS DEFINED TO BE 42 GAL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S  AND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RE ARE MORE FISH AS PETS THAN ANY OTHER ANIMAL, WHAT TWO ANIMALS ARE FOUND IN MORE HOUSEHOLDS AS 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419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CE  IS  THE  PLACE  WITH  THE  HELPFUL  HARDWARE)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ACE HARDWARE REPLACED WHAT WORD IN THEIR DECADES-OLD JINGLE WITH THE WORD "FOL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01680" y="762120"/>
            <a:ext cx="673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6% OF THE U.S. IS CLASSIFIED AS WHAT SORT OF TERR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CANDIDATES FOR THE OLDEST LIVING THING ALIVE ARE IN WHAT CATEG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14360" y="762120"/>
            <a:ext cx="832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VERY DIFFERENT MEANINGS IN CHESS, POKER, AND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25480" y="762120"/>
            <a:ext cx="749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DISTANCE BETWEEN RAILROAD R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 FOLLOW  THE  WORD  "RAI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RECOGNIZABLE MOVIE SCENE EVER, DIRECTED BY HITCHCOCK, TOOK PLACE IN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762120"/>
            <a:ext cx="91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HITCHCOCK, "IT COULD BE THE MOST TERRIFYING MOTION PICTURE I HAVE EVER MADE" WAS THE TAGLINE         FOR HIS FILM "THE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IL INDUSTRY, WHAT UNIT IS DEFINED TO BE 42 GALL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6800" y="762120"/>
            <a:ext cx="815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RE ARE MORE FISH AS PETS THAN ANY OTHER ANIMAL, WHAT TWO ANIMALS ARE FOUND IN MORE HOUSEHOLDS AS 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3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ACE HARDWARE REPLACED WHAT WORD IN THEIR DECADES-OLD JINGLE WITH THE WORD "FOL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6% OF THE U.S. IS CLASSIFIED AS WHAT SORT OF TERR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2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VERY DIFFERENT MEANINGS IN CHESS, POKER, AND HOC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06T18:12:16Z</dcterms:modified>
  <cp:revision>429</cp:revision>
  <dc:subject/>
  <dc:title>Slide 1</dc:title>
</cp:coreProperties>
</file>