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F0E1-57A5-40CF-B4AC-81A8DD78A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543F-C1DE-4013-91C3-F6E5309D5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E340-1E86-4C9D-9825-B9DE7FB23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A3E5-A819-48BB-BB08-B2AD5BC48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1A01-93D2-48FA-879F-DF909CB36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D416-21B6-40E0-9BB1-A4FC1D0A3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43E5-FAAE-41AC-90B7-716DDA356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854F-476E-46C6-BC9C-70ADC8114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E7EB-8DDC-42B6-900F-8824F13F9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55CB-118A-4D94-9C7A-8160BD158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961B-6158-4E54-A51C-3BE36E0A1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DB75-9579-46C6-8932-2109BC3C2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43C0-8865-425C-A8B7-4432117FE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05DF-2526-4D05-BEFD-353D0BE17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A380-5BB9-48F2-94ED-BAB6480AF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0F26-10DD-45D5-92CC-B42FFEFBB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0300-A1A4-40FE-9D41-8E2E3A835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9983-A519-41C3-A172-F557DAEA0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3496-1B52-4086-A6CE-A24B6785D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1EED-E8B2-4885-AFF6-0F9B409E0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6EAE-6408-47DB-A40F-5320A2EC4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B32F-E28E-409B-89E9-FDB23BC42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02B7-E3D4-438A-826F-ACAAA5067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USED FOR THE DISTANCE BETWEEN RAILROAD RAI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CANDIDATES FOR THE OLDEST LIVING THING ALIVE ARE IN WHAT CATEG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68160" y="762120"/>
            <a:ext cx="7807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RECOGNIZABLE MOVIE SCENE EVER, DIRECTED BY HITCHCOCK, TOOK PLACE IN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75564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ING OF HITCHCOCK, "IT COULD BE THE MOST TERRIFYING MOTION PICTURE I HAVE EVER MADE" WAS THE TAGLINE         FOR HIS FILM "THE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47600" y="771480"/>
            <a:ext cx="704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IL INDUSTRY, WHAT UNIT IS DEFINED TO BE 42 GALL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S  AND  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3800" y="762120"/>
            <a:ext cx="809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THERE ARE MORE FISH AS PETS THAN ANY OTHER ANIMAL, WHAT TWO ANIMALS ARE FOUND IN MORE HOUSEHOLDS AS P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4197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CE  IS  THE  PLACE  WITH  THE  HELPFUL  HARDWARE)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3, ACE HARDWARE REPLACED WHAT WORD IN THEIR DECADES-OLD JINGLE WITH THE WORD "FOL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01680" y="762120"/>
            <a:ext cx="6738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6% OF THE U.S. IS CLASSIFIED AS WHAT SORT OF TERR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1360" y="762120"/>
            <a:ext cx="8078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CANDIDATES FOR THE OLDEST LIVING THING ALIVE ARE IN WHAT CATEG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14360" y="762120"/>
            <a:ext cx="8321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HAS VERY DIFFERENT MEANINGS IN CHESS, POKER, AND HOC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U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25480" y="762120"/>
            <a:ext cx="7493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USED FOR THE DISTANCE BETWEEN RAILROAD R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76920"/>
            <a:ext cx="87854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 FOLLOW  THE  WORD  "RAI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RECOGNIZABLE MOVIE SCENE EVER, DIRECTED BY HITCHCOCK, TOOK PLACE IN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762120"/>
            <a:ext cx="915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ING OF HITCHCOCK, "IT COULD BE THE MOST TERRIFYING MOTION PICTURE I HAVE EVER MADE" WAS THE TAGLINE         FOR HIS FILM "THE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47600" y="762120"/>
            <a:ext cx="704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IL INDUSTRY, WHAT UNIT IS DEFINED TO BE 42 GALL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6800" y="762120"/>
            <a:ext cx="815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THERE ARE MORE FISH AS PETS THAN ANY OTHER ANIMAL, WHAT TWO ANIMALS ARE FOUND IN MORE HOUSEHOLDS AS P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3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3, ACE HARDWARE REPLACED WHAT WORD IN THEIR DECADES-OLD JINGLE WITH THE WORD "FOL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6% OF THE U.S. IS CLASSIFIED AS WHAT SORT OF TERR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30200" y="762120"/>
            <a:ext cx="8282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HAS VERY DIFFERENT MEANINGS IN CHESS, POKER, AND HOC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06T18:12:16Z</dcterms:modified>
  <cp:revision>429</cp:revision>
  <dc:subject/>
  <dc:title>Slide 1</dc:title>
</cp:coreProperties>
</file>