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AFC-B2F8-4C85-B8BC-5B9645A09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072E-BE32-472E-83E0-A5BC8E26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8EF2-4861-4557-979D-560BA7B0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407-498A-45B8-8504-24A12793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E28-01E1-40A5-AD8B-8638ABF8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EA42-FAED-45FB-8E0B-754218F0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66B4-ECE4-4253-B310-63DFBF33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B86D-DBC9-4A1D-B0F3-90A56066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0FEF-6883-41A5-BCDD-C77B07F54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99D-BFFD-4307-9004-9D2EDAA84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F980-F5FD-4D2D-8E6F-E2A67B8E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6485-FDE5-47DE-9FC2-296C9B3B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F842-7515-4646-A7CB-C414531D6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7EF5-27FE-4FD3-B6BB-B4AFBEE0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580B-2B62-4542-A64B-BAC8E828C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AA1-CA15-4C27-985A-322EB478C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E277-86A1-41AF-BB38-F8062140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7300-EEC4-4C2C-AA83-4D9282917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1E1-3EAA-42DA-A749-350E9DD48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6947-D851-4273-AAAD-6AE4754D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BF3-896C-4ED6-9304-95DD8F66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B0A6-48DB-4983-82E3-8756A779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2D2F-68E1-4EAD-98F1-C0BB55D44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9903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NY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PIXAR, SEARCHLIGHT PICTURES, MARVEL STUDIOS, LUCASFILM, AND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TUD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VENT 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AND HOSPITAL IS NOW RUN BY WHAT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DEN  RESTAUR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OLIVE GARDEN, BAHAMA BREEZE, AND LONGHORN STEAK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1968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PER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1080" y="743040"/>
            <a:ext cx="87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RAGE CONTAINER COMPANY WAS FAMOUS FOR ITS MARKETING TO HOUSEWIVES   AT HOME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JUANA  FL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-MEX RESTAURANT CHAIN IS NAMED FOR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EXICO, JUST 30 MILES OF SAN DI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0060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  FINE  WINE  &amp;  SPIR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85720" y="762120"/>
            <a:ext cx="797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LORIDA'S OLDEST AND LARGEST INDEPENDENT CHAIN OF LIQUOR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680" y="762120"/>
            <a:ext cx="88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-THEMED RESTAURANT CHAIN WAS FINANCIALLY BACKED BY BRUCE WILLIS, ARNOLD SCHWARZENEGGER, AND SYLVESTER STAL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00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LF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V CHANNEL PART OF THE NBC SPORTS GROUP THAT IS DEVOTED     TO A SINGLE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0280" y="762120"/>
            <a:ext cx="80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LAND HOSPITAL IS NOW RUN BY WHAT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IZATION IS THE LARGEST PROVIDER OF ROADSIDE ASSISTANCE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T  DISNEY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PIXAR, SEARCHLIGHT PICTURES, MARVEL STUDIOS, LUCASFILM, AND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TUD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9480" y="422928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THEIR  HEADQUARTERS  IN  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OWNS OLIVE GARDEN, BAHAMA BREEZE, AND LONGHORN STEAK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9400" y="762120"/>
            <a:ext cx="884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RAGE CONTAINER COMPANY WAS FAMOUS FOR ITS MARKETING TO HOUSEWIVES   AT HOME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-MEX RESTAURANT CHAIN IS NAMED FOR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EXICO, JUST 30 MILES OF SAN DI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LORIDA'S OLDEST AND LARGEST INDEPENDENT CHAIN OF LIQUOR ST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-THEMED RESTAURANT CHAIN WAS FINANCIALLY BACKED BY BRUCE WILLIS, ARNOLD SCHWARZENEGGER, AND SYLVESTER STALL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V CHANNEL PART OF THE NBC SPORTS GROUP THAT IS DEVOTED     TO A SINGLE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IZATION IS THE LARGEST PROVIDER OF ROADSIDE ASSISTANCE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1T18:42:10Z</dcterms:modified>
  <cp:revision>447</cp:revision>
  <dc:subject/>
  <dc:title>Slide 1</dc:title>
</cp:coreProperties>
</file>