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634F-66EB-443E-ACCA-CE1EC1E46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4A8E-0BFD-444C-BBCC-F0A24881D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B5C9-3DEB-4E91-9992-B999EF49F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2BF4-3EE9-4454-85D4-ECFA26B07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49A0-CD8C-4979-AD40-66FCC8A48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7F0F-CBA2-48B3-81F3-D5EBC9AFB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2CB6-06F8-433C-B60F-B413228C7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5706-6890-43F4-A9F2-FC5F67FD8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F2EA-57B3-426C-A061-2DE8C4A84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E30F-FAAD-4289-96D6-6EB079948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14F2-109A-4D66-B5EB-51E547EB0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5F54-61EE-4225-9808-0D7E51D17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3B17-87BC-4D43-A571-DA2461642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AB43-1E95-419A-AF9E-F82EC30AA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2E2E-4C5C-4125-905B-5610D17E7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C3EF-1B29-4415-914D-3E7AF0371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32CA-2C1C-4686-954D-52894B1D9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F673-041E-4859-BB23-80919BA19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2B9B-628B-4D44-84EF-4504D3724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96AD-DDD7-4DA6-B444-80228AF39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336C-9C9E-4D4A-9EA1-4DE99EBC7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5CE7-7D78-408E-80DF-0A0B9FA4F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FC9B-2568-4B6C-921D-A0722FF60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990360"/>
            <a:ext cx="6096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NY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23720" y="762120"/>
            <a:ext cx="8296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OWNS PIXAR, SEARCHLIGHT PICTURES, MARVEL STUDIOS, LUCASFILM, AND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STUDIO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VENT 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61960" y="762120"/>
            <a:ext cx="8020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LAND HOSPITAL IS NOW RUN BY WHAT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00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RDEN  RESTAUR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85840" y="762120"/>
            <a:ext cx="8572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OWNS OLIVE GARDEN, BAHAMA BREEZE, AND LONGHORN STEAK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1968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PPER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81080" y="743040"/>
            <a:ext cx="87818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ORAGE CONTAINER COMPANY WAS FAMOUS FOR ITS MARKETING TO HOUSEWIVES   AT HOME PAR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00600"/>
            <a:ext cx="84582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JUANA  FL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28760" y="782640"/>
            <a:ext cx="8286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X-MEX RESTAURANT CHAIN IS NAMED FOR THE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MEXICO, JUST 30 MILES OF SAN DIE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0060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C  FINE  WINE  &amp;  SPIR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85720" y="762120"/>
            <a:ext cx="797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LORIDA'S OLDEST AND LARGEST INDEPENDENT CHAIN OF LIQUOR STO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ET  HOLLY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39680" y="762120"/>
            <a:ext cx="8863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-THEMED RESTAURANT CHAIN WAS FINANCIALLY BACKED BY BRUCE WILLIS, ARNOLD SCHWARZENEGGER, AND SYLVESTER STALL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006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LF  CHA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01760" y="762120"/>
            <a:ext cx="8339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TV CHANNEL PART OF THE NBC SPORTS GROUP THAT IS DEVOTED     TO A SINGLE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0280" y="762120"/>
            <a:ext cx="8082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LAND HOSPITAL IS NOW RUN BY WHAT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00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A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05040" y="762120"/>
            <a:ext cx="7333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GANIZATION IS THE LARGEST PROVIDER OF ROADSIDE ASSISTANCE IN NORTH AME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ALT  DISNEY  COMP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33360" y="762120"/>
            <a:ext cx="8477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OWNS PIXAR, SEARCHLIGHT PICTURES, MARVEL STUDIOS, LUCASFILM, AND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STUDI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09480" y="422928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HAVE  THEIR  HEADQUARTERS  IN  ORL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OWNS OLIVE GARDEN, BAHAMA BREEZE, AND LONGHORN STEAKHO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49400" y="762120"/>
            <a:ext cx="8843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ORAGE CONTAINER COMPANY WAS FAMOUS FOR ITS MARKETING TO HOUSEWIVES   AT HOME PAR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X-MEX RESTAURANT CHAIN IS NAMED FOR THE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MEXICO, JUST 30 MILES OF SAN DIE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LORIDA'S OLDEST AND LARGEST INDEPENDENT CHAIN OF LIQUOR STO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5680" y="761760"/>
            <a:ext cx="8972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-THEMED RESTAURANT CHAIN WAS FINANCIALLY BACKED BY BRUCE WILLIS, ARNOLD SCHWARZENEGGER, AND SYLVESTER STALL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2680" y="762120"/>
            <a:ext cx="8377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TV CHANNEL PART OF THE NBC SPORTS GROUP THAT IS DEVOTED     TO A SINGLE S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61840" y="762120"/>
            <a:ext cx="7420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GANIZATION IS THE LARGEST PROVIDER OF ROADSIDE ASSISTANCE IN NORTH AME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8-21T18:42:10Z</dcterms:modified>
  <cp:revision>447</cp:revision>
  <dc:subject/>
  <dc:title>Slide 1</dc:title>
</cp:coreProperties>
</file>