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BC68-6EFF-4C30-8734-AD5E5562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12EA-F5E1-44F5-9095-EF3861546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E6A4-588D-470C-853C-866796070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54C-513E-4168-AB42-FF85641C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B882-F733-4CCC-9CB3-43DCC625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3A36-F5A1-4B16-844D-D3B9517C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15C9-D5A8-4A97-8F07-BB2AFFCF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0888-D17F-4360-BE86-74EA57BF2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38FA-9305-451E-A716-906CE905C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255A-8B5D-4717-AE59-54EFBE57E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4454-F8CA-47BF-A8C9-EDEEC508F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C62-9955-4E28-B0CE-44EE19D2F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F05-B201-419E-A105-E61457E9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C6A8-0254-4E85-A7CE-63E34EA2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7B1-1263-488F-BDB0-F9FBCA24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9571-627E-414B-A554-59451D37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BA83-2DD3-49F3-8AFC-D2C8C782D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D9F7-B66C-4A73-A403-FB31BB10E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5B68-32FD-4C35-AC9B-E7AE951A1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A83-1B09-4AE9-892F-EDF3E9442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09B7-293B-4AB3-A533-452212D1B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5FE7-BC24-434B-A2ED-107172AC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F12-6D5D-4803-A298-23FB34A2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680" y="761760"/>
            <a:ext cx="8196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EY ISLAND ROLLER COASTER BUILT IN 1927 IS STILL IN OPERATION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5800" y="4952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YOU  LIKE  A  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GNATURE SONG OF THE SCORPIONS, OFF THEIR ALBUM "LOVE AT FIRST S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CE 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RICK MOODY NOVEL ABOUT TWO DYSFUNCTIONAL FAMILIES AT THANKSGIVING WAS MADE INTO A 1997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49440" y="762120"/>
            <a:ext cx="78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THAT ONLY MADE IT TO #2 DURING PRINCE'S LIFETIME, WENT TO #1 A WEEK AFTER HIS DE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  TO  THE  CHI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70000" y="762120"/>
            <a:ext cx="680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.S. PRESIDENT'S PERSONAL AN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S  OF  TH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89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FILMS STARRED TOM CRUISE AND NICOLE KIDMAN WHEN THEY WERE MARRIED: "FAR AND AWAY", "EYES WIDE SHUT"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ZZ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AIRY QUEEN'S BEST-SELLING ICE CREAM DESS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741320" y="4419720"/>
            <a:ext cx="565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  WHITE  AND  THE  SEVEN  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2120"/>
            <a:ext cx="7490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ULL-LENGTH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GNATURE SONG OF THE SCORPIONS, OFF THEIR ALBUM "LOVE AT FIRST S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F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240" y="762120"/>
            <a:ext cx="902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70'S, OVER 2/3 OF THE RAINCOATS SOLD IN THE U.S. WERE MADE BY WHAT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YC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0680" y="762120"/>
            <a:ext cx="816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EY ISLAND ROLLER COASTER BUILT IN 1927 IS STILL IN OPERATION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WEATHER 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0320" y="761760"/>
            <a:ext cx="762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RICK MOODY NOVEL ABOUT TWO DYSFUNCTIONAL FAMILIES AT THANKSGIVING WAS MADE INTO A 1997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2960" y="762120"/>
            <a:ext cx="785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THAT ONLY MADE IT TO #2 DURING PRINCE'S LIFETIME, WENT TO #1 A WEEK AFTER HIS DE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.S. PRESIDENT'S PERSONAL AN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FILMS STARRED TOM CRUISE AND NICOLE KIDMAN WHEN THEY WERE MARRIED: "FAR AND AWAY", "EYES WIDE SHUT"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87280" y="76176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AIRY QUEEN'S BEST-SELLING ICE CREAM DESSE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ULL-LENGTH DISNE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400" y="762120"/>
            <a:ext cx="91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70'S, OVER 2/3 OF THE RAINCOATS SOLD IN THE U.S. WERE MADE BY WHAT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2T13:32:06Z</dcterms:modified>
  <cp:revision>483</cp:revision>
  <dc:subject/>
  <dc:title>Slide 1</dc:title>
</cp:coreProperties>
</file>