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2256-9397-4448-8AD3-6D2F5C274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EBC6-F81E-4511-A502-4F1B5BC80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4D62-78DB-40FA-8EC5-BC79F851F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7A62-3BF4-44F7-A8F2-AE3E3F022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0031-7389-4F8E-945D-A12CAA55D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0970-10E5-4652-B834-5CAAEF9153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4626-B9AE-4445-9B21-C3C155A85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BFC7-CE72-4052-B8CE-232503A49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95BE-620F-411F-A634-114466B0E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F5A3-21FF-45D7-B3DC-DA54AF835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9852-8121-4520-ADFA-F4BBBDB23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6DC1-C1D7-4C0F-BCEC-3241BD93D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E29DC-0F85-46F9-A828-09E2C0F76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11CD-2E3C-40C4-9E0D-A198A5FB4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3B04-3AC7-4712-B4BF-99C10327F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372B-FB06-4089-BD62-BA097FA62A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55F4-DA60-4DEE-9411-33B35FE91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A3003-7F06-4664-B02A-2541E5523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5669-EC47-4362-98CA-7A6DCF768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FB9F-6010-4A93-B4A2-BA4F758BF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9D3F-D764-4021-9A8D-4B996BC2C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E2A5-E6D5-43A0-9141-E8874D6D0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C77F-BDE5-4CD9-9CD2-E2F14F377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72680" y="761760"/>
            <a:ext cx="8196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EY ISLAND ROLLER COASTER BUILT IN 1927 IS STILL IN OPERATION TO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685800" y="4952880"/>
            <a:ext cx="7772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YOU  LIKE  A  HURRIC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57160" y="762120"/>
            <a:ext cx="74296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IGNATURE SONG OF THE SCORPIONS, OFF THEIR ALBUM "LOVE AT FIRST S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ICE  STO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RICK MOODY NOVEL ABOUT TWO DYSFUNCTIONAL FAMILIES AT THANKSGIVING WAS MADE INTO A 1997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 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49440" y="762120"/>
            <a:ext cx="7843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THAT ONLY MADE IT TO #2 DURING PRINCE'S LIFETIME, WENT TO #1 A WEEK AFTER HIS DEA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L  TO  THE  CHI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170000" y="762120"/>
            <a:ext cx="680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U.S. PRESIDENT'S PERSONAL ANTHE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YS  OF  THU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76200" y="762120"/>
            <a:ext cx="8389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FILMS STARRED TOM CRUISE AND NICOLE KIDMAN WHEN THEY WERE MARRIED: "FAR AND AWAY", "EYES WIDE SHUT",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IZZ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43080" y="762120"/>
            <a:ext cx="8458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DAIRY QUEEN'S BEST-SELLING ICE CREAM DESSE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741320" y="4419720"/>
            <a:ext cx="5659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NOW  WHITE  AND  THE  SEVEN  DWAR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6920" y="762120"/>
            <a:ext cx="7490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ULL-LENGTH DISNEY FIL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8480" y="762120"/>
            <a:ext cx="754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IGNATURE SONG OF THE SCORPIONS, OFF THEIR ALBUM "LOVE AT FIRST ST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914400" y="495288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ONDON  F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57240" y="762120"/>
            <a:ext cx="9029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70'S, OVER 2/3 OF THE RAINCOATS SOLD IN THE U.S. WERE MADE BY WHAT COMPAN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YCL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90680" y="762120"/>
            <a:ext cx="8162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EY ISLAND ROLLER COASTER BUILT IN 1927 IS STILL IN OPERATION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WEATHER 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60320" y="761760"/>
            <a:ext cx="762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ST-SELLING RICK MOODY NOVEL ABOUT TWO DYSFUNCTIONAL FAMILIES AT THANKSGIVING WAS MADE INTO A 1997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42960" y="762120"/>
            <a:ext cx="78580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THAT ONLY MADE IT TO #2 DURING PRINCE'S LIFETIME, WENT TO #1 A WEEK AFTER HIS DEA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204920" y="762120"/>
            <a:ext cx="67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U.S. PRESIDENT'S PERSONAL ANTHE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9960" y="761760"/>
            <a:ext cx="8344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REE FILMS STARRED TOM CRUISE AND NICOLE KIDMAN WHEN THEY WERE MARRIED: "FAR AND AWAY", "EYES WIDE SHUT",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87280" y="761760"/>
            <a:ext cx="8569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DAIRY QUEEN'S BEST-SELLING ICE CREAM DESSE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6880" y="761760"/>
            <a:ext cx="7767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FULL-LENGTH DISNEY FIL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4400" y="762120"/>
            <a:ext cx="91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970'S, OVER 2/3 OF THE RAINCOATS SOLD IN THE U.S. WERE MADE BY WHAT COMPAN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8-22T13:32:06Z</dcterms:modified>
  <cp:revision>483</cp:revision>
  <dc:subject/>
  <dc:title>Slide 1</dc:title>
</cp:coreProperties>
</file>