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41B7-38DC-4EC6-A5BD-4EF336CCB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AC19-1145-4739-AA55-AE564CDB6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8AC9-5089-40D9-9DC4-CE753D236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7944-4DE3-4C1E-BBE5-4E44CBBFA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DF1B-B2CE-41F4-A298-3D142B52E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B04D-380A-416A-BB34-2FE924B0A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DA4B-41D1-4894-8FB8-5EA4331EB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9972-17E3-4FF9-B4C2-C3D2A11D3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E318-E124-4468-9BFF-20A7EEE14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31CC-8CCD-4E8C-A292-475FCB788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20A4-C19B-4855-8382-A4C6183F1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EDB6-48D4-4E76-B469-7F92805B6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DBFD-CA6A-4EC3-A208-5AECC175C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B6C2-2704-404D-A94C-1AF79DBF8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C3FA-851D-457D-9CF6-80866F8F9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461C-7306-49F7-87E7-37CBDF6C5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C4FB-0176-4D4E-B096-01D4DF350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B829-A13C-4021-9AD6-1BC372996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456F-8187-4674-AA15-10DD8AF7A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C484-E054-4029-82D4-140262404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74F1-46AE-4427-AF69-6F8463765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48E6-B65A-4E3B-BF9B-6BBFBFC97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63D5-223D-469C-B00F-91B6B0AE1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66880" y="1523880"/>
            <a:ext cx="7410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9040" y="761760"/>
            <a:ext cx="776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GROUP OF 120,000 MEN AND WOMEN HELPS WITH PEACEKEEPING MISSIONS BUT DOES NOT FIGHT OVERSEAS BECAUSE OF THEIR COUNTRY'S LONGSTANDING NEUTRALIT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OOD  WILL) 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38120" y="762120"/>
            <a:ext cx="82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1997 FILM STARRING ROBIN WILLIAMS, BEN AFFLECK, AND MATT DAMON AS A MATH GENI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228680" y="4952880"/>
            <a:ext cx="6686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17680" y="762120"/>
            <a:ext cx="810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NOMINATION OF PLAYING CARD IS THE HIGHEST TRUMP IN EUCH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81160" y="762120"/>
            <a:ext cx="678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CAN BE SERVED "AU POIVRE", "DIANE", OR "TART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43000" y="762120"/>
            <a:ext cx="8656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JUVENILE SWAN IS CALLED A CYGNET.  AN ADULT MALE SWAN IS CALLED A COB.  ALSO THE NAME OF A WRITING IMPLEMENT, WHAT IS AN ADULT FEMALE SWAN CALL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AVID)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22320" y="762120"/>
            <a:ext cx="7299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IAN WHO SANG "SPACE ODD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BILLIARDS TABLES HAVE THAT CAROM BILLIARDS TABLES L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79440" y="762120"/>
            <a:ext cx="838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IRY ITEM IS SOLD IN FOUR 4 OZ BRICKS, DIFFERING IN SHAPE EAST AND WEST OF THE ROCK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2440" y="761760"/>
            <a:ext cx="825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1997 FILM STARRING ROBIN WILLIAMS, BEN AFFLECK, AND MATT DAMON AS A MATH GENI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419720"/>
            <a:ext cx="7315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CHER  (BAKER  &amp;  CANDLESTICK  M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8560" y="755640"/>
            <a:ext cx="7886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URSERY RHYME "RUB-A-DUB-DUB", WHAT IS THE PROFESSION OF THE FIRST MAN MENTIO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SS  AR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GROUP OF 120,000 MEN AND WOMEN HELPS WITH PEACEKEEPING MISSIONS BUT DOES NOT FIGHT OVERSEAS BECAUSE OF THEIR COUNTRY'S LONGSTANDING NEUTR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KNIF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7760" y="761760"/>
            <a:ext cx="844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NOMINATION OF PLAYING CARD IS THE HIGHEST TRUMP IN EUCH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03240" y="762120"/>
            <a:ext cx="7337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CAN BE SERVED "AU POIVRE", "DIANE", OR "TART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32920" y="762120"/>
            <a:ext cx="8675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JUVENILE SWAN IS CALLED A CYGNET.  AN ADULT MALE SWAN IS CALLED A COB.  ALSO THE NAME OF A WRITING IMPLEMENT, WHAT IS AN ADULT FEMALE SWAN CALL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IAN WHO SANG "SPACE ODD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5440" y="761760"/>
            <a:ext cx="795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BILLIARDS TABLES HAVE THAT CAROM BILLIARDS TABLES L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7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IRY ITEM IS SOLD IN FOUR 4 OZ BRICKS, DIFFERING IN SHAPE EAST AND WEST OF THE ROCKY MOUNTA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9120" y="762120"/>
            <a:ext cx="7565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URSERY RHYME "RUB-A-DUB-DUB", WHAT IS THE PROFESSION OF THE FIRST MAN MENTIO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2T13:37:10Z</dcterms:modified>
  <cp:revision>513</cp:revision>
  <dc:subject/>
  <dc:title>Slide 1</dc:title>
</cp:coreProperties>
</file>