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E262-CFAC-41FB-871B-A15A4A091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3A89-4742-486C-9F1A-E5A562272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7750-7091-4297-904B-100C5DF4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B07A-4593-4089-A1DC-DE7AA38E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701F-8045-4229-8A4E-E44610FA7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F88C-8014-4135-86BE-454CA2F5C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F978-EA38-43FA-8762-AEFD3677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9D58-FDB7-4F7E-8AC9-2C84D6FAF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86F1-D860-47A1-B3B7-E2500660D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B702-06CE-4861-BF09-2C74A5C3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5DCD-6A29-47FE-81DE-390E757D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856E-47D1-4F69-98AC-1666E0B52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4646-A1D1-45E3-B629-A6B52531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2ADD-7A68-43C3-A4FF-12ED6AC6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6DB6-8131-4BC1-B340-6B1117BE9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29A3-B3AB-4593-8B1E-E9FBA08AF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4F07-39ED-42A4-BA37-C71763F49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5CD4-5859-480E-BD21-D193990D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F392-C572-4DD1-82BC-60D38F49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3E09-1BDB-4203-96CF-2DCA75A16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1A73-43AF-4F93-B1C4-0D895FA46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9A09-988F-431B-9A8C-54D583B7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819E-4E60-4883-BBE9-F6C33E8ED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66880" y="1523880"/>
            <a:ext cx="74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9040" y="761760"/>
            <a:ext cx="776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GROUP OF 120,000 MEN AND WOMEN HELPS WITH PEACEKEEPING MISSIONS BUT DOES NOT FIGHT OVERSEAS BECAUSE OF THEIR COUNTRY'S LONGSTANDING NEUTRAL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OOD  WILL) 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97 FILM STARRING ROBIN WILLIAMS, BEN AFFLECK, AND MATT DAMON AS A MATH GENI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228680" y="4952880"/>
            <a:ext cx="668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17680" y="762120"/>
            <a:ext cx="810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IS THE HIGHEST TRUMP IN EUCH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81160" y="76212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CAN BE SERVED "AU POIVRE", "DIANE", OR "TART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43000" y="762120"/>
            <a:ext cx="8656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UVENILE SWAN IS CALLED A CYGNET.  AN ADULT MALE SWAN IS CALLED A COB.  ALSO THE NAME OF A WRITING IMPLEMENT, WHAT IS AN ADULT FEMALE SWAN CALL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AVID)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22320" y="762120"/>
            <a:ext cx="7299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SPACE ODD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BILLIARDS TABLES HAVE THAT CAROM BILLIARDS TABLES L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9440" y="762120"/>
            <a:ext cx="838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IRY ITEM IS SOLD IN FOUR 4 OZ BRICKS, DIFFERING IN SHAPE EAST AND WEST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440" y="761760"/>
            <a:ext cx="825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97 FILM STARRING ROBIN WILLIAMS, BEN AFFLECK, AND MATT DAMON AS A MATH GENI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41972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CHER  (BAKER  &amp;  CANDLESTICK  M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8560" y="755640"/>
            <a:ext cx="7886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URSERY RHYME "RUB-A-DUB-DUB", WHAT IS THE PROFESSION OF THE FIRST MAN MENTIO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SS  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GROUP OF 120,000 MEN AND WOMEN HELPS WITH PEACEKEEPING MISSIONS BUT DOES NOT FIGHT OVERSEAS BECAUSE OF THEIR COUNTRY'S LONGSTANDING NEUTR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KNIF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7760" y="761760"/>
            <a:ext cx="844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IS THE HIGHEST TRUMP IN EUCH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3240" y="762120"/>
            <a:ext cx="733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CAN BE SERVED "AU POIVRE", "DIANE", OR "TART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32920" y="762120"/>
            <a:ext cx="8675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UVENILE SWAN IS CALLED A CYGNET.  AN ADULT MALE SWAN IS CALLED A COB.  ALSO THE NAME OF A WRITING IMPLEMENT, WHAT IS AN ADULT FEMALE SWAN CALL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SPACE ODD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BILLIARDS TABLES HAVE THAT CAROM BILLIARDS TABLES L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7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IRY ITEM IS SOLD IN FOUR 4 OZ BRICKS, DIFFERING IN SHAPE EAST AND WEST OF THE ROCKY MOUNTA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9120" y="762120"/>
            <a:ext cx="7565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URSERY RHYME "RUB-A-DUB-DUB", WHAT IS THE PROFESSION OF THE FIRST MAN MENTIO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2T13:37:10Z</dcterms:modified>
  <cp:revision>513</cp:revision>
  <dc:subject/>
  <dc:title>Slide 1</dc:title>
</cp:coreProperties>
</file>