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2A59-DB29-45DB-9309-1CBE0E304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186E-85D4-43A0-8718-F9D356FAA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13BF-8AEB-4022-AA41-C090B3411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DB5E-C5C6-46CC-8D0A-4AA91499D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34A5-D2B5-41C1-B619-D12DD2EA1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56CC-F8CC-4794-BE7C-EA65A9A9E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E78F-7FF5-41FB-A743-4073330B8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4753-D1EB-42B5-B4E3-FA977908E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BFBB-0822-4B1A-A11B-2CCC0842A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2E40-F3C4-4E09-A084-644540B33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33EA-6AEE-4F5D-9BA8-A79C5C3B5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6001-6EBB-4F9D-8822-36B3FC2AC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81FE-FEFC-46AB-838E-328B7CF98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379D-6804-4D32-A643-A02A447CE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875D-AE8F-450C-BB06-091295138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C3B4-D8E0-440C-8FA8-5E4534A76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E7F3-C240-4EA3-9D2B-20F3F8691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BF2F-32D1-4AA0-8A9D-B690D761D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0A28-2CFF-44AF-8999-8A0E48A90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C4BD-EADB-46D9-9DA1-5DC6FE66F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C053-9380-4CCF-91EE-B99C56CE0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CCA8-A0FA-42FE-9712-89D581DAE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E565-C62E-47BE-ABD4-02CBB6AD7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5960" y="990720"/>
            <a:ext cx="399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T OF MEAT IS NOT LABELED ON THIS C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191120" y="914400"/>
            <a:ext cx="462888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DGE  OF  SP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14320" y="762120"/>
            <a:ext cx="751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5 FILM DOES LAWYER TOM HANKS NEGOTIATE THE RELEASE OF A PILOT SHOT DOWN OVER THE SOVIET UN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W  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714240" y="762120"/>
            <a:ext cx="7715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TINCTIVE PIECE OF CLOTHING WAS WORN BY COMEDIANS STAN LAUREL, PEE WEE HERMAN, AND GROUCHO MAR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M  ME  UP,  SCOT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395280" y="743040"/>
            <a:ext cx="83534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TCHPHRASE SHOWING A DESIRE TO BE ELSEWHERE COMES FROM "STAR TREK", BUT WAS NEVER ACTUALLY UTTERED VERBATIM BY KI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897440"/>
            <a:ext cx="84582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IN  G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428760" y="782640"/>
            <a:ext cx="8286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AM COOKE HIT SONG HAD LYRICS "ALL DAY LONG THEY WORK SO HARD, TILL THE SUN IS GOIN' DOWN, WORKING ON THE HIGHWAYS AND BYWAYS, AND WEARING, WEARING A FROWN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CK  THE  H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979560" y="762120"/>
            <a:ext cx="7184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RISTMAS CAROL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INE IS " 'TIS THE SEASON TO BE JOL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TCH  PERF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39680" y="762120"/>
            <a:ext cx="8863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FILM HAD SEQUELS IN 2015 AND 2017 THAT ARE THE HIGHEST-GROSSING MUSICAL COMEDY FILMS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409760" y="4876920"/>
            <a:ext cx="6324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LL  OVER  BEETHO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66840" y="762120"/>
            <a:ext cx="8410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ABOUT A CLASSICAL COMPOSER WAS A TOP-30 HIT FOR CHUCK BERRY, THE BEATLES, AND ELECTRIC LIGHT ORCHEST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60320" y="762120"/>
            <a:ext cx="7623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5 FILM DOES LAWYER TOM HANKS NEGOTIATE THE RELEASE OF A PILOT SHOT DOWN OVER THE SOVIET UN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571680" y="48769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905040" y="762120"/>
            <a:ext cx="7333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DESSERT WINE COMES IN TAWNY, RUBY, AND WH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89600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76320" y="933480"/>
            <a:ext cx="39481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T OF MEAT IS NOT LABELED ON THIS C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4191120" y="914400"/>
            <a:ext cx="462888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838080" y="4800600"/>
            <a:ext cx="7467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T  WITH  BOATING 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TINCTIVE PIECE OF CLOTHING WAS WORN BY COMEDIANS STAN LAUREL, PEE WEE HERMAN, AND GROUCHO MAR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17600" y="762120"/>
            <a:ext cx="8308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TCHPHRASE SHOWING A DESIRE TO BE ELSEWHERE COMES FROM "STAR TREK", BUT WAS NEVER ACTUALLY UTTERED VERBATIM BY KI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04640" y="762120"/>
            <a:ext cx="8334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AM COOKE HIT SONG HAD LYRICS "ALL DAY LONG THEY WORK SO HARD, TILL THE SUN IS GOIN' DOWN, WORKING ON THE HIGHWAYS AND BYWAYS, AND WEARING, WEARING A FROWN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RISTMAS CAROL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INE IS " 'TIS THE SEASON TO BE JOL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5680" y="761760"/>
            <a:ext cx="8972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FILM HAD SEQUELS IN 2015 AND 2017 THAT ARE THE HIGHEST-GROSSING MUSICAL COMEDY FILMS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44520" y="762120"/>
            <a:ext cx="8454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ABOUT A CLASSICAL COMPOSER WAS A TOP-30 HIT FOR CHUCK BERRY, THE BEATLES, AND ELECTRIC LIGHT ORCHESTR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61840" y="762120"/>
            <a:ext cx="7420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DESSERT WINE COMES IN TAWNY, RUBY, AND WHI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2-08-22T13:41:15Z</dcterms:modified>
  <cp:revision>452</cp:revision>
  <dc:subject/>
  <dc:title>Slide 1</dc:title>
</cp:coreProperties>
</file>