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E0F5-8E87-4967-AAD6-61C539AFB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BE98-4B09-4A2C-942B-5DD6A8702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A46DC-7AA0-45D4-90B5-1902D8C65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3B18-0A58-4E8C-B4E8-F91C013C9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3F88-4C43-44FB-8D7B-E96E5B0A1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C3DF-3C33-48A3-8A57-AA96A8064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6EEE-7466-47E7-8417-A855C6E0A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CAEF-9B97-465D-8C4F-252F3BCBC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ED10-75C7-4C6E-9660-63287C651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7482-B1C7-4237-9A4D-DBAEF029B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368D-E591-4D04-A1E7-8EA432EF1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F6D4-E168-454C-9E6A-B4E47A33A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6932-3D7A-4383-A4B9-E91C4B9BB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442F-5D7C-4945-85F9-034AE5497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51C3-6B6E-4A14-9991-C688BA727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792C-9D63-4D52-81E6-E77FC292C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957F-F736-4495-AF27-948002B22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2DD4-0DCE-4CE4-A4B6-D8E7BB8EA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F52A-CB89-4442-9555-005F204B7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985B-7260-4248-A732-76278CCA1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5B1E-87B6-4EF0-A0D1-61AA6FD95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FCE7-1275-420C-8413-E2CE46256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32B3-D8A7-4AE9-A832-DE7057D97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5960" y="990720"/>
            <a:ext cx="3995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UT OF MEAT IS NOT LABELED ON THIS C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4191120" y="914400"/>
            <a:ext cx="462888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DGE  OF  SP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814320" y="762120"/>
            <a:ext cx="7515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5 FILM DOES LAWYER TOM HANKS NEGOTIATE THE RELEASE OF A PILOT SHOT DOWN OVER THE SOVIET UN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W  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714240" y="762120"/>
            <a:ext cx="7715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STINCTIVE PIECE OF CLOTHING WAS WORN BY COMEDIANS STAN LAUREL, PEE WEE HERMAN, AND GROUCHO MAR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M  ME  UP,  SCOT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395280" y="743040"/>
            <a:ext cx="83534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TCHPHRASE SHOWING A DESIRE TO BE ELSEWHERE COMES FROM "STAR TREK", BUT WAS NEVER ACTUALLY UTTERED VERBATIM BY KI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43080" y="4897440"/>
            <a:ext cx="845820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IN  GA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428760" y="782640"/>
            <a:ext cx="8286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SAM COOKE HIT SONG HAD LYRICS "ALL DAY LONG THEY WORK SO HARD, TILL THE SUN IS GOIN' DOWN, WORKING ON THE HIGHWAYS AND BYWAYS, AND WEARING, WEARING A FROWN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CK  THE  HA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979560" y="762120"/>
            <a:ext cx="7184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RISTMAS CAROL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INE IS " 'TIS THE SEASON TO BE JOLL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TCH  PER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39680" y="762120"/>
            <a:ext cx="8863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2 FILM HAD SEQUELS IN 2015 AND 2017 THAT ARE THE HIGHEST-GROSSING MUSICAL COMEDY FILMS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409760" y="4876920"/>
            <a:ext cx="6324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LL  OVER  BEETHO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366840" y="762120"/>
            <a:ext cx="8410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ABOUT A CLASSICAL COMPOSER WAS A TOP-30 HIT FOR CHUCK BERRY, THE BEATLES, AND ELECTRIC LIGHT ORCHESTR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60320" y="762120"/>
            <a:ext cx="7623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5 FILM DOES LAWYER TOM HANKS NEGOTIATE THE RELEASE OF A PILOT SHOT DOWN OVER THE SOVIET UN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571680" y="487692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905040" y="762120"/>
            <a:ext cx="7333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DESSERT WINE COMES IN TAWNY, RUBY, AND WHI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89600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76320" y="933480"/>
            <a:ext cx="39481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UT OF MEAT IS NOT LABELED ON THIS C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4191120" y="914400"/>
            <a:ext cx="462888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838080" y="4800600"/>
            <a:ext cx="7467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RT  WITH  BOATING  TE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61800" y="761760"/>
            <a:ext cx="8420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STINCTIVE PIECE OF CLOTHING WAS WORN BY COMEDIANS STAN LAUREL, PEE WEE HERMAN, AND GROUCHO MARX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17600" y="762120"/>
            <a:ext cx="8308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TCHPHRASE SHOWING A DESIRE TO BE ELSEWHERE COMES FROM "STAR TREK", BUT WAS NEVER ACTUALLY UTTERED VERBATIM BY KI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04640" y="762120"/>
            <a:ext cx="8334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SAM COOKE HIT SONG HAD LYRICS "ALL DAY LONG THEY WORK SO HARD, TILL THE SUN IS GOIN' DOWN, WORKING ON THE HIGHWAYS AND BYWAYS, AND WEARING, WEARING A FROWN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57160" y="762120"/>
            <a:ext cx="7429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RISTMAS CAROL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INE IS " 'TIS THE SEASON TO BE JOLL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5680" y="761760"/>
            <a:ext cx="8972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2 FILM HAD SEQUELS IN 2015 AND 2017 THAT ARE THE HIGHEST-GROSSING MUSICAL COMEDY FILMS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44520" y="762120"/>
            <a:ext cx="8454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ABOUT A CLASSICAL COMPOSER WAS A TOP-30 HIT FOR CHUCK BERRY, THE BEATLES, AND ELECTRIC LIGHT ORCHESTR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61840" y="762120"/>
            <a:ext cx="7420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DESSERT WINE COMES IN TAWNY, RUBY, AND WHI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2-08-22T13:41:15Z</dcterms:modified>
  <cp:revision>452</cp:revision>
  <dc:subject/>
  <dc:title>Slide 1</dc:title>
</cp:coreProperties>
</file>