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50C-6A00-44BA-9E23-661DAA219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249A-8A40-4819-B292-CCB40460A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1C0-78C2-457F-976D-0E27CD78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028-4C52-4FCC-B1F3-A59087F05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297F-9D05-462C-903D-34BB24BE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899E-1E92-41B5-B561-3323E6AA0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733E-275B-4131-819A-75F0F9E53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0B42-25A2-4307-8BF8-C7EA52C6C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7733-380F-42EB-8C55-0993C14B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C215-E73B-4B5D-A66D-AA6F626F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EB48-FF58-4AA6-884A-BC5C01253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B7B6-52C5-469B-83AA-3DB3D8070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B010-A87E-4CCF-AC10-35B3564C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76A9-CF3E-43DA-9D19-A70CBFA3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A9F58-202E-4099-BFA0-4FE89428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716AA-0517-4212-99C7-328928E9E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82A5-7078-4B46-924D-49BB604A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E77D-C80A-4D9C-98F2-1E1EE4E0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02F8-DDC8-48F6-881F-21EC97615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EFE-E03D-40CA-A5ED-B27D3122F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F155-1008-42BC-803A-5ABEAC3CC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330B-0377-48F1-8F97-873C5EEE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435A-2B82-42DC-8AFE-C34916AD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 SMALL RECTANGULAR PURSE WITH NO HANDLES, USUALLY USED IN THE EVE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 SMALL RECTANGULAR PURSE WITH NO HANDLES, USUALLY USED IN THE EVE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O 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XEL  FO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DDIE MURPHY'S CHARACTER'S NAME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AR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CLE OF CLOTHING OF A KKK MEMBER IS THE MOST DISTIN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UNCTUATION MARK THAT IS SIMILAR TO BUT LONGER THAN A HYPH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RAZANO-NARROWS AND GOLDEN GATE ARE WHAT TYPE OF BRID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IS GIVEN TO A SUMMARY OF A MOVIE THAT REVEALS TOO MUCH PL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MUSEMENT RIDE FIRST APPEARED IN 1893, AND IS NOW THE MOST COMMON RIDE AT STATE FAI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SAULT IS THE LEGAL TERM FOR A THREAT OF VIOLENCE.  WHAT IS THE LEGAL TERM FOR ACTUALLY COMMITTING PHYSICAL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ENDS  WITH THE REPEATED LYRICS "I'D GIVE YOU EVERYTHING I'VE GOT FOR A LITTLE PIE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3:23:03Z</dcterms:created>
  <dc:creator>Jennifer Budzinski</dc:creator>
  <dc:description/>
  <dc:language>en-US</dc:language>
  <cp:lastModifiedBy>Erich Friedman</cp:lastModifiedBy>
  <dcterms:modified xsi:type="dcterms:W3CDTF">2020-08-23T18:09:08Z</dcterms:modified>
  <cp:revision>338</cp:revision>
  <dc:subject/>
  <dc:title>Slide 1</dc:title>
</cp:coreProperties>
</file>