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FFE8-3B27-4F00-A2FB-030CCBD3C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A5C1-BB83-4599-B233-8DDEB6506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5CC2-9B69-42A6-A30C-E50638405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7476-5C07-4F84-A4E0-F861AE4FF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2B0F-3A2A-465E-85FB-F1BD1ABF8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295F-A7A5-4EE7-8C72-DAEF625B9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8657-8F24-4BC5-A303-E033E85B5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E306-66BC-4980-8D53-1F3F2B813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AC73-7497-4625-A11C-1E357F775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A33A-332E-4E2F-90CF-E4EDA8028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6640-A1B1-446D-B41E-CF906075F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469B-EFF4-4BDD-971A-511A96EDE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CF5E-6482-41BC-984D-5F465BB3C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18E3-3843-40E0-907F-3DDAA7509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7F6A-1802-47D1-8CF3-3422E28DF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3152-4863-4C9A-BC11-A8B8B15CE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A681-37A4-4CF2-94E8-5602403DF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972B-36A6-4D0E-9570-0092EF069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8D9A-23BA-48A3-8D49-FCD99EBFB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29F2-3FE6-41E0-83B1-BCC188E87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879F-A237-4D6D-9F6E-205005BE9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D0EC-C4A2-43C0-8ED6-31665DA2B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4C41-C483-4527-A540-147DBBE72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DDIE MURPHY'S CHARACTER'S NAME IN "BEVERLY HILLS CO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 SMALL RECTANGULAR PURSE WITH NO HANDLES, USUALLY USED IN THE EVE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ICLE OF CLOTHING OF A KKK MEMBER IS THE MOST DISTIN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UNCTUATION MARK THAT IS SIMILAR TO BUT LONGER THAN A HYPH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P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ERRAZANO-NARROWS AND GOLDEN GATE ARE WHAT TYPE OF BR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O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S GIVEN TO A SUMMARY OF A MOVIE THAT REVEALS TOO MUCH PL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RIS  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762120"/>
            <a:ext cx="85341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MUSEMENT RIDE FIRST APPEARED IN 1893, AND IS NOW THE MOST COMMON RIDE AT STATE FAI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SAULT IS THE LEGAL TERM FOR A THREAT OF VIOLENCE.  WHAT IS THE LEGAL TERM FOR ACTUALLY COMMITTING PHYSICAL VIOL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SMALL RECTANGULAR PURSE WITH NO HANDLES, USUALLY USED IN THE EVE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'M  SO  T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ENDS  WITH THE REPEATED LYRICS "I'D GIVE YOU EVERYTHING I'VE GOT FOR A LITTLE PIECE OF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XEL  FO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DDIE MURPHY'S CHARACTER'S NAME IN "BEVERLY HILLS CO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CAR  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ICLE OF CLOTHING OF A KKK MEMBER IS THE MOST DISTINC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UNCTUATION MARK THAT IS SIMILAR TO BUT LONGER THAN A HYPH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ERRAZANO-NARROWS AND GOLDEN GATE ARE WHAT TYPE OF BRID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S GIVEN TO A SUMMARY OF A MOVIE THAT REVEALS TOO MUCH PL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MUSEMENT RIDE FIRST APPEARED IN 1893, AND IS NOW THE MOST COMMON RIDE AT STATE FAI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SAULT IS THE LEGAL TERM FOR A THREAT OF VIOLENCE.  WHAT IS THE LEGAL TERM FOR ACTUALLY COMMITTING PHYSICAL VIOL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ENDS  WITH THE REPEATED LYRICS "I'D GIVE YOU EVERYTHING I'VE GOT FOR A LITTLE PIECE OF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03:23:03Z</dcterms:created>
  <dc:creator>Jennifer Budzinski</dc:creator>
  <dc:description/>
  <dc:language>en-US</dc:language>
  <cp:lastModifiedBy>Erich Friedman</cp:lastModifiedBy>
  <dcterms:modified xsi:type="dcterms:W3CDTF">2020-08-23T18:09:08Z</dcterms:modified>
  <cp:revision>338</cp:revision>
  <dc:subject/>
  <dc:title>Slide 1</dc:title>
</cp:coreProperties>
</file>