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043-6662-4709-B315-94611E2B1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778-7FF4-47DD-8BD6-06555105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1BE-923F-40BF-8C8C-01EDF117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9502-12D7-4D6D-8796-05075EF1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888C-BDE2-4661-A985-191765CA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E83E-C058-4E2B-936A-9D9023B5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AC1-6FA7-4636-8E90-2BEA961A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68D2-548B-48B1-B557-7C3CF7A73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5CF9-C59F-4D47-8C9D-761A2147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D61-2920-4584-A6B7-0F47C17E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13AB-3EBA-4148-90A3-A7721E2A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A85-4030-4662-AF5F-743073DBF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0A6A-2B8A-4F13-9EE1-1E8F0783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930-2A4B-47D1-BBEF-37CB349D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4E3-94F9-461C-8EB8-32AC33C5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55F0-0FE7-4C04-B270-3D3EF6B2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7387-5540-4C1E-8D61-A991E4EF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668-BE81-45E7-BB9E-2CC29A36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118-5827-498A-B52E-433660D9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FA9-1B3D-47D9-94B3-31ABCCFF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29DC-4980-4813-B6F7-A6BCC166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E13B-168B-4271-A68A-9FB920FD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F91C-44AD-49E7-90C2-339667E0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 SMALL RECTANGULAR PURSE WITH NO HANDLES, USUALLY USED IN TH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SMALL RECTANGULAR PURSE WITH NO HANDLES, USUALLY USED IN TH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O 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L  FO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AR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3:23:03Z</dcterms:created>
  <dc:creator>Jennifer Budzinski</dc:creator>
  <dc:description/>
  <dc:language>en-US</dc:language>
  <cp:lastModifiedBy>Erich Friedman</cp:lastModifiedBy>
  <dcterms:modified xsi:type="dcterms:W3CDTF">2020-08-23T18:09:08Z</dcterms:modified>
  <cp:revision>338</cp:revision>
  <dc:subject/>
  <dc:title>Slide 1</dc:title>
</cp:coreProperties>
</file>