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D88E-9911-4CE3-9D6B-761898A2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BD41-D639-4A82-A02B-3AB806E7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4BD2-359E-4025-85A3-1D2D8A89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4B9-B447-402D-8ED9-20D5BD58B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B32B-CD62-4B64-8A99-E9E355F1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EE33-9D35-47A9-BBC8-95FF2D66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8283-7254-462D-9C06-F2CD7824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0677-18DD-4A67-A0A3-7755B012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760-B0B5-4ED0-B9DC-C71CDBC0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A408-09F8-4872-8E85-259348B58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8B3-7C92-4C04-822D-FE472685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8D3-4417-4CB9-A30E-A369E5AB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47D-77D3-49EF-A177-84662BCA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DC9-8C0C-44C2-AA4D-FDE891EE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E954-0021-4B2C-BB92-24BA6126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7EC-DBAF-4CE9-99E8-DCF14829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0A00-5B68-4690-8257-F7B2B648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E5F3-4BDB-4843-9E18-26A94E2F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479-872B-4564-A033-9F95F5A6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570-F9E8-4FFD-A441-9A63A4B1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A9E4-8638-4DC9-A019-31D18934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05E6-67C1-4C97-80C4-84C9E8F1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2FB-7F7D-4174-84C7-5A1D00E5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MADE THE NBA FINALS 2015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752480" y="43434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UCHING  TIGER,  HIDDEN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2396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MADE $128 MILLION IN THE U.S., A RECORD FOR A CHINES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ICAL GROUP TO HAVE 2 ALBUMS THAT SOLD MORE THAN 16 MILLION COPIES 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IS MADE FROM RUM, PASSION FRUIT SYRUP, AND LEMON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WASP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European_wasp_white_bg.jpg"/>
          <p:cNvPicPr/>
          <p:nvPr/>
        </p:nvPicPr>
        <p:blipFill>
          <a:blip r:embed="rId1"/>
          <a:stretch/>
        </p:blipFill>
        <p:spPr>
          <a:xfrm>
            <a:off x="2286000" y="19144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RANGE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SERIES OF PROTESTS IN THE UKRAINE IN LATE 2004 AND EARLY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.S. BIRD THAT IS ALMOST ENTIRELY 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371600" y="4876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  IN  A  BLUE 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ET IN 1948 STARRED DENZEL WASHINGTON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MADE $128 MILLION IN THE U.S., A RECORD FOR A CHINESE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OSSING FILM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  CAVA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MADE THE NBA FINALS 2015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ICKNAMES  OF  ACC  SPORTS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ICAL GROUP TO HAVE 2 ALBUMS THAT SOLD MORE THAN 16 MILLION COPIES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IS MADE FROM RUM, PASSION FRUIT SYRUP, AND LEMON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WASP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European_wasp_white_bg.jpg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SERIES OF PROTESTS IN THE UKRAINE IN LATE 2004 AND EARLY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.S. BIRD THAT IS ALMOST ENTIRELY 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ET IN 1948 STARRED DENZEL WASHINGTON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OSSING FILM OF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01:40:04Z</dcterms:created>
  <dc:creator>Jennifer Budzinski</dc:creator>
  <dc:description/>
  <dc:language>en-US</dc:language>
  <cp:lastModifiedBy>Erich Friedman</cp:lastModifiedBy>
  <dcterms:modified xsi:type="dcterms:W3CDTF">2020-08-25T13:57:37Z</dcterms:modified>
  <cp:revision>417</cp:revision>
  <dc:subject/>
  <dc:title>Slide 1</dc:title>
</cp:coreProperties>
</file>