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D70D-88DE-4345-AE6C-EB8C67464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703C-8257-4AE5-8853-00350F25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6A0C-DDFF-45DE-A075-AE3D34E68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2BAF-0654-4827-8616-726F83747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1C03-D403-44B7-B30A-9C8B302F2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C4EF-978A-415B-9BF9-884533E02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17BA-55A3-454C-B045-F5B158995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3120-FE70-45FA-A4D4-3974791DF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8C8B-C2A4-41F3-8487-978A1E23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A2DA-7020-46EA-B5C9-E29680D0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32C0-F691-4A6F-81E8-1507589F9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28C6-D4EA-46CB-A8D9-13548A6BF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CEE-5362-448F-BBE6-C15518252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EBC6-262F-43E6-9684-60E05AE35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FA7E-FC34-4DCA-8C24-141F5C3E4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BD69-3522-4333-ADF1-0D92364C2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C4CE-9433-4C2A-B90F-831E3533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1D8C-C58B-466A-B212-8E24C2DD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5DAE-1AA0-45EE-904E-6BAD20E78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A3CE-C8C0-48F7-92B3-99921EDD3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629F-2956-4BA7-B547-FD51170AE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7F5D-FE7E-4ACF-8595-FBAE0307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F77F-F69C-4A39-A8A1-9E1B72D00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MADE THE NBA FINALS 2015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752480" y="434340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UCHING  TIGER,  HIDDEN  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72396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MADE $128 MILLION IN THE U.S., A RECORD FOR A CHINESE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ICAL GROUP TO HAVE 2 ALBUMS THAT SOLD MORE THAN 16 MILLION COPIES 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IS MADE FROM RUM, PASSION FRUIT SYRUP, AND LEMON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WASP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European_wasp_white_bg.jpg"/>
          <p:cNvPicPr/>
          <p:nvPr/>
        </p:nvPicPr>
        <p:blipFill>
          <a:blip r:embed="rId1"/>
          <a:stretch/>
        </p:blipFill>
        <p:spPr>
          <a:xfrm>
            <a:off x="2286000" y="191448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RANGE 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SERIES OF PROTESTS IN THE UKRAINE IN LATE 2004 AND EARLY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.S. BIRD THAT IS ALMOST ENTIRELY 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371600" y="4876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  IN  A  BLUE  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ET IN 1948 STARRED DENZEL WASHINGTON AS A PRIVATE INVESTIG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MADE $128 MILLION IN THE U.S., A RECORD FOR A CHINESE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OSSING FILM OF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VELAND  CAVAL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MADE THE NBA FINALS 2015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0976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ICKNAMES  OF  ACC  SPORTS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ICAL GROUP TO HAVE 2 ALBUMS THAT SOLD MORE THAN 16 MILLION COPIES 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COHOLIC DRINK IS MADE FROM RUM, PASSION FRUIT SYRUP, AND LEMON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WASP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European_wasp_white_bg.jpg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29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SERIES OF PROTESTS IN THE UKRAINE IN LATE 2004 AND EARLY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.S. BIRD THAT IS ALMOST ENTIRELY 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ET IN 1948 STARRED DENZEL WASHINGTON AS A PRIVATE INVESTIG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OSSING FILM OF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01:40:04Z</dcterms:created>
  <dc:creator>Jennifer Budzinski</dc:creator>
  <dc:description/>
  <dc:language>en-US</dc:language>
  <cp:lastModifiedBy>Erich Friedman</cp:lastModifiedBy>
  <dcterms:modified xsi:type="dcterms:W3CDTF">2020-08-25T13:57:37Z</dcterms:modified>
  <cp:revision>417</cp:revision>
  <dc:subject/>
  <dc:title>Slide 1</dc:title>
</cp:coreProperties>
</file>