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FFC3-B280-4585-B102-56601BDAF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69E7-25BC-45CB-B841-2C275A591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67E7-42AD-4E1B-B7D9-6C5F516FF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8082-D460-45A5-BC26-9DD3354F2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BA26-A5F4-4F06-B2C7-1788F055A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BAE5-4F19-4B32-8C7E-7EFCD4947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3A91-7010-4AFC-87A0-28D60592D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982B-DE18-4EBD-8DB8-0D3FCAE27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BB6A-5051-4B72-A532-97AB887B7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E293-AE25-47C4-BBDD-C95635FD4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6522-F252-4A29-BB79-54EA16330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E968-1416-4E52-A5B8-289E8A42F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926B-1210-4FB5-943A-453B22A7D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FBF3-FC15-4C5E-913F-E5ABB36B6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774B-EA51-4FC3-A9BA-5FB0E0E07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E3A7-19F1-4DF5-AEF8-3323EF677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501C-8644-4904-B23B-45BCFCDBD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DEE0-72F2-4A00-9081-3346AEE21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C6D5-C8B2-424C-BC68-A46C80C86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CAD1-A6DB-44C1-8717-252D23059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603D-7B75-4C11-A039-E03197C04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0D9F-4787-4255-8D5F-A4AD55EC3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D9EE-7F1A-4EFD-B0D9-3478C06EB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AM MADE THE NBA FINALS 2015-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752480" y="4343400"/>
            <a:ext cx="5639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UCHING  TIGER,  HIDDEN  D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04920" y="72396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FILM MADE $128 MILLION IN THE U.S., A RECORD FOR A CHINESE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USICAL GROUP TO HAVE 2 ALBUMS THAT SOLD MORE THAN 16 MILLION COPIES E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RRIC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143000" y="762120"/>
            <a:ext cx="6858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COHOLIC DRINK IS MADE FROM RUM, PASSION FRUIT SYRUP, AND LEMON JU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  J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WASP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European_wasp_white_bg.jpg"/>
          <p:cNvPicPr/>
          <p:nvPr/>
        </p:nvPicPr>
        <p:blipFill>
          <a:blip r:embed="rId1"/>
          <a:stretch/>
        </p:blipFill>
        <p:spPr>
          <a:xfrm>
            <a:off x="2286000" y="1914480"/>
            <a:ext cx="4572000" cy="29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RANGE  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SERIES OF PROTESTS IN THE UKRAINE IN LATE 2004 AND EARLY 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D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U.S. BIRD THAT IS ALMOST ENTIRELY 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371600" y="4876920"/>
            <a:ext cx="6477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VIL  IN  A  BLUE  D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28880" y="762120"/>
            <a:ext cx="7086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SET IN 1948 STARRED DENZEL WASHINGTON AS A PRIVATE INVESTIG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FILM MADE $128 MILLION IN THE U.S., A RECORD FOR A CHINESE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PAN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GROSSING FILM OF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VELAND  CAVAL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AM MADE THE NBA FINALS 2015-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409760" y="4343400"/>
            <a:ext cx="6324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ICKNAMES  OF  ACC  SPORTS 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95360" y="76212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USICAL GROUP TO HAVE 2 ALBUMS THAT SOLD MORE THAN 16 MILLION COPIES EA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COHOLIC DRINK IS MADE FROM RUM, PASSION FRUIT SYRUP, AND LEMON JU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WASP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European_wasp_white_bg.jpg"/>
          <p:cNvPicPr/>
          <p:nvPr/>
        </p:nvPicPr>
        <p:blipFill>
          <a:blip r:embed="rId1"/>
          <a:stretch/>
        </p:blipFill>
        <p:spPr>
          <a:xfrm>
            <a:off x="2286000" y="2057400"/>
            <a:ext cx="457200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SERIES OF PROTESTS IN THE UKRAINE IN LATE 2004 AND EARLY 20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U.S. BIRD THAT IS ALMOST ENTIRELY 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SET IN 1948 STARRED DENZEL WASHINGTON AS A PRIVATE INVESTIG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GROSSING FILM OF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3T01:40:04Z</dcterms:created>
  <dc:creator>Jennifer Budzinski</dc:creator>
  <dc:description/>
  <dc:language>en-US</dc:language>
  <cp:lastModifiedBy>Erich Friedman</cp:lastModifiedBy>
  <dcterms:modified xsi:type="dcterms:W3CDTF">2020-08-25T13:57:37Z</dcterms:modified>
  <cp:revision>417</cp:revision>
  <dc:subject/>
  <dc:title>Slide 1</dc:title>
</cp:coreProperties>
</file>