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9C56-014B-40D8-AB0D-B55EAA747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5D8F-CC57-495A-8C93-BE2F8A83E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DAC7-F0AE-4AEF-8D85-4E1F641D6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45C8-8627-4FD7-9D35-7E5C744A4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9209-83F3-484C-9A95-9531DBC3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AA66-064B-49CD-A38C-F74B3B76A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79EF-7A85-498D-A0B8-3C966407F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5FE1-712F-4A75-82C8-B93417BB4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17EC-A926-42F3-AAC1-ADBF9BEE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5228-A057-49AE-A371-01C75C744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A519-93D2-46D9-BFC6-16D30AE94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7E69-78A9-4B54-9F37-986A26ED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E848-2145-4C27-9ECE-C21F722FE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63F5-A502-463C-A0CC-D5B6DBA69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D2B1-D274-4FA2-BEC3-8A3FE35EA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1E54-4C7A-4C1A-B218-56F0093F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68FC-F21E-4A2C-8A43-8FEE79677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77E2-E68D-4738-A543-CD4565320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CF33-C960-489E-8C81-D72C6E884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6122-89FF-4238-921E-9228FD2E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553A-A20E-463D-BAB8-A525AB7DA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D309-7D3E-4907-91D8-356FAEB7C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ADAD-C633-4D0A-9B31-EC1960341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03040" y="761760"/>
            <a:ext cx="873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HARRIS WAS NOMINATED FOR AN OSCAR FOR BEST ACTOR    IN 2000 FOR PLAYING WHAT ABSTRACT ARTIST KNOWN   FOR HIS DRIP PAIN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80920" y="762120"/>
            <a:ext cx="738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OST OF "THE TONIGH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  K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90520" y="762120"/>
            <a:ext cx="6762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BECAME PRINCESS OF MONACO IN 195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D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8040" y="762120"/>
            <a:ext cx="738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EBEL WITHOUT A CA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PA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85960" y="762120"/>
            <a:ext cx="7372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IN WWII, KNOWN BY THE NICKNAME "OLD BLOOD AND GUTS", ALMOST WON A MEDAL AT THE 1912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CA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5600" y="762120"/>
            <a:ext cx="8632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ABSURDIST PHILOSOPHER WON THE NOBEL PRIZE IN LITERATURE IN 1957, THE SECOND YOUNGEST PERSON EVER TO DO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SS  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NURSERY SCHOOL TEACHER GOT MARRIED ON JULY 29, 1981, WATCHED ON TV BY 750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11120" y="762120"/>
            <a:ext cx="652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ONE WITH THE W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45640" y="762120"/>
            <a:ext cx="7450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OST OF "THE TONIGH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DORA  DUN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2520" y="762120"/>
            <a:ext cx="8237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NESSA REDGRAVE WAS NOMINATED FOR AN ACADEMY AWARD FOR BEST ACTRESS  IN 1968 FOR PLAYING WHAT FAMOUS DA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PO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49120" y="762120"/>
            <a:ext cx="8643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HARRIS WAS NOMINATED FOR AN OSCAR FOR BEST ACTOR    IN 2000 FOR PLAYING WHAT ABSTRACT ARTIST KNOWN   FOR HIS DRIP PAIN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CAR  ACC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60640" y="761760"/>
            <a:ext cx="682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BECAME PRINCESS OF MONACO IN 195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69840" y="762120"/>
            <a:ext cx="720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EBEL WITHOUT A CA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10720" y="762120"/>
            <a:ext cx="7520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IN WWII, KNOWN BY THE NICKNAME "OLD BLOOD AND GUTS", ALMOST WON A MEDAL AT THE 1912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ABSURDIST PHILOSOPHER WON THE NOBEL PRIZE IN LITERATURE IN 1957, THE SECOND YOUNGEST PERSON EVER TO DO S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61840" y="761760"/>
            <a:ext cx="7420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NURSERY SCHOOL TEACHER GOT MARRIED ON JULY 29, 1981, WATCHED ON TV BY 750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91760" y="761760"/>
            <a:ext cx="6357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ONE WITH THE W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1120" y="762120"/>
            <a:ext cx="8321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NESSA REDGRAVE WAS NOMINATED FOR AN ACADEMY AWARD FOR BEST ACTRESS  IN 1968 FOR PLAYING WHAT FAMOUS DAN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2T13:56:45Z</dcterms:modified>
  <cp:revision>501</cp:revision>
  <dc:subject/>
  <dc:title>Slide 1</dc:title>
</cp:coreProperties>
</file>