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CCB5-3FA4-4F47-B265-F4C19E39C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B718-9EBB-4C49-8AEA-451C068E0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F633-C2F3-411C-A880-F857EE188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B14C-A2FE-4DE4-8C11-810A97FFA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26A0-B1BC-4949-BAB1-14163EF71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E342-ABF0-4FF1-A6DC-7E09301D9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9485-E7D8-4334-A639-2668C41CB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FEAA-BF91-4410-8C38-61778E4AA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3398-5CAD-4BCC-B81F-BCA083E3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684B-4FF7-45A9-8635-A1E14FE5F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1D0C-E706-494C-816E-E5535147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5C36-F403-4206-B321-08AC76A0C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27E3-E8FE-4458-81B7-F46DD075D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4206-E993-4EA2-AB4F-E87955E0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684E-7896-45CC-A4BC-0F9006AD8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FA0E-BBBE-45E8-9B9E-D0C7DC780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514D-F01B-4165-832A-0968D639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6D77-3FC6-4D93-B4AD-9EF6CB88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6654-C047-48B0-B232-2F535E063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239-7B4B-4F55-AAE5-A9030332C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6A17-1A9E-475C-BA54-8EFE6A18B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ABCF-6EE0-4041-B6A6-9A727ED5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33B0-1E63-4549-ACE2-87BA62088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03040" y="761760"/>
            <a:ext cx="873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HARRIS WAS NOMINATED FOR AN OSCAR FOR BEST ACTOR    IN 2000 FOR PLAYING WHAT ABSTRACT ARTIST KNOWN   FOR HIS DRIP PAIN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80920" y="762120"/>
            <a:ext cx="738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  K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90520" y="762120"/>
            <a:ext cx="6762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BECAME PRINCESS OF MONACO IN 195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8040" y="762120"/>
            <a:ext cx="738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EBEL WITHOUT A CA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A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85960" y="762120"/>
            <a:ext cx="7372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IN WWII, KNOWN BY THE NICKNAME "OLD BLOOD AND GUTS", ALMOST WON A MEDAL AT THE 1912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CA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5600" y="762120"/>
            <a:ext cx="8632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ABSURDIST PHILOSOPHER WON THE NOBEL PRIZE IN LITERATURE IN 1957, THE SECOND YOUNGEST PERSON EVER TO DO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SS  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NURSERY SCHOOL TEACHER GOT MARRIED ON JULY 29, 1981, WATCHED ON TV BY 750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11120" y="762120"/>
            <a:ext cx="652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ONE WITH THE W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45640" y="762120"/>
            <a:ext cx="74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DORA  DUN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2520" y="762120"/>
            <a:ext cx="8237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NESSA REDGRAVE WAS NOMINATED FOR AN ACADEMY AWARD FOR BEST ACTRESS  IN 1968 FOR PLAYING WHAT FAMOUS DA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PO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9120" y="762120"/>
            <a:ext cx="8643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HARRIS WAS NOMINATED FOR AN OSCAR FOR BEST ACTOR    IN 2000 FOR PLAYING WHAT ABSTRACT ARTIST KNOWN   FOR HIS DRIP PAIN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CAR  ACC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60640" y="761760"/>
            <a:ext cx="682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BECAME PRINCESS OF MONACO IN 195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69840" y="762120"/>
            <a:ext cx="720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EBEL WITHOUT A CA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10720" y="762120"/>
            <a:ext cx="7520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IN WWII, KNOWN BY THE NICKNAME "OLD BLOOD AND GUTS", ALMOST WON A MEDAL AT THE 1912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ABSURDIST PHILOSOPHER WON THE NOBEL PRIZE IN LITERATURE IN 1957, THE SECOND YOUNGEST PERSON EVER TO DO S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61840" y="761760"/>
            <a:ext cx="7420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NURSERY SCHOOL TEACHER GOT MARRIED ON JULY 29, 1981, WATCHED ON TV BY 750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91760" y="761760"/>
            <a:ext cx="6357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ONE WITH THE W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1120" y="762120"/>
            <a:ext cx="8321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NESSA REDGRAVE WAS NOMINATED FOR AN ACADEMY AWARD FOR BEST ACTRESS  IN 1968 FOR PLAYING WHAT FAMOUS DAN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2T13:56:45Z</dcterms:modified>
  <cp:revision>501</cp:revision>
  <dc:subject/>
  <dc:title>Slide 1</dc:title>
</cp:coreProperties>
</file>