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2B7D-900C-461F-B6E0-C5E9BE3F0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2E2D-88D5-4D1D-A8B6-3DB30A026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547B-76CE-43D3-83DD-3C16E3E4D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F1FD-1426-4619-B2F6-7B40852F0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846B-86E4-4676-BCCA-4968A26FE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0975-8B51-405C-A427-C13C213BA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33BB-EA9D-4EB9-B190-2385AB56C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04DF-AA20-4132-8220-91E1BBB9A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8BCC-0873-4113-8EE8-07081269D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51D8-106C-4F32-A94C-665925CAD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E4E7-74A0-4D1D-9654-E3AB2C9B2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5337E-48B0-4F2B-9DB7-713DBCE8D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B621-9207-4250-8F83-CE7F4F115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F899-DDC5-476F-9C96-D3424A056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B352-BE40-4694-AC76-0474CFFB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EC3B-6E8A-414B-841E-4A0DD0EF1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E8E7-B0C3-4669-86E5-4B24EBFD1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8F58-0DFA-41D9-A212-2666A887C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56C1-10C2-4191-991B-B1C6E4D18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2AEC-C129-4504-BD76-7C0BB936F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654D-537F-4D7F-901B-A1E71CECE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D24C-A5E6-4FEF-84B0-E29500067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C577-9F92-442E-AC36-D08B56BE3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VEL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680" y="761760"/>
            <a:ext cx="8196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9 GEORGE ORWELL NOVEL FIRST USED "BIG BROTHER" AS A SYMBOL OF GOVERNMENTAL P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OVEL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HRENHEIT  4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RAY BRADBURY NOVEL WAS ABOUT A FIREMAN RESCUING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ALE  OF  TWO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59 CHARLES DICKENS WORK IS HIS BEST-KNOWN AND BEST-SELLING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UGHTERHOUSE–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63440" y="762120"/>
            <a:ext cx="8815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KURT VONNEGUT WORK HAS BEEN CALLED "ONE OF THE MOST ENDURING ANTIWAR NOVELS OF ALL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–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90640" y="762120"/>
            <a:ext cx="7362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JOSEPH HELLER NOVEL CONTAINS THE CHARACTER MAJOR MAJOR MAJOR MAJ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WO  T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6200" y="762120"/>
            <a:ext cx="8389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J.R.R. TOLKIEN BOOK WAS MADE INTO THE BEST-SELLING MOVIE OF 200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HREE  MUSKE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44 ADVENTURE NOVEL IS THE BEST-SELLING WORK OF ALEXANDRE DU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419720"/>
            <a:ext cx="5984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HUNDRED  YEARS  OF  SOLIT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6920" y="762120"/>
            <a:ext cx="7490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NOVEL BY GABRIEL GARCIA MÁRQUEZ IS CONSIDERED TO BE HIS MAGNUM OP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4800" y="762120"/>
            <a:ext cx="7934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RAY BRADBURY NOVEL WAS ABOUT A FIREMAN RESCUING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41972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ENTY  THOUSAND  LEAGUES  UNDER  THE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70 JULES VERNE NOVEL FORESHADOWED MANY FEATURES OF MODERN SUBMAR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9 GEORGE ORWELL NOVEL FIRST USED "BIG BROTHER" AS A SYMBOL OF GOVERNMENTAL P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UMBERS  IN  THEIR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OVEL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59 CHARLES DICKENS WORK IS HIS BEST-KNOWN AND BEST-SELLING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4840" y="762120"/>
            <a:ext cx="87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KURT VONNEGUT WORK HAS BEEN CALLED "ONE OF THE MOST ENDURING ANTIWAR NOVELS OF ALL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3800" y="762120"/>
            <a:ext cx="7373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3 JOSEPH HELLER NOVEL CONTAINS THE CHARACTER MAJOR MAJOR MAJOR MAJ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J.R.R. TOLKIEN BOOK WAS MADE INTO THE BEST-SELLING MOVIE OF 200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0840" y="761760"/>
            <a:ext cx="830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44 ADVENTURE NOVEL IS THE BEST-SELLING WORK OF ALEXANDRE DUM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NOVEL BY GABRIEL GARCIA MÁRQUEZ IS CONSIDERED TO BE HIS MAGNUM OP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0200" y="762120"/>
            <a:ext cx="7743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70 JULES VERNE NOVEL FORESHADOWED MANY FEATURES OF MODERN SUBMAR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3T15:43:32Z</dcterms:modified>
  <cp:revision>477</cp:revision>
  <dc:subject/>
  <dc:title>Slide 1</dc:title>
</cp:coreProperties>
</file>