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4D3-577C-4D95-82B5-8F47A0E6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68FE-D93D-46DC-9307-69CBAD1AE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F457-166B-445D-8946-739F6CE0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81FA-ED0D-4D68-94E0-512BB3A9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3094-58B7-4976-8B83-C5A46833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266E-70B8-4FBF-932B-D409DAA6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39F-48A0-4A58-B405-3E47FD04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61A-44FE-4D31-90FB-C88B5136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2B6E-5B85-478C-94F0-1E88B497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B7F-9C7F-46C1-A3F7-B17B46FA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D13E-621B-4409-8976-3894784A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B43-9B5E-40C5-82D2-1CBB970F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041-B3B9-451D-8C68-02D95437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F24-13CB-4419-984E-44AAF3C9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DF4-9E42-48B0-BC62-63CF72FB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C31-E538-4F15-BF25-8E598BB0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8E0-5E58-4681-954E-E62CCE27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CBF-E83B-4272-BE21-37E19596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3B5-966F-4E9F-8A64-EB4A9FBE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826-0189-413B-9D47-3C68EA7D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DC4-F7F0-42AF-8817-83746B87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31D-7133-4998-8E1B-26AAFE04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C10D-0F2D-4E92-8E1F-25E12E41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ORGE ORWELL NOVEL FIRST USED "BIG BROTHER" AS A SYMBOL OF GOVERNMENTAL P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OVE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HRENHEIT  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RAY BRADBURY NOVEL WAS ABOUT A FIREMAN RESCUING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9 CHARLES DICKENS WORK IS HIS BEST-KNOWN AND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UGHTERHOUSE–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63440" y="762120"/>
            <a:ext cx="8815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KURT VONNEGUT WORK HAS BEEN CALLED "ONE OF THE MOST ENDURING ANTIWAR NOVEL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–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JOSEPH HELLER NOVEL CONTAINS THE CHARACTER MAJOR MAJOR MAJOR MA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O  T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J.R.R. TOLKIEN BOOK WAS MADE INTO THE BEST-SELLING MOVIE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REE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44 ADVENTURE NOVEL IS THE BEST-SELLING WORK OF ALEXANDRE DU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419720"/>
            <a:ext cx="598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HUNDRED  YEARS  OF  SO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2120"/>
            <a:ext cx="749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NOVEL BY GABRIEL GARCIA MÁRQUEZ IS CONSIDERED TO BE HIS MAGNUM O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RAY BRADBURY NOVEL WAS ABOUT A FIREMAN RESCUING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4197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ENTY  THOUSAND  LEAGUES  UNDER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0 JULES VERNE NOVEL FORESHADOWED MANY FEATURES OF MODERN SUB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ORGE ORWELL NOVEL FIRST USED "BIG BROTHER" AS A SYMBOL OF GOVERNMENTAL P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UMBER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OVE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9 CHARLES DICKENS WORK IS HIS BEST-KNOWN AND BEST-SELLING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4840" y="762120"/>
            <a:ext cx="87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KURT VONNEGUT WORK HAS BEEN CALLED "ONE OF THE MOST ENDURING ANTIWAR NOVEL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380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JOSEPH HELLER NOVEL CONTAINS THE CHARACTER MAJOR MAJOR MAJOR MAJ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J.R.R. TOLKIEN BOOK WAS MADE INTO THE BEST-SELLING MOVIE OF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44 ADVENTURE NOVEL IS THE BEST-SELLING WORK OF ALEXANDRE DU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NOVEL BY GABRIEL GARCIA MÁRQUEZ IS CONSIDERED TO BE HIS MAGNUM O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0 JULES VERNE NOVEL FORESHADOWED MANY FEATURES OF MODERN SUBMA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5:43:32Z</dcterms:modified>
  <cp:revision>477</cp:revision>
  <dc:subject/>
  <dc:title>Slide 1</dc:title>
</cp:coreProperties>
</file>