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F21F-9988-429F-970E-D24B44EB4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B11E-79DA-4FF1-A0A0-DA783BFCF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D283-24F9-4B0B-91A6-5B18460FE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0EE0-BD5A-441B-842C-5AC9D7DA4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BD11-17DE-4F3C-9C6B-4D7AC7C39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6250-7DC7-46F2-B0D4-108CC8FF4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EADB-2FFB-4B4E-A3C8-715A478EA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58FA-7255-44B7-90F2-DEAF586E8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1012-F8AC-437C-AF28-30FCC1A87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798D-6339-4E78-819B-7BE88F587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1CE6-4B43-40B7-8DAB-61FA53EF0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7069-D25F-4AC9-B25A-2781E473D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1D4E-3E50-467E-BB58-352EA0216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8EC3-9B6F-459D-BCBE-A2E3A79CE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B0AB-2C55-45AE-AEEE-D3BB2DF5A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E97B-DFFE-47B4-AE27-81EB05F84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D932-0D2A-4468-85CA-CDE9ADBE3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CFE3-54C9-4977-BD34-3D95C6227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044A-4F67-4AB8-9D22-984F93071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3E4E-6B54-4CFF-A976-E32CFDBCA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132D-973B-41DD-B7F9-6F309DB44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CDA1-9101-4C70-B3B4-21935F955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76C7-3395-4824-8B90-8B28D503B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14440" y="1523880"/>
            <a:ext cx="8115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NFORD, FLORIDA IS LOCATED IN WHAT COUN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YEN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459080" y="762120"/>
            <a:ext cx="6225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WYOM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42960" y="4952880"/>
            <a:ext cx="605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30200" y="762120"/>
            <a:ext cx="8332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KE HIS FATHER BRUCE LEE, BRANDON LEE WAS A FILM STAR.  WHAT RESURRECTION AND VENGEANCE FILM WAS HE KILLED FILM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ND  CHEROK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39560" y="762120"/>
            <a:ext cx="8264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EP'S BEST-SELLING MODEL USED TO BE THE WRANGLER.  WHAT IS IT N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WNEE,  INDI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42800" y="762120"/>
            <a:ext cx="8258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CTIONAL TOWN WAS THE SETTING FOR TV'S "PARKS AND RECREA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OUX  FA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122480" y="762120"/>
            <a:ext cx="6899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CATED ON THE IOWA STATE LINE, WHAT IS THE MOST POPULATED CITY IN SOUTH DAKO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TTAW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409760" y="762120"/>
            <a:ext cx="6324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CANA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579680" y="4952880"/>
            <a:ext cx="5984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H–64  APAC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049400" y="762120"/>
            <a:ext cx="7045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RIMARY ATTACK HELICOPTER USED BY THE U.S. ARM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53600" y="762120"/>
            <a:ext cx="6434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WYOM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914400" y="49528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CKEL  CRE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98480" y="762120"/>
            <a:ext cx="7547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ERICANA GROUP FEATURES CHRIS THILE ON MANDOLIN, SARA WATKINS ON FIDDLE, AND SEAN WATKINS ON GUIT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MIN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82480" y="762120"/>
            <a:ext cx="7979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NFORD, FLORIDA IS LOCATED IN WHAT COUN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735200" y="4419720"/>
            <a:ext cx="56721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INDIAN  TRIB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762120"/>
            <a:ext cx="822960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57280" y="761760"/>
            <a:ext cx="8029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KE HIS FATHER BRUCE LEE, BRANDON LEE WAS A FILM STAR.  WHAT RESURRECTION AND VENGEANCE FILM WAS HE KILLED FILM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07880" y="762120"/>
            <a:ext cx="8326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EP'S BEST-SELLING MODEL USED TO BE THE WRANGLER.  WHAT IS IT N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80600" y="762120"/>
            <a:ext cx="8180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CTIONAL TOWN WAS THE SETTING FOR TV'S "PARKS AND RECREAT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CATED ON THE IOWA STATE LINE, WHAT IS THE MOST POPULATED CITY IN SOUTH DAKOT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485720" y="761760"/>
            <a:ext cx="6172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CANA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71720" y="761760"/>
            <a:ext cx="6999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RIMARY ATTACK HELICOPTER USED BY THE U.S. ARM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52480" y="762120"/>
            <a:ext cx="7437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ERICANA GROUP FEATURES CHRIS THILE ON MANDOLIN, SARA WATKINS ON FIDDLE, AND SEAN WATKINS ON GUIT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8-23T15:46:46Z</dcterms:modified>
  <cp:revision>508</cp:revision>
  <dc:subject/>
  <dc:title>Slide 1</dc:title>
</cp:coreProperties>
</file>