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58B6-378C-49CE-B803-00248B327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6598-E990-4373-8716-FD30768D3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31A9-D511-491F-AFEC-977505D4A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211B-37A2-471B-9EAC-C583FDEF5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52B8-ADDA-4570-BA53-C3B1EB1A3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47CE-56EE-48E9-9A14-BF7991D83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2457-BB74-4973-8F76-B7887A952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6798-8E48-49AF-B6A2-278BEBC87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EEC0-18A5-4A3A-AD9B-AE8B4EC07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B4A1-35EA-488D-8FBC-4AD405F0F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400F-D59C-4B94-8489-F3124799E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92C3-4E8B-4BAC-866C-C2A30E89A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098F-D0B5-41A6-B93A-FE9F136E7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BFA0-E449-4965-B7F3-AC1D12DBF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59D7-B98B-4126-90AF-E09C6B8E0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8386-F93F-464A-90B3-A4B8419D9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74EA-34C3-45CA-BF17-ECDCD12B7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16D2-387E-4EBF-80E7-2604C53F8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F604-10DF-4C2D-863B-CA76356B8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0DCF-718A-49AC-88C2-759AF0F0D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0DA2-9BEF-4C1A-B7EF-C314CE0A1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F95E-43EA-464A-B0A1-EEE966CDC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0EE5-7C6A-4428-B0E3-2C9C3E9EB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NFORD, FLORIDA IS LOCATED IN WHAT COUN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YEN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459080" y="762120"/>
            <a:ext cx="6225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WYOM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30200" y="762120"/>
            <a:ext cx="8332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KE HIS FATHER BRUCE LEE, BRANDON LEE WAS A FILM STAR.  WHAT RESURRECTION AND VENGEANCE FILM WAS HE KILLED FILM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D  CHEROK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39560" y="762120"/>
            <a:ext cx="8264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EP'S BEST-SELLING MODEL USED TO BE THE WRANGLER.  WHAT IS IT 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WNEE,  INDI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42800" y="762120"/>
            <a:ext cx="8258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CTIONAL TOWN WAS THE SETTING FOR TV'S "PARKS AND RECREA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OUX  FA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122480" y="762120"/>
            <a:ext cx="6899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CATED ON THE IOWA STATE LINE, WHAT IS THE MOST POPULATED CITY IN SOUTH DAKO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TTAW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409760" y="762120"/>
            <a:ext cx="6324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79680" y="4952880"/>
            <a:ext cx="598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H–64  APA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049400" y="762120"/>
            <a:ext cx="704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RIMARY ATTACK HELICOPTER USED BY THE U.S. AR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53600" y="762120"/>
            <a:ext cx="6434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WYOM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KEL  CR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98480" y="762120"/>
            <a:ext cx="7547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NA GROUP FEATURES CHRIS THILE ON MANDOLIN, SARA WATKINS ON FIDDLE, AND SEAN WATKINS ON GUIT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MIN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82480" y="762120"/>
            <a:ext cx="7979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NFORD, FLORIDA IS LOCATED IN WHAT COUN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35200" y="4419720"/>
            <a:ext cx="5672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INDIAN  TRIB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57280" y="761760"/>
            <a:ext cx="8029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KE HIS FATHER BRUCE LEE, BRANDON LEE WAS A FILM STAR.  WHAT RESURRECTION AND VENGEANCE FILM WAS HE KILLED FILM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07880" y="762120"/>
            <a:ext cx="8326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EP'S BEST-SELLING MODEL USED TO BE THE WRANGLER.  WHAT IS IT 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80600" y="762120"/>
            <a:ext cx="8180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CTIONAL TOWN WAS THE SETTING FOR TV'S "PARKS AND RECREA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CATED ON THE IOWA STATE LINE, WHAT IS THE MOST POPULATED CITY IN SOUTH DAKOT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485720" y="761760"/>
            <a:ext cx="6172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CANA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71720" y="761760"/>
            <a:ext cx="6999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RIMARY ATTACK HELICOPTER USED BY THE U.S. ARM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52480" y="762120"/>
            <a:ext cx="7437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NA GROUP FEATURES CHRIS THILE ON MANDOLIN, SARA WATKINS ON FIDDLE, AND SEAN WATKINS ON GUIT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8-23T15:46:46Z</dcterms:modified>
  <cp:revision>508</cp:revision>
  <dc:subject/>
  <dc:title>Slide 1</dc:title>
</cp:coreProperties>
</file>