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883-6F3B-44E9-823D-DEF1E60C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6B34-2160-46F8-ACF3-94B543EA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409E-9C83-469F-8E8F-FBCF33D9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8E1-E306-47D7-BEB8-97336F8C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1F38-C377-46A2-B169-BEF00FCD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4FB2-7CBC-4055-B534-72C534D8E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1B3-F7D7-4FA4-B072-2B3BD4AD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7975-8848-4D43-BB97-8E15894E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354E-BB0B-42C0-8CB9-92BFAA0C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75B2-83DF-4473-8BCA-6B3C6F02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3BBE-A33E-4113-A340-E2B17296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6486-5A89-481F-938D-2F375FDA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7CF4-2627-47EC-B1E5-55DDA08F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A08-525D-416D-B07D-453C67B1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545F-08A4-4EAC-8DE9-0F9D004F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956-71D1-4DD4-AB32-9AF767EF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A51-D873-4598-B9D2-4BF6A7B3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5B1-5DC5-4B92-AD0E-436BCB6F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BF8-15A6-4852-83C6-1B44231A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930-0EBF-4A89-BF17-1B758954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09E-F36B-46B2-A927-E3EDE7FC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81B-FA1A-4F3D-B90B-0E4BB044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D03-638B-451F-926E-DD921B92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9169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K., THE BEST-SELLING SONG BY QUEEN IS "BOHEMIAN RHAPSODY".  WHAT WAS THEIR BEST-SELLING SONG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      IS THE LONGEST SONG               (8 MINUTES AND 33 SECONDS) TO EVER HIT #1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KINKS SOLD MORE COPIES THAN ANY OTHER SONG ABOUT CROSS-DRE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BA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9560" y="762120"/>
            <a:ext cx="8264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'S TITLE IS ALSO THE TITLE OF THE FILM ABOUT THE LIFE OF RITCHIE VAL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THE TITLE TRACK ON HER SECOND ALBUM, WAS MADONNA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  FOR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9280" y="762120"/>
            <a:ext cx="770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DIRE STRA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GREG KIHN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RRED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3160" y="762120"/>
            <a:ext cx="753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BEST-SELLING SONG, WHICH WAS CRITICIZED FOR BEING MISOGYNIS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9200" y="762120"/>
            <a:ext cx="826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      IS THE LONGEST SONG               (8 MINUTES AND 33 SECONDS) TO EVER HIT #1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SHA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KN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ONE  BITES  THE  D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520" y="762120"/>
            <a:ext cx="9123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K., THE BEST-SELLING SONG BY QUEEN IS "BOHEMIAN RHAPSODY".  WHAT WAS THEIR BEST-SELLING SONG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57240" y="4419720"/>
            <a:ext cx="722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RD  AL  YANKOVIC  PARODIED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KINKS SOLD MORE COPIES THAN ANY OTHER SONG ABOUT CROSS-DRES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7880" y="762120"/>
            <a:ext cx="832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'S TITLE IS ALSO THE TITLE OF THE FILM ABOUT THE LIFE OF RITCHIE VAL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600" y="762120"/>
            <a:ext cx="818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THE TITLE TRACK ON HER SECOND ALBUM, WAS MADONNA'S FIR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DIRE STRA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GREG KIHN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BEST-SELLING SONG, WHICH WAS CRITICIZED FOR BEING MISOGYNIS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KN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6:05:44Z</dcterms:modified>
  <cp:revision>504</cp:revision>
  <dc:subject/>
  <dc:title>Slide 1</dc:title>
</cp:coreProperties>
</file>