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14F0D-D36F-400E-B8F7-B53FAFD990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5ECD4-6F2E-4EA0-8545-9210396055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367C9-05A3-4391-8AF2-784038ACCD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664E9-6843-448A-A392-FD0B171FA1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8C20E-26B3-4547-87D5-AB2E5462B5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D23A2-B95F-44F2-8E80-280BAE5FE3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9CCC1-E975-46DF-901D-7989C7DD5C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7EF3C-AD38-46B6-A09A-34F46D192A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52413-08A1-41B4-ABDA-FC43FA330C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F93AB-5524-4E1D-85DE-18C54F1CDD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8C5AE-0D07-4185-A5BE-B911B4B629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00134-9ACE-4D40-9CC1-6B3011D404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08069-568D-4A76-8362-3E26D89552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1A624-21D1-4933-85CC-DA1925EC42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C0E81-6F74-4DBD-A070-FD8A8E9B80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AA597-4789-4006-89D5-A1E779AA0A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A7678-6020-4CA6-A3A2-AEC8D8AB73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603C8-D19C-41F5-847E-232884D259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EB911-3E9B-439B-A47F-D6F8020D70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6EFA7-5FAC-410C-9B8D-D633AEFEA5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0F778-BED8-4899-BE72-66B656E81A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7D89E-9551-4AB6-A38A-F505ED7029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C522F-C513-4AD5-80D5-80D17B8C93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14440" y="1523880"/>
            <a:ext cx="8115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NG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-360" y="761760"/>
            <a:ext cx="9169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U.K., THE BEST-SELLING SONG BY QUEEN IS "BOHEMIAN RHAPSODY".  WHAT WAS THEIR BEST-SELLING SONG IN THE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SONG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MERICAN  P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477720" y="762120"/>
            <a:ext cx="8186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N MCLEAN SONG       IS THE LONGEST SONG               (8 MINUTES AND 33 SECONDS) TO EVER HIT #1 IN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542960" y="4952880"/>
            <a:ext cx="6058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785880" y="762120"/>
            <a:ext cx="7572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BY THE KINKS SOLD MORE COPIES THAN ANY OTHER SONG ABOUT CROSS-DRESS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0492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  BAM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439560" y="762120"/>
            <a:ext cx="82648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'S TITLE IS ALSO THE TITLE OF THE FILM ABOUT THE LIFE OF RITCHIE VALE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KE  A  VIRG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442800" y="762120"/>
            <a:ext cx="8258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, THE TITLE TRACK ON HER SECOND ALBUM, WAS MADONNA'S FIRST #1 S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81160" y="4952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NEY  FOR  NOTH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719280" y="762120"/>
            <a:ext cx="77054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ONLY #1 SONG OF DIRE STRAI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OPAR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457200" y="762120"/>
            <a:ext cx="8229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ONLY #1 SONG OF THE GREG KIHN B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579680" y="4952880"/>
            <a:ext cx="5984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URRED  LI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803160" y="762120"/>
            <a:ext cx="75358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ROBIN THICKE'S BEST-SELLING SONG, WHICH WAS CRITICIZED FOR BEING MISOGYNISTIC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39200" y="762120"/>
            <a:ext cx="8263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N MCLEAN SONG       IS THE LONGEST SONG               (8 MINUTES AND 33 SECONDS) TO EVER HIT #1 IN THE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914400" y="4952880"/>
            <a:ext cx="7315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Y  SHARO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798480" y="762120"/>
            <a:ext cx="75470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ONLY #1 SONG BY THE KNAC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OTHER  ONE  BITES  THE  DU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20520" y="762120"/>
            <a:ext cx="91234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U.K., THE BEST-SELLING SONG BY QUEEN IS "BOHEMIAN RHAPSODY".  WHAT WAS THEIR BEST-SELLING SONG IN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957240" y="4419720"/>
            <a:ext cx="72295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EIRD  AL  YANKOVIC  PARODIED  TH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457200" y="762120"/>
            <a:ext cx="8229600" cy="31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SONG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960480" y="761760"/>
            <a:ext cx="7221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BY THE KINKS SOLD MORE COPIES THAN ANY OTHER SONG ABOUT CROSS-DRESS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407880" y="762120"/>
            <a:ext cx="83264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'S TITLE IS ALSO THE TITLE OF THE FILM ABOUT THE LIFE OF RITCHIE VALE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80600" y="762120"/>
            <a:ext cx="8180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, THE TITLE TRACK ON HER SECOND ALBUM, WAS MADONNA'S FIRST #1 SO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ONLY #1 SONG OF DIRE STRAI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19120" y="761760"/>
            <a:ext cx="81057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ONLY #1 SONG OF THE GREG KIHN BA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773280" y="761760"/>
            <a:ext cx="75974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ROBIN THICKE'S BEST-SELLING SONG, WHICH WAS CRITICIZED FOR BEING MISOGYNISTIC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852480" y="762120"/>
            <a:ext cx="7437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ONLY #1 SONG BY THE KNAC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2-08-23T16:05:44Z</dcterms:modified>
  <cp:revision>504</cp:revision>
  <dc:subject/>
  <dc:title>Slide 1</dc:title>
</cp:coreProperties>
</file>