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F17E-C034-4A33-A9A2-200E939CA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A3FF-8327-4AAA-AA1C-44DB6248C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5A5F-CD54-4CE3-BF50-CBE26B137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A49A-DBC2-4082-A6DD-AA1C2D31D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15AE-75B8-49AE-B1B0-093ACC84F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4842-4CC4-470F-A054-E57E98A37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0799-1061-40F5-9EFE-2E263C0F4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ECC2-0314-4741-A005-C45BB746E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3E2C-B1CA-43EE-88CE-A8468DA5E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EF32-3C2E-4D4D-B719-0FF76BA70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CEA5-0F81-431A-81ED-73D9E1F90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F7D8-804C-49F9-A7A2-7ADC6427B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890D-90A0-4F00-A8D9-3AB3BB92E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7163-F77C-4F0A-A4F9-B6E09B6C3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CA0D-9491-4492-BFDC-602774C4B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6551-756F-447B-9836-BBD527D2B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56D9-A1FD-4A5C-859D-F2B0E7BC1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00B4-EEFD-44A4-B01C-FC9769FA0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12FA-4F83-40FF-AD2B-81CE99346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449C-C27B-4908-90A1-BBCDDDEE9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B8E3-38C2-4101-A592-FC70183C7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B0EC-10A9-48DA-B64E-D3CA94EB4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654F-02E4-40B5-892F-57C5A3968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85760" y="1066680"/>
            <a:ext cx="6972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UBLE 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20640" y="761760"/>
            <a:ext cx="7902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REPETITIVELY NAMED "DUMB AND DUMBER", "LIAR LIAR", AND "ME, MYSELF &amp; IRE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219320" y="762120"/>
            <a:ext cx="6705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W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HINGS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IEL  CRA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33440" y="762120"/>
            <a:ext cx="8275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OST RECENT ACTOR TO PLAY JAMES BO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361800" y="4876920"/>
            <a:ext cx="8420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  CHAP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04840" y="762120"/>
            <a:ext cx="873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LENT FILM STAR PORTRAYED "THE TRAM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RT  COB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42960" y="762120"/>
            <a:ext cx="7858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NIRVANA BEFORE HIS DEATH IN 199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CAME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47720" y="774720"/>
            <a:ext cx="764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ALIENS", "THE TERMINATOR", "TITANIC", AND "AVAT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CRA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71560" y="762120"/>
            <a:ext cx="7400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HOSTED THE TV PROGRAM "MAD MONEY" FOR 17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EW  CA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49200" y="762120"/>
            <a:ext cx="8445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HOSTED "THE PRICE IS RIGHT" SINCE 2007 WHEN BOB BARKER RETI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LLY  CLAR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31880" y="762120"/>
            <a:ext cx="767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FIRST SEASON OF "AMERICAN IDOL" AND HAS SINCE SOLD OVER 25 MILLION ALBU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8520" y="762120"/>
            <a:ext cx="834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OST RECENT ACTOR TO PLAY JAMES BO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998720" y="4876920"/>
            <a:ext cx="514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CHAP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01640" y="762120"/>
            <a:ext cx="7737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REAL NAME OF JOHNNY APPLESE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CAR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85720" y="762120"/>
            <a:ext cx="7970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REPETITIVELY NAMED "DUMB AND DUMBER", "LIAR LIAR", AND "ME, MYSELF &amp; IRE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68320" y="4343400"/>
            <a:ext cx="7407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NAMES  BEGIN  WITH  "C"  &amp;  WERE  ONCE  HOMELES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295280" y="762120"/>
            <a:ext cx="6553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W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HINGS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99880" y="761760"/>
            <a:ext cx="8544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LENT FILM STAR PORTRAYED "THE TRAM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23880" y="762120"/>
            <a:ext cx="789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NIRVANA BEFORE HIS DEATH IN 199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85880" y="762120"/>
            <a:ext cx="757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ALIENS", "THE TERMINATOR", "TITANIC", AND "AVATA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14320" y="762120"/>
            <a:ext cx="7515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HOSTED THE TV PROGRAM "MAD MONEY" FOR 17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4840" y="761760"/>
            <a:ext cx="8192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HOSTED "THE PRICE IS RIGHT" SINCE 2007 WHEN BOB BARKER RETIR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2160" y="761760"/>
            <a:ext cx="7699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FIRST SEASON OF "AMERICAN IDOL" AND HAS SINCE SOLD OVER 25 MILLION ALBU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12800" y="762120"/>
            <a:ext cx="7718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REAL NAME OF JOHNNY APPLESE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8-23T16:03:55Z</dcterms:modified>
  <cp:revision>529</cp:revision>
  <dc:subject/>
  <dc:title>Slide 1</dc:title>
</cp:coreProperties>
</file>