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634D-5303-4064-A05E-AD26B36F8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6F45-BC11-4CEA-8401-11D81821E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30B5-7A6A-4FB7-8802-B34771BB6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0CCF-CCA9-4B6D-A914-8CB6C770F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36FD-BB13-4A22-B412-FF7DA6D9D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8E03-2118-4D44-9F32-42C960EC5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56C0-2325-45C9-9379-BFE966C39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9635-0888-4632-968D-1612BF7B3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6926-7F34-4E6D-8AEE-5A7CE0B2F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1F81-86A2-4D19-8771-B88E29203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6F69-C2CD-423C-82E0-51B1CF3AA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3E9F-D2BC-43EC-BFC5-536B54F03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BB2E-9635-41E6-ABD0-39E97FAEA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A85FE-37E1-489A-BA37-B114A4838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C6A1-64DA-4283-BFB2-0469CBED5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D7F6-C869-4E0E-90FA-11DCCB281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36D2-7A2F-4536-8402-D1D88AC63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BEA5-19C0-4F74-B83D-77A8D964C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DA9C-62F3-48FB-A091-D2992CC6D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BCF7-04AA-4438-A835-9A5AC7138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5C6E-6ED5-4858-85A0-230C2A518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13B9-B609-4014-9817-6C23F5965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5397-ECF5-4343-8938-08C2FE6E1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85760" y="1066680"/>
            <a:ext cx="69724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UBLE PEOPLE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20640" y="761760"/>
            <a:ext cx="7902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REPETITIVELY NAMED "DUMB AND DUMBER", "LIAR LIAR", AND "ME, MYSELF &amp; IRE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219320" y="762120"/>
            <a:ext cx="6705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TW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HINGS DO ALL THESE PEOPLE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800280" y="4876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IEL  CRA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33440" y="762120"/>
            <a:ext cx="8275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MOST RECENT ACTOR TO PLAY JAMES BO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361800" y="4876920"/>
            <a:ext cx="8420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IE  CHAP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204840" y="762120"/>
            <a:ext cx="8734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LENT FILM STAR PORTRAYED "THE TRAM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URT  COB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42960" y="762120"/>
            <a:ext cx="7858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NIRVANA BEFORE HIS DEATH IN 199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028880" y="4889520"/>
            <a:ext cx="70866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CAME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47720" y="774720"/>
            <a:ext cx="764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"ALIENS", "THE TERMINATOR", "TITANIC", AND "AVATA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685880" y="4876920"/>
            <a:ext cx="577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  CRA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71560" y="762120"/>
            <a:ext cx="7400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HOSTED THE TV PROGRAM "MAD MONEY" FOR 17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4480" y="48769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EW  CA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49200" y="762120"/>
            <a:ext cx="8445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HOSTED "THE PRICE IS RIGHT" SINCE 2007 WHEN BOB BARKER RETIR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210960" y="4876920"/>
            <a:ext cx="872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LLY  CLAR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31880" y="762120"/>
            <a:ext cx="7678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FIRST SEASON OF "AMERICAN IDOL" AND HAS SINCE SOLD OVER 25 MILLION ALBU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8520" y="762120"/>
            <a:ext cx="834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MOST RECENT ACTOR TO PLAY JAMES BO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998720" y="4876920"/>
            <a:ext cx="514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CHAP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01640" y="762120"/>
            <a:ext cx="7737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REAL NAME OF JOHNNY APPLESE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  CAR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85720" y="762120"/>
            <a:ext cx="7970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REPETITIVELY NAMED "DUMB AND DUMBER", "LIAR LIAR", AND "ME, MYSELF &amp; IRE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868320" y="4343400"/>
            <a:ext cx="7407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ST  NAMES  BEGIN  WITH  "C"  &amp;  WERE  ONCE  HOMELES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295280" y="762120"/>
            <a:ext cx="65534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TW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HINGS DO ALL THESE PEOPLE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99880" y="761760"/>
            <a:ext cx="8544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LENT FILM STAR PORTRAYED "THE TRAMP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23880" y="762120"/>
            <a:ext cx="789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NIRVANA BEFORE HIS DEATH IN 199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85880" y="762120"/>
            <a:ext cx="7570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"ALIENS", "THE TERMINATOR", "TITANIC", AND "AVATA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14320" y="762120"/>
            <a:ext cx="75153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HOSTED THE TV PROGRAM "MAD MONEY" FOR 17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4840" y="761760"/>
            <a:ext cx="8192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HOSTED "THE PRICE IS RIGHT" SINCE 2007 WHEN BOB BARKER RETIR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22160" y="761760"/>
            <a:ext cx="7699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FIRST SEASON OF "AMERICAN IDOL" AND HAS SINCE SOLD OVER 25 MILLION ALBU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12800" y="762120"/>
            <a:ext cx="7718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REAL NAME OF JOHNNY APPLESE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08-23T16:03:55Z</dcterms:modified>
  <cp:revision>529</cp:revision>
  <dc:subject/>
  <dc:title>Slide 1</dc:title>
</cp:coreProperties>
</file>